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12A75-E3FE-436C-ACAD-2AD9B93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820E-2863-4ADC-9BE5-2D1034E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7C2A-9886-4E1C-8F04-47197A7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E682-7F2D-4186-858A-88F3BD4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08D7A-622A-45E0-8C41-D0AC596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8A40F-34A4-4FAD-BFC9-326EBB7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854DF-3AC6-4335-BD6E-2DE74522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56AEC-0EF2-4DD1-B60D-A65895D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A946B-2F44-49DE-8128-F42818E8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B8BE6-9284-4357-ACB9-685997EB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0766-8EA6-4E5A-9EDD-5EDA7CF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C54A-B438-46CA-A90E-203AAFE5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7666E-33EA-48D6-90C0-23E1133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399F3-E176-4652-B6AB-8C90853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7983-15A9-4909-AE82-16837654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D408B-3BBA-4E5B-A5DE-ACEF64A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4E20-E0FF-4426-9425-FCC16FE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2020C-D38E-4E02-A105-8777690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524CB-3DD0-4AC8-BFB0-FD8BCD82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FAA92-60AC-4D9E-86A0-447B0962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A0CDA-1F12-496A-A752-A34355F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C6211-6272-485C-992A-925CE0D9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29DE-FD3C-45F5-998B-2F3557E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89FD-B80D-44E9-975F-B7876978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05063-09DE-464A-9BB7-27FC9ED0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403CD-4F08-48A8-9224-FF611F66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BF98A-D311-4E9F-80AD-9D657467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A5FF-9ED8-4E3F-BB23-BBD6196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22EA-6869-41FA-A003-A79FB67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AC52C-7C80-4378-A180-E84189F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2F9-25AD-46A4-AB32-CF9FC645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B0FC9-0DCC-4B0A-9F71-492C537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3C55C-9A5E-48E7-A9FF-A24202CF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F5411-C5AE-4D0E-A5B8-0050FEC5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3E38B-35ED-42DC-BB13-3042DE39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41C41-8BBD-47BA-B64A-2C7CAB2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175F-B799-4203-9E5A-F7538D1F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804CB-FAF5-4DC3-9D3C-F5CB2471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90A8-0A65-4DF3-B84D-4E95778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CDDAD-EB54-4301-8DBD-E5DBA90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9C5F-2D66-482A-AAC3-5F8E90F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38F-D303-4091-AE09-DDAC871A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3B438-C9BA-42D8-877C-34565D3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B638A-0F11-43B9-A5F5-FDA79E5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6C74-A7AB-421B-8AAA-149B2D04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3D1CF-5375-4CC4-B8AF-F746D3FF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D32D3-106E-41B8-A607-A800E876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12E-14CE-4B85-8B60-A2776A41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B99-759E-4E9E-808C-D55BC52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487-128F-40FF-8D80-296F330C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261-BCD1-4227-AC77-1CC61DE4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C85-D350-4257-B81F-1670B55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4C1-4D71-4219-9677-CB8FD07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D8B-ED7E-4998-A707-78145D8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81A-8D3F-4300-937A-D71210B2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EF9-8F93-414E-B713-3642E4CE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C3C-6724-4728-9F43-78A34B39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260-4928-44C5-82FF-BCC28CE1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83F-92C5-4AB7-B736-AE372508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66B-A3DB-402D-A53D-C1550F82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09A7-03A9-4FFD-80BD-125EF66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098D-9168-47FF-98B0-3FE9928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0E23-F078-4900-9090-B11C9F1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DFF7-6A42-4279-9324-61154D1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87E-8EF1-4285-BC41-DB26A20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F646-CAEC-416C-B373-93C27698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32DE-6A2F-4234-A63B-C0B9194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649-B9D4-48AA-A62F-2E307E3A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3DC3-5351-4C1F-83FE-4174E3A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679E-4C4C-49B8-90DF-A96145FC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49BC-6C9E-45B1-9871-909FD92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9C6D-2C6E-4400-B004-A56CFEF5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8DB8-DEB8-4C83-ABC5-1ACE8E2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4067-00BE-4843-A187-16C5A048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D3D9-C270-4EAA-B755-BFE90B7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3160-9043-423D-A13F-8F97C61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242A-E70D-48D6-A7F4-BD7D5D5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07E4-478E-41FF-A23C-031E5EF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9486-D0D0-4DA8-9AF6-B479F02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8D65-CD66-45B9-876D-5675439E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8F18-6A64-4A0B-B2A8-6A2B574D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0584-C2B2-471C-9343-33A3A829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4D02-0456-4539-9424-C3868360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2F24-2F2C-47A2-82F7-F31672B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0E24-49BB-4B3D-86CF-49238AE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0F0D-BD18-4597-9608-9C5B9974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E44A-D71C-425A-A3CA-B825A86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47A7-D99E-4592-9D58-5CEEB20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BAA9-7804-4805-956C-D24B16E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A6A0-AF8B-4B8B-8BD5-89AF30A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4A12-7734-4039-9815-95CB912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2258-5902-43A0-A5A2-95CF2A0E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268D-416D-4E01-A934-83BDF293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7282C-5223-4C5C-845F-B80902E2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8A16-D4FB-47EE-81E7-9C1316F7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2FD2-1D1B-460D-A953-754E3133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D870-43BD-4E2E-B5C2-C31CF8A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00A9A-5081-4D89-8E24-45974FAD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2849-BAAF-4694-AE9E-879645C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6AB9-7F73-41D3-95BE-E6BDE5F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FD43-D855-4077-B4E9-4D8CAF22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961B-C00F-4CAF-BE47-904FA34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E62D-60F9-469C-BF42-F5AF0159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5B1F-7F73-4DE8-BCDD-39B2FCC7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5FA3-DAE5-4871-BBA9-40504862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F26F6-45D7-43A0-A5DB-8C0AD17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E3309-916D-463A-BA23-E8D0FA99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5AD2-B367-438F-9A83-8EFB880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DD72-3681-4152-930D-1F5FAFF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DA7A-2B8C-4D12-8318-E5EC1FEA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DE2B-049F-4908-9BCE-8BD5B0C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D2DF-375E-40F7-BBF3-0377D9B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1F846-0700-42F3-B436-37CFE56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56D6-8A6B-4A20-A37E-A4E7EF5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C029-14A7-4BDA-B474-33389EE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F246-CE18-4EBA-9B6E-D40A1360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DDE6-5D51-4656-8BD6-F7CC5A7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F777-33AD-4468-BDC1-C466EEA2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146B-881D-4A73-A113-BC1BAF1A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7AA5-AE11-40B2-B7A1-12ABA743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F4FA-2893-4524-89CF-A7216F8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5E98-6147-45FB-8547-30B66796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56E74-1A01-425C-89BF-CEF055E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47FC-52D0-4CE5-B729-D86D877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55ACF-E189-460B-B43D-F36949A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2EAD-E3E4-4738-8576-67DAFDD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61CD-2962-4747-ABD0-74217AE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3AB6-EBA8-4B72-8B71-AA11763C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E998-A4DE-4ECE-A9C9-2406CF4F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D44F-9D20-4155-8847-DF416CE9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C1F7-B280-4733-BD01-37B025B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0C0D-4E04-4705-BED0-1156866B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551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9E3DD-B5AF-4739-8B47-8BC0B0EB40D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12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03914-A5FC-40C2-8CE9-F73E8D56095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73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548B0-C327-4C0B-95F3-E415A1B983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61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76A55-D016-4331-BFC7-9BF189F0ECC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124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96DA4-72AF-4257-9005-BA098779CD3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185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7839B-D287-4B9C-A3D8-725AC6AD05B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246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89D1D-39F5-4DDC-933A-983FD4CEBDD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07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D43A2-C83E-4883-BF94-87F5FF65E74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368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AA230-384B-44BE-9C34-6460D18F241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429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E5AAE-5EA1-4C8F-AFB2-2938A3A359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7535880" y="350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3011400" y="1892160"/>
            <a:ext cx="4470120" cy="3382920"/>
            <a:chOff x="3011400" y="1892160"/>
            <a:chExt cx="4470120" cy="3382920"/>
          </a:xfrm>
        </p:grpSpPr>
        <p:sp>
          <p:nvSpPr>
            <p:cNvPr id="490" name="Line 22"/>
            <p:cNvSpPr/>
            <p:nvPr/>
          </p:nvSpPr>
          <p:spPr>
            <a:xfrm>
              <a:off x="3011400" y="2145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3011400" y="225396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3011400" y="359388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3011400" y="4914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3011400" y="5022720"/>
              <a:ext cx="4470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3241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334944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524340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7129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7237080" y="1892160"/>
              <a:ext cx="0" cy="338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3241440" y="2145960"/>
              <a:ext cx="3995640" cy="2876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3459240" y="236052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352680" y="2254320"/>
            <a:ext cx="3780000" cy="2665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033640" y="373680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001960" y="25970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332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557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446960" y="2503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8" descr=""/>
          <p:cNvPicPr/>
          <p:nvPr/>
        </p:nvPicPr>
        <p:blipFill>
          <a:blip r:embed="rId3"/>
          <a:stretch/>
        </p:blipFill>
        <p:spPr>
          <a:xfrm>
            <a:off x="4545000" y="741240"/>
            <a:ext cx="1419120" cy="2811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77F0D-91CB-4619-8E16-0A0681CB9A3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28:37Z</dcterms:modified>
  <cp:revision>1</cp:revision>
  <dc:subject/>
  <dc:title>PowerPoint プレゼンテーション</dc:title>
</cp:coreProperties>
</file>