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AA89-86EE-4B02-8618-BACA5B4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A9322-0847-4669-8D50-EEC590B4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B54E8-9802-4A32-A683-A067BF10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DF880-C84C-40B7-BF39-2A3C9DA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0D6C-8F74-4D35-BCFD-6C95D02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18374-DB43-4C2F-B29D-A0C4FAF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86F23-F1F4-4674-9F07-F55F8B01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7056-8A29-491A-A989-05D77D4F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E944-C9A5-4E75-A46C-2121DD26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08947-E47D-41E2-9741-491CF1C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20203-A70A-4AFA-BFC1-AA5472B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B8388-7243-4826-84C0-EC482A0D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AE1D0-D8BD-42A2-AF88-AB44D866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48C6A-2A34-4838-BF92-39D1A65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9B5FC-24B5-4E9D-A5AD-1DAA899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2B0F-F26F-49A9-9CB8-71796FA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F06BC-C6EB-4BCF-A2F4-7006B65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C0283-3BE0-4DDD-BFDA-F3165E8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1489D-CABD-4920-B554-8C4FC239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9B07C-B424-43B8-9C50-4334220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E75D4-3602-4F02-8328-10E8227E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1786D-D97B-41E7-AE95-9EF39E64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BA701-C483-4BAA-A4A1-9DF68CF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FACBA-6FD7-4D40-AE24-730E7CD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7B53F-9270-4E5C-B2FF-AAE6254C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223EA-799B-4802-9FF7-315D236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3D794-4F8D-4085-A3A9-7462186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5DB72-3203-4DC5-BACE-46700DF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233E7-81BE-4B0D-9ACC-3001C9D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7255C-1336-44A1-97DC-4D7A8DE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514-5240-46B7-B83B-C1BD479A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17ED7-73D4-4434-A758-BC79C84A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7096A-1D85-4CA0-B525-17B50471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92188-D898-44FE-A8E7-7F73E1C0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91BB9-614F-4FD8-A6D0-E1E2CB18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90A6-9CD5-4008-B005-E3A45170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0718-11DE-4B94-A473-2D237F7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0DC5-270A-4DEB-A0C6-8F05AC7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8A0E3-4930-47E3-9E77-AAA5B20E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B7DD8-12C3-4808-A96C-613A4C79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F1BF8-D494-4AF9-9835-B0E6CF2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33B-017D-4FD9-9665-36B199FE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34112-4980-40AC-B11F-0D0765A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80BBA-25F4-47A5-B04E-34A7D99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1594-2D1C-4225-8A2E-C285ED1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82E3-B9E6-4153-8205-DEF835C3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2C442-3425-4657-A6D9-A5497B4F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B9D-3125-4BF7-BBD8-1F995053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249-90A4-4461-85DB-D47B4867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E62-6795-40CB-AB8F-BFD8A884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B8C-8480-4261-A178-2AEE8E13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278-9F0E-4745-AD3E-3DB95FD8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FB7-3D2F-44CD-84E3-E9EA501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3F7-0E0F-4665-8D5F-8907703F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284-982E-4D9A-806B-32793A5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E8F-9F3A-4A7C-ACD8-33EDF586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A4D-FB17-4B78-9D64-AA33DEEE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1614-800B-468A-8164-9677E3C2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FAD4-8845-4DE8-8533-9D9C3A7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EAA-ABFA-4C73-964C-D9D8EA2A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02BA-FF5C-41E1-B6A5-EA7E691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435B-8F59-4768-9D99-12E7BD7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FA2-D0FA-4276-8C04-4B7BA96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BA9F-C319-4A94-B065-527952C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DB4E-9B52-4A94-BA3A-C088C32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E245-3932-4E0C-9594-334811DF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B5D-78FF-44BD-8FCA-EB9E3B57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9E8-9D30-4E1C-AC4E-8BB9C7E1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87ED-DDFA-4E98-A31F-CA51B98B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FC8C-5B92-48D2-A428-11C27FBD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EEF7-18BE-42B2-AB56-30E560B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583E-743B-4FD4-BF52-C0F154A5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FC58-813E-4DC8-B142-96EF5A3C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22060-B174-4B96-AA4D-07E29048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576D-FAC2-4DAF-A504-A8A00223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D9B8-B697-4AD4-9B5F-01D2E42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A0AE-44F9-47B2-94FA-20ABDC3F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3D74-5381-4D18-A4D4-15DE309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8CEA-5C7D-4EDF-841E-0222391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4D31-7B91-4FAA-A8D1-8C785BB0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B64C-45F8-4B9E-8DA1-BB624A60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20A0-55A2-4CAC-91CE-DD01B80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73C9-309D-4907-A02F-5C965FCF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72BC-1856-4DBF-A673-1F8FDF6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9F01-3DB7-4106-B768-A1996C9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159B-EE6B-4B9B-8ED8-91516B9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F1BB-4F2F-4C28-A56C-688040B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EB15-AB3B-4CEC-82EC-947453E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9808-5F10-4108-828E-3D9B50E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B14C-D1E9-40AE-B150-8D24A3B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009F-3999-4478-A0F9-126B9A04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ECBD-89E0-4B69-BB4E-1A5C52E2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23CD-BA36-498C-8FBE-2265298F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819E-5BED-4D6E-9B28-7780C1BB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4C36-D64A-4856-9326-8C6DF8F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B0865-403F-4416-8AB9-86CC393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4903-D9D5-4E21-8151-F3F117E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76AD-7F40-4C00-8379-E3ED48C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C29B6-AF58-44E1-80FE-92E8C25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7757-1C4A-4C5F-93B1-CF72B80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F593-6306-4B42-B436-12CC10A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9B11-925D-42E2-92A6-2E1C8BD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1CC2-5A0E-42B4-8C9C-61778BD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CD70-2889-4F14-8A0F-C0950A8F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9A21-EB7F-4B39-A451-C5978E6F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F7297-866E-4140-9DF7-ECBB3A36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AA374-3093-49BB-A209-B7CD0710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44C9C-2461-4D2B-B830-AFA299EA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443E3-CD1D-4380-8435-ADE70DC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FC3F-A59C-4EA4-B68E-301D54A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33EC-CE89-471B-AC4B-F13DDA8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D290-0229-4326-B2B4-8363508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D9305-075D-4F77-B6A0-F7F7D10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AEF68-5455-4687-BCF2-C647136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2050-5268-48A3-8202-55C03DC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7A4C-0999-48C6-9629-5AAB31B5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36A28-ABE1-443D-B25A-4E835A28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223A-8CBC-4CC9-AFFF-98635361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AF17F-D360-468A-A4E6-59A6705A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8A4F-AB47-478A-A575-7FCF39C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E9BB-07D8-4673-89C3-3CC6F9CB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1D659-5601-4209-A1C6-1DE99672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F165F-4C25-4A91-8997-8C8253C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F003-3EF2-4189-BCBC-B2E066EB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0E2A4-C9E7-44B2-A286-584C32E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144CA-197F-4230-9B5C-ABFE746E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5F3C-2A35-4C46-9B0A-DC5164E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A1891-8072-4EA5-BC8D-06E41DE6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E1D7-231F-428A-94FC-459ED3CB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D7932-3934-4139-A147-5B9004C2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7BA9-6320-4E38-95AD-1148BB4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DAA3-55F5-46D6-B973-CA32E116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3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551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D174C-C6D4-4510-A1EF-E3BEE24FBC2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612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DCA41-706A-44AD-BF50-A92EEBB68AF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673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8DBC0-E2EC-4480-AE60-F57B09EB76C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61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06C9B-6F2D-4AB2-A656-13A8E3E4858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124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B0619-AD99-437E-8D70-3A43936C044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185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E4FE4-4992-413D-B9CE-3E74546EC3F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246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FEA03-AF0A-442E-9DFC-A88365C4C27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307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A2CD6-7712-406C-B05D-CFD38BC37F7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368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BA5B5-9F80-4B05-B447-41D9F56F196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429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3C2AF-C550-42EE-94E4-9CC738AFCC1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490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8896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810A7-96C3-4259-876A-2CC16AEF4E1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29:37Z</dcterms:modified>
  <cp:revision>3</cp:revision>
  <dc:subject/>
  <dc:title>PowerPoint プレゼンテーション</dc:title>
</cp:coreProperties>
</file>