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A29FA-1F8A-4F81-9453-CDBF8E84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E768B-B4BD-420C-B19C-95A01023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192C4-B576-4908-B9CB-3A323C9F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1E541-F22A-4088-A764-03F5C963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0B741-647F-40FF-AC73-6B7E4084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EB6F8-DAD5-4447-9252-BCDC97F9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122A9-42E6-4F6B-B41B-3A3D8C45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38C4A-F49F-4C2D-B7D6-305319F7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C060A-8BB0-4655-9F9C-704951C2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66F96-C7C4-43F5-967B-A3B27681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3331D-4CC6-4803-B47C-B95F083C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B4228-8408-498C-BAB7-470D1CDA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0C203-4D31-4377-8283-85833556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3D09A-73A8-4B96-BB3E-58D63CC8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B4A85-AD54-4153-ACB0-53932AD9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D8454-51F6-4D69-87DD-07339DB2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FDBC8-2EA7-4A64-9191-B71A6FBC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8B56E-671A-43C6-BFB6-77C4A410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249D2-D38E-41D7-B999-94F66ED0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09B81-7B9D-4DDD-836C-2D2A90F2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A7A36-1578-44FE-B1A2-F56C8391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DF4C0-4316-4DB5-811D-76FC5990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3C474-1491-47AB-9ED1-175D59AF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86AC7-C772-43F0-81A1-7FA87E03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00100-5C01-4D24-AB5B-20D5DBE9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B9547-ABC0-46C3-8DCE-6A06D876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23721-9BBF-498F-9340-C83C4777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17179-B340-4EFD-90CE-8BDF39DE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6F734-EAD1-4BC3-A0EE-CB2AF325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71FCB-75F5-42A0-B2AC-BBCCCFC5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633-FE09-4F01-9718-1394B5C0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D69F3-4E2D-4ABC-93D2-5FA6CCD2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22ECB-DD98-4A87-861A-FBE591E1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5FBD1-6E33-4657-8D54-C462A591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2F2E0-D444-46BF-A9C1-A62DE5D9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F5CAD-E207-4942-84DA-D49C14B3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D16F7-81F8-4A6C-97F4-52AFDDEB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913D1-C348-464B-98FD-1E603C34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B8DE6-6E27-42E1-96AB-12FB615D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E3404-79BA-4366-82B1-31858DA4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1D21B-6618-4B65-8166-BD18BAA7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FDBF-BA99-48C5-9A2A-80F471AE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EE68E-46B2-44A4-B362-02C83B54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C448E-46C5-40B6-9CED-D27BAD0B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3F5F7-D61A-41EF-BAA3-285FDBBC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CAE5D-9651-43E3-BB53-C51E8857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2ABD2-6ACB-4FCF-8F44-F51A3EF6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4894-66CD-438D-B62D-8880E35E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5A9-BB59-4965-B3D7-7CC34C68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BA6-D0E3-48E1-BB1C-4D2A0D05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551-8912-410C-97CE-5954DCC3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8BD-8785-4F6C-BEF3-0B41C2ED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7F8-690F-449A-83BC-CACA1778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8A4-63E3-4E0F-9026-8ABAB7CB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2C9-1822-459E-96FA-A3D89955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385-B99C-4954-9437-797C7E32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67E-236B-4C5F-BB9C-50D6A6A5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50F9-A777-4EF8-9037-1CED20A2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1757-7AE6-4EA7-8D24-A16A5C6E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0871-A0D7-4D01-BCEC-47B8A981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A227-4770-4F14-884D-76C741D3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0040-1703-4DD8-9066-C4BB3E05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E670-DF92-450F-B18B-ADAA9AC9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CDCE-FE8A-4D0E-8E54-05387EC9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5D6C-9F6A-47F2-957A-E235B5C1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9B29-1523-4F58-9AD2-770FA857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91B5-EDFD-4186-B3E9-06E61190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9D45-93A1-49D8-AA9F-C297CB4B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1639-FFE0-47C2-A5E8-96056FB2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CC1FC-F2D7-4BFC-BE83-B4914159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A7D8-7BA6-4F91-B8DA-5BC72A14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31E20-9025-4CD8-A199-0E558A0F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26998-0706-4C34-8154-657B036E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61C2C-8DE7-4173-BB09-AD196B06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CB8FB-149D-455F-B3AC-2118AAA4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2834-787A-40E8-B283-05864660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E7E0-FE2B-4713-89ED-931FDCC2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61946-5357-4471-AA0E-94358D8B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5941-6C9E-4392-A657-070DDCEC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CD17C-56E4-43A6-AC91-7E2F1D41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0578A-C2FC-4B9C-A8C2-D7C945DE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7E099-432F-41DB-B87C-F2C944CE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D12CD-D2CF-4AAC-B477-FEB7EBD2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02720-D294-4D35-9EF5-EF4CB840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A170E-7456-4802-9687-DC4403D4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9BF43-6767-40BC-BB68-8DF82535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D8ADB-56ED-403F-B18C-5D35A337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E09C9-26DE-4216-83B8-62D3FC7E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921DE-165F-4A8E-A209-7FEEC87C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496B7-1EC0-407B-B2F3-E82EA8C3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1024F-8AD8-4DC7-A235-DEBA09D1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6A48A-ADFA-4916-8AF5-1E32DD62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C9122-CBDB-4C17-A489-9DC67B3E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8C1A5-9F25-4BDC-8EB3-8E34CDE2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AA9AE-B502-462B-ADA3-DE65933F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1A11D-6A3E-4641-AF43-423F96B5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CAE1F-76B4-4655-8655-997C430F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19A47-3DF8-4CCF-8851-A9CEC8D0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5E69E-1063-446D-8223-3793DA2C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712F9-CA51-4487-BD10-80F7DD89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E4D44-C06E-4536-9FEB-FBECE4D8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ABA2C-FB54-46EA-9536-28BDD5E1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C4430-40E2-4F76-A4F3-B14589D7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8E9B5-B917-4C68-9AAA-B1DF6406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049F9-E63C-42C5-81D6-3A2601CC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5D33B-578E-42DC-A98B-80043325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445C3-20EE-41F2-A58F-CE7C63B2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013C1-E5A0-43C9-A246-DB4FDC8C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D5D99-3C9F-4561-9597-BEB996AE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B1C69-D919-494E-AD77-4B7532C4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E1B05-12A9-4EC0-98CF-DE7AB7AF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2388A-ADC3-45E9-BC12-113378D1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7552C-3472-441C-B5BB-8EF035E4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743D4-42B8-4A89-BD8B-57C8F34F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8170D-4CCF-4156-BF52-86381CBB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128D6-347F-415B-8079-362EC923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8349C-86A1-4D38-8E66-85C9A544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C7C47-CA97-44ED-93A0-EDE735A6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B69E1-00FA-4BF9-8861-0116DBDD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25116-C713-4638-9109-E968CE61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26A3B-6EED-41BD-BAFB-06AD29ED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B022C-CD4F-421C-A643-8B0E345A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10BEA-209B-4031-9833-E544A9B1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97C2B-AC18-4BA0-9A5B-AF264B8E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6A30A-59CF-4827-9EDE-BAF12FDC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52CCA-E65D-47B2-8D1F-753DA88F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6FB0F-C20D-4245-AEA9-5A395DCC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F23E6-B471-4A0C-8336-8F14386F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2D0C3-5B89-4089-8678-F488EF01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2F7CB-3513-459C-AD9E-17D8AAA5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2683B-38D8-418E-99DC-1C1E3B74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51A49-D3F1-43E5-810A-8D0DBB1E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3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735120"/>
            <a:ext cx="1412640" cy="2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551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735120"/>
            <a:ext cx="1412640" cy="2793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64D2F-0CC2-47CD-9777-C238168BC2B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612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735120"/>
            <a:ext cx="1412640" cy="27936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3171E-394F-48F5-A96D-7992F0700CF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673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735120"/>
            <a:ext cx="1412640" cy="27936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EBAF9-5F9F-4B54-8821-D703836EF12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61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735120"/>
            <a:ext cx="1412640" cy="279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89D50-3F32-4530-89E1-23E3D381922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124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735120"/>
            <a:ext cx="1412640" cy="2793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AFB64-9575-4C81-B870-C867C5913D0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185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735120"/>
            <a:ext cx="1412640" cy="2793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A15C3-FBBB-4F63-92D3-63977CA1A4D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246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735120"/>
            <a:ext cx="1412640" cy="2793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906AF-D3FA-47DA-BA49-92D2A0D05D3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307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735120"/>
            <a:ext cx="1412640" cy="2793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64B08-F2FE-4BBA-A41B-1FD45ED75FD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368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735120"/>
            <a:ext cx="1412640" cy="2793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97ECA-23DE-4F6C-895B-A9D74A0431F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429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735120"/>
            <a:ext cx="1412640" cy="279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C60F8-4BC4-48AF-8811-13089F13A7C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490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735120"/>
            <a:ext cx="1412640" cy="279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FBA4A-73D2-47F9-91C0-88E8090AADF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7T09:09:50Z</dcterms:created>
  <dc:creator>柴田宏</dc:creator>
  <dc:description/>
  <dc:language>en-US</dc:language>
  <cp:lastModifiedBy>宏 柴田</cp:lastModifiedBy>
  <dcterms:modified xsi:type="dcterms:W3CDTF">2021-02-05T06:28:57Z</dcterms:modified>
  <cp:revision>2</cp:revision>
  <dc:subject/>
  <dc:title>PowerPoint プレゼンテーション</dc:title>
</cp:coreProperties>
</file>