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9551A-5D4B-4AB4-ABC9-5E3782D9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7B957-8F27-49E8-8883-71AC4697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CDE3A-AD17-477E-B868-DB77DCFE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D719F-0384-4E8F-8EE5-06A6BD57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3D3CC-F854-48DF-9819-2848D36B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C08F1-46B7-47E8-988F-E4FAFCF1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FD2FF-B97D-485F-A278-F0F91F63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F9C5F-4EB2-408D-9FFC-23AE163C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05B4D-46F1-459A-B09A-CD322ABD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82AC9-69CA-4747-BA56-F56FFE45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831E1-DA8C-4B28-849B-017116A4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F2D4C-EF28-41EA-BDF5-1F1D9505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3B136-E2C7-4305-9BAC-80CE0D0A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D91D0-944A-421E-BFA6-A57A9ADA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32CEE-6B8C-4860-8408-9D07F0D2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37740-DE00-42AD-A6A5-281DD54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891E5-CA22-4C18-A6F6-32C2462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BEE21-2A64-40F3-AC3E-7CA63CEF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1957C-8695-4876-8F91-12E8E158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54E5F-6E43-45D4-90A6-DAEE1057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EBE3B-AB50-4BC9-A3E4-52C136D3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65B10-55F8-4968-AB65-2E3C7B80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D2CD8-3E1D-4451-89A6-69F64033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5B542-0706-4D07-9DE4-C207258B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62C40-CD38-4CA1-90F1-E7914BD4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9A614-7781-43A9-9FCC-14A3C227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B8E04-477B-4644-90CB-35547263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2E5C8-9A8B-47DF-BF22-2D5EBE2A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6A958-5555-4F59-99CF-CF2424D7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39A83-9206-43B6-9DB7-C986D981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19C-54F9-478D-883C-84CA68AC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0A08B-E6A4-4A8D-8296-1A468D8C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90E26-7A75-42A2-BA4A-FB5FF429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50225-FA5E-45E9-9C8F-7540914E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E366F-EEB8-41EB-B1FE-7B417C0C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AD61A-C259-49B2-A991-4EC555DC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6C926-5E1B-4604-9CDC-100B2F45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836C9-61C7-4BB0-8CB7-A581DD14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8FAF8-B4F3-4E45-BEAF-D8E7AAB9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56398-E3CB-436E-9F5D-6FDB96C2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E30A5-20A7-4805-9B7F-404BE7A3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8FE-C102-4289-8ED8-1BABF11E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57E30-6C64-450C-A615-5884A458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19837-D02B-4CE0-8214-6AEBFDA0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3750F-057A-4C64-A805-BBA6D3C7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11BD5-CA3B-4B3D-ACDE-44B40771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66C39-1941-493F-B385-39190C72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6BB-BC2A-42CE-8986-9E5128CA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498-6DFF-4D25-B993-98E5D162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944-FBD2-47AE-AB71-9B548845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FF8-A277-4711-B98E-8C15FB2C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C44-7EED-41CE-87B5-4A05CBB5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221-8279-434B-BB09-31C44E6B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800-1E2F-4223-A8D7-BE99E9B2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56B-70D3-4F7F-AA35-E7D80449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5F0-2BC7-4FDA-A8EC-0CDEF35B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714-65D6-495E-A1A1-A00DD5C3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C883-5F0C-4F49-9180-A4603212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9ABD-CDBE-4AD1-8CC3-0472308D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C448-76A8-4B83-A019-293AC898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A440-5ED2-4370-B19A-D7E1E3A5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B42C-177A-4AF5-9C20-A515BAF7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E634-77D7-4651-A62D-12AC4E50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5392-37AB-4CF2-929A-8ACF93A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8517-B116-4CF3-A2D7-C28234C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0C00-562F-4854-895A-40580A7E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0206-1B65-44D9-9467-741733F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FDC7-EB47-46E6-AD32-DAEDE14B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B85B-5B85-45A9-8094-042C10F1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16DF-C563-423B-991B-1E7FAD79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71A18-2D18-4083-81A5-AD15DA90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DB2D-9805-42B4-B62F-E2FFEF65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543F-A11C-4A69-B2AC-94BE46E3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CDA5-5208-46BA-8D0D-072E0A3B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D282-A6CE-4F1F-ABE7-B73B91E0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98F5C-8432-492A-B79F-21CEBEC4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3F26-88D7-45AC-9DEA-46EF4C86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72CC0-BC91-4E14-8338-9B70CDEB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45F5-FE6A-4E28-B594-51A91345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85A7-4DAA-4173-83FB-539203EA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A24F-FD23-4000-95DC-8D7E6C9E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61DE-F7C1-473A-8FFD-3DA21CC6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44E7-36A6-441F-871F-717312C8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7CAB1-70CD-4102-A33C-22FAAE4F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2CB1-8D6C-49C5-A88E-BD64676D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13559-774E-4F22-AC8E-6517E1D5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04574-35DA-46C7-9A72-BB993266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20D51-19F4-4FC4-B1F4-59F6CC2E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5A76-08E5-49C4-A932-7D3CE66C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3B916-AD15-4F2E-AA0D-E4185A66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D491-78E7-4AF0-B15F-4BCC8C69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01C38-0224-42BB-9975-5A719268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0ECD-C553-4101-84EE-DE566626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F0F7F-B632-443E-813A-F54C4061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8DBA3-355D-4576-A3D0-1F5A18F7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B81C4-F624-49D2-B1CA-89DE7C9E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18E6F-8E9B-43E5-B0F6-4F9775B4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47329-3823-4EF8-958D-E15D1BF2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9430D-8E89-4152-A2F2-F7F250FD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259E-A396-437A-A84E-519142AE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B1659-0FBB-4441-8F1A-51534E21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22010-B567-4EC5-B723-6CF3F7A1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D8CA8-8308-4B84-9C5F-58912B36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8B097-4854-4F9B-834E-3D35DF61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9BA32-606E-455D-A46D-BC390187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F745A-2C84-47D3-952C-4F2FACEF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F8AC0-1540-4A9B-A52F-83F7C452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19132-8B4A-46A9-8D18-B527F23E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ECA1D-84D7-4B57-BAE2-8A9F5ACF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B2098-90AA-4438-9877-56302DE9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C1B4-2B67-4576-AEBE-EA7BF711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C83EB-A8A3-4036-8CEA-713AEA3A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D1206-FB64-4FA2-9737-FE335108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D3D9-832E-4613-8FE5-C05026E0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A650D-936C-40D6-9397-1C75305F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39047-D63D-4E15-8F50-3CE8C7DD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100BA-4942-4C6F-80C3-648FB33C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E525E-1928-4CE7-814B-8B978959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89890-B33B-464C-8469-6A2E2F24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A12C4-E6B3-41CB-9F05-FA7989B7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AD052-5FF4-4BD5-B884-880EB892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0F37A-66DB-4754-B16D-3260468E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93805-2304-4C22-8FD1-E30B6472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4E848-4E78-4337-8DA9-ED104C05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C06E3-5D22-4D0A-B27A-453E50A5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720B1-4342-41E1-A048-D368CAE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67BC3-DBE5-4548-8D02-B301AA86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98AEE-A456-4A76-978C-7DCF447C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C2999-B2F3-43CE-8F54-320B51D7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CEFF2-AFB6-48E4-9CB3-883F271D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0AD9D-67AF-4956-BA88-A0CC85F6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96E5A-A866-475E-A476-7EFF50BF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3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551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C55C1-FAEB-461D-9D12-D31AC6535B1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612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B55C6-2B7C-4B9F-A207-A163F3132D1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673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6209A-0951-4BB4-8664-999742F7827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61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86100-5781-4FB7-B623-A23E1E61785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124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F92F0-04F9-48BE-B174-6AD68A2DC3C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185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B774D-54EF-4D8A-950B-A1D6141A0E1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246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84817-D994-4854-9EAB-8318A0839AD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307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F99E3-E8B8-4A51-91D8-3DC4F11A109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368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3B348-48E1-4B85-992D-C2CCE52E5A1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429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182FA-A023-47FF-BDA2-69DCDA7EDCB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6886440" y="3584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3554640" y="1349280"/>
            <a:ext cx="3384360" cy="4470120"/>
            <a:chOff x="3554640" y="1349280"/>
            <a:chExt cx="3384360" cy="4470120"/>
          </a:xfrm>
        </p:grpSpPr>
        <p:sp>
          <p:nvSpPr>
            <p:cNvPr id="490" name="Line 22"/>
            <p:cNvSpPr/>
            <p:nvPr/>
          </p:nvSpPr>
          <p:spPr>
            <a:xfrm>
              <a:off x="6685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65772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523656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3915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3807000" y="1349280"/>
              <a:ext cx="0" cy="447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 flipH="1">
              <a:off x="3554640" y="1579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 flipH="1">
              <a:off x="3554640" y="168732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 flipH="1">
              <a:off x="3554640" y="358128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 flipH="1">
              <a:off x="3554640" y="5466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 flipH="1">
              <a:off x="3554640" y="5574960"/>
              <a:ext cx="338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 rot="5400000">
              <a:off x="3248280" y="2137680"/>
              <a:ext cx="3995640" cy="2878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 rot="5400000">
            <a:off x="3459240" y="2358720"/>
            <a:ext cx="3564000" cy="244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 rot="5400000">
            <a:off x="3352680" y="225396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2581200" y="373680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2570040" y="2597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19560" y="5872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108400" y="1058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688644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561960"/>
            <a:ext cx="1419120" cy="279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21EE6-6608-4D84-B1FB-80E45ED20DC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29:22Z</dcterms:modified>
  <cp:revision>2</cp:revision>
  <dc:subject/>
  <dc:title>PowerPoint プレゼンテーション</dc:title>
</cp:coreProperties>
</file>