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0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648640" cy="119538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19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17" name="Rectangle 72"/>
            <p:cNvSpPr/>
            <p:nvPr/>
          </p:nvSpPr>
          <p:spPr>
            <a:xfrm>
              <a:off x="1798560" y="1798560"/>
              <a:ext cx="7917120" cy="11228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04800"/>
                  <a:tab algn="l" pos="3009960"/>
                  <a:tab algn="l" pos="4514760"/>
                  <a:tab algn="l" pos="6019920"/>
                  <a:tab algn="l" pos="7524720"/>
                  <a:tab algn="l" pos="9029880"/>
                  <a:tab algn="l" pos="1053468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AutoShape 112"/>
          <p:cNvSpPr/>
          <p:nvPr/>
        </p:nvSpPr>
        <p:spPr>
          <a:xfrm>
            <a:off x="98280" y="3571920"/>
            <a:ext cx="1028880" cy="95724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13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45072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29:28Z</dcterms:modified>
  <cp:revision>22</cp:revision>
  <dc:subject/>
  <dc:title>スライド 1</dc:title>
</cp:coreProperties>
</file>