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AB1BF-786C-4D52-9F1F-5A8C82CB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468E-68AA-47CB-9006-D8028418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BCB77-21FC-440A-ADC2-836C97B8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37E78-CEA7-4CF8-9939-E87390D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FC522-B019-4BCD-86D6-C9DCB13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90F06-141E-48A2-8FFD-C07DB07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8BB91-6FFD-4E35-A835-1E715AEB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819DB-0661-424F-BF2B-250C9EED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D501C-D719-4D4C-89BD-50460C0C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50619-6A4A-4ECD-B7D8-6C9BA28D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C81F0-CCAB-4937-8221-AC5F5BDD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9B387-AB80-4293-AD79-B1F2AF2E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6C9A6-EE77-444D-8AA2-E62327E2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6A013-96DD-49E8-996B-50473A5C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786B9-25B8-448E-8BFC-50046CCB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87DFF-2063-4F47-8FEC-08B6B440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23C74-4010-42B7-A34E-5BEF60B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A429F-7328-4708-B786-92F7D2A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C327A-F668-40EC-86D1-94DBF449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9E655-7D5E-434D-A059-3BD1366C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C9D95-E2CE-4082-BFCC-46BA48DB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42173-A7EA-43B3-8A0D-F032DE19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A23BF-F02C-493D-B906-81EFA8C3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5AD75-32DC-412D-A471-8794CDC4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3F651-4092-44F3-89BA-93BE40B8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9B078-6EE7-4772-A63D-5F5A78FA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8FD38-FFBF-4847-B063-9B071363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0E47B-39C8-4462-9C48-D31EFBBB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0061F-62AE-47CB-B3A7-7EC2D664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A0027-3E50-4815-8457-C5A31FE9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C18-D5E0-428E-AD00-2FA02E42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DB439-0A66-4746-A06D-4092C0DD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C4475-EEAC-4E26-A803-BB444600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618F5-295D-4420-BFAF-E8205662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01E11-A034-471C-813A-7786505A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3200E-A1B1-4D4F-8F46-E28D70E9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88BFA-3951-404A-8F61-1EF8B261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798F5-C4D9-4CCE-8CBF-2F9BE690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165E9-DE9E-4135-995C-A6E2AEE9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7BD22-A657-42F0-B3A4-74C946F4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2179E-1418-49E5-8221-161A5BB1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216-72FB-44EF-95F4-35A3C2D9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86E47-CFF8-4B1F-B0B8-6FFE69C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71CF5-94B1-4F1B-AE88-89FAEE1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20288-3137-44CC-B1C6-4707FA2A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8AB22-FBAF-44EB-BB79-F503770C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3B644-B600-4BEA-B715-6AC7D57F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7D6-601E-4950-BE57-80BFFFB5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392-CC28-4BE4-9029-74F2AAB0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67F-DA1B-4D8B-9160-06EC6787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526-D6A0-4216-A72C-F1034CF3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B8E-5198-48C5-9DD0-71D39BBE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AE8-5706-43FC-AD8B-B35C39D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391-F88B-4AE4-B88F-EA32298F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208-9A80-4564-8866-EBEE93B6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159-0E1E-4F17-959A-FD491889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8B2-9DB6-423C-8EA3-BB95C18F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A302-58BB-4984-80E8-6732A380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4F59-F85F-4C60-8F05-BA247CA9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1C8F-AAFF-4C21-B782-B134D943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F09C-B54B-4B76-BD11-E6B4ABA3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52EC-F6A0-48B6-BAB7-3FF854C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0BD8-F62D-45E5-8113-9987678C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A163-7DE0-4895-BA14-786E87C9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450B-AF9B-4F8C-91A4-303B5D9F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DD6A-B218-432C-9F71-C7FEC37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2ADE-546D-4F00-BB72-20004B8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F76C-523E-49CA-8759-198C9FF3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59BB-D479-4069-B850-3F527465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6B9B-7794-44BB-B776-84255901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DFA9-9BE0-42BE-8E7F-C1F8F09F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19DC-C062-44E5-9221-F4062EE5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68C3-574F-4641-9FEA-9E8F70A7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159D-34FA-448C-8DA6-62B78B64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FE8A-4D1A-4533-8E19-C17A7667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B6F3-FB31-4672-B831-C2EC453F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7CFE9-2B24-460F-B14D-CC8A2CD3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A4C4-484E-42F0-9FAB-8F297BC4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4738A-62C2-41B1-A7F2-916CEEF0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1CC6-8F96-482F-9D31-7B963198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782C-9F6F-4851-9BF5-C0628ACB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EC4F-2AA3-480B-B83D-2F9E3748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2C2B-25B6-44CB-8DD2-4FC2F4E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45276-2CF0-4537-BCA4-EE4924FD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07F8F-0830-45F3-9FB5-5B42995A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D17AE-6EBC-4D76-90A4-DF96530A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B5F6-FE39-411F-AC1B-E4805A64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4712-6DE9-4202-BDCE-98535590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EFB8-309C-40D8-B9F9-874BBA0A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37D5-9281-4889-9BC7-1325143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2731-19D9-4BEA-8B04-DBDFD6B7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0307D-FC3D-420E-A324-758D36B1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E143-13B2-44AC-B73B-B9B8BBDE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3CC7-BDBA-4ED7-89F4-D3A5204B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1FF17-2848-476F-ACF8-419838A5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84F78-5D9D-4C4B-BEFB-963D14C8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951D-38F6-4355-9BA9-64A6C040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5614-AE0E-46B7-B900-74E9E41C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DFE1-8AE6-439F-BB7E-98CEE732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18DBC-76B2-4BA0-A021-30584444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3FA86-625E-4BA8-A25C-FC5DD2F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D354-2085-4C92-8C51-52F9ED3A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CA6A2-F5F1-4B80-87F2-B0B89F4E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D889-51F7-4DDB-98C0-0DC72EE7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5863-FD59-4D19-BA36-95A56424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C7B4B-4706-4EA4-8E3F-C122BF44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FD6B4-B6ED-4DC1-B02C-AF8E1711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B4C15-A5E3-448E-9BAA-4C1F290C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8FCA-D942-4633-BDDC-901AC623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B000C-B991-47F5-9527-E384B384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1A8A-8099-4B77-A424-27A727B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141D-A17C-4BA4-A44F-13F8571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4AA41-F9A7-4401-B0E1-291BA4C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FBFBA-919D-42B1-BB15-2582257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AB39E-3EC0-4C6E-B4CB-26A9F28A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FAE9A-26CA-44F3-9EC1-4FDCD584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E0241-BE1D-417D-95BE-466B7C09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8715F-B296-41F0-B5B0-307528B7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E42BC-85E5-4332-A29E-CED4E7D9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41DEA-FD14-48AE-B53D-573F708D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EF28-03BE-4B79-90A8-4CA766EC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A95E-BAD9-4AC1-9522-D8E4FCD5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5E2F3-C1D1-4616-9AE2-4B3D48C1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676A-0B25-4ECD-A7B4-DF45100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B5EC6-50E7-4843-8133-D157BB55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0F587-D3EF-4869-A4B0-B2EFAD9F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575DB-DA68-4278-95FE-31C266DA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EDCC3-FD91-40B2-9367-C80A90A7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4C9C7-160E-48E8-B5AB-A0B0C970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4F779-07DE-4C40-AC11-12430C90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CC1AD-C422-4FC0-A3BB-35ABBE9A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DCDE-3BCD-4C10-AF79-BEA803EB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3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551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12A4C-45D5-41CA-AFD8-72208015A85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612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DF6FC-2494-4E7A-9630-F0A3890A00F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673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92BC4-4BBE-4BF4-A9E5-9D670A5DAE1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61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941D6-4699-4E54-B1D2-25B0EC24A73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124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47714-92BF-436A-BEE5-6195886A407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185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D35F1-1C2D-48A7-B30C-3C6EA7BEF78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246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06CC5-B0DF-4FC5-8585-17854CAA9E3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307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7C976-A61D-4E31-AB88-9E3EBC51E74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368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5464F-7B96-405B-B1A5-1F93D2D0344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429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61860-1FA7-4392-A1F8-0F3F810E418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6006960" y="56563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1476360" y="8902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1532160" y="2081160"/>
            <a:ext cx="4584600" cy="6102360"/>
            <a:chOff x="1532160" y="2081160"/>
            <a:chExt cx="4584600" cy="6102360"/>
          </a:xfrm>
        </p:grpSpPr>
        <p:sp>
          <p:nvSpPr>
            <p:cNvPr id="490" name="Line 22"/>
            <p:cNvSpPr/>
            <p:nvPr/>
          </p:nvSpPr>
          <p:spPr>
            <a:xfrm>
              <a:off x="5821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57117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380844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1933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1825560" y="2081160"/>
              <a:ext cx="0" cy="610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 flipH="1">
              <a:off x="1532160" y="2360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 flipH="1">
              <a:off x="1552680" y="246852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 flipH="1">
              <a:off x="1532160" y="5145120"/>
              <a:ext cx="4584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 flipH="1">
              <a:off x="1532160" y="779940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>
              <a:off x="1532160" y="7904160"/>
              <a:ext cx="456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 rot="5400000">
              <a:off x="1050480" y="313200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 rot="5400000">
            <a:off x="1265760" y="3348720"/>
            <a:ext cx="512136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 rot="5400000">
            <a:off x="1157760" y="3240720"/>
            <a:ext cx="533412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619200" y="538164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592200" y="3578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3713040" y="8318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3701880" y="1695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6022800" y="31971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8" descr=""/>
          <p:cNvPicPr/>
          <p:nvPr/>
        </p:nvPicPr>
        <p:blipFill>
          <a:blip r:embed="rId3"/>
          <a:stretch/>
        </p:blipFill>
        <p:spPr>
          <a:xfrm>
            <a:off x="3139920" y="644400"/>
            <a:ext cx="1417680" cy="2811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974C0-5580-463E-85FE-057B32414EF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1:22:12Z</dcterms:created>
  <dc:creator>柴田宏</dc:creator>
  <dc:description/>
  <dc:language>en-US</dc:language>
  <cp:lastModifiedBy>宏 柴田</cp:lastModifiedBy>
  <dcterms:modified xsi:type="dcterms:W3CDTF">2021-02-05T06:31:13Z</dcterms:modified>
  <cp:revision>2</cp:revision>
  <dc:subject/>
  <dc:title>PowerPoint プレゼンテーション</dc:title>
</cp:coreProperties>
</file>