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5F3C5-8744-402B-A351-CB23D325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8177B-77E2-46ED-B197-F8CB1DC7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4A84A-4FE5-444B-94DB-2773B496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168A9-40DE-4E41-A654-64416553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3F2F1-70F5-45A6-B459-93E706A5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C3948-42D0-4B00-9DE7-869D0E1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B5B12-9612-47BD-B8C4-D3CD9BA7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39E0D-6103-4C98-80AB-145F3B5E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26DAD-3027-4AA1-82F1-426A7054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0815D-8F6D-484D-A3CD-343E73C6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37D09-AD5D-47EB-8CCF-16AF2751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82B3B-8FB3-42BA-B1B5-3816AAB1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AF41F-00B6-4494-A39D-114AE8D5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321E5-3307-42E2-85E8-588AD8E4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5B450-9C4F-4BC2-8C2E-C7F84976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AFEC0-B369-4E13-BC87-44C43CFE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6FD4F-118D-49F2-B921-15487A9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E9647-991E-4645-AA9F-51E809E9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240D8-E4F5-46E0-BA5D-F2465D8B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0A0AD-15D8-403E-A933-F1645CE6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5F32D-1841-4DBD-9630-F669A047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2908D-0F3A-4A37-B490-3493447C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4B20C-8458-4E47-9985-38B7CED5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0AD8A-5971-48FE-BD65-0FB3806B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87F55-C213-4FA4-AEC5-A3C26D97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923DA-68F3-48F6-A97B-3B564EAE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2D76C-50C7-46AB-B1F3-4C6D58D3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7C2A9-DF20-4AE1-8F95-DB503FB9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3360E-C9C8-4D6C-A524-14CB6089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5BE65-2067-44B4-A4D5-96413479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77B-CF02-4B77-9844-FC76640D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7A1F4-5264-40BA-9291-8A81938C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39F4C-4C1C-48E8-8689-E7CE0D2D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CDFF0-18B3-474B-9416-E017A6CB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DC1AD-D39D-48AF-88EE-CFC0BCCC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587AD-AEA0-4E82-9C06-3FB69D8F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77ED4-C525-41A7-B104-54C0D314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7FED0-0E6A-41A9-AE20-A674A14F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849B9-30CC-4A7C-BC7D-CB827BC4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F27AC-C935-4369-B396-2C70D249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B7B61-D195-40BE-AD0C-E7402E19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216-A26A-4AD5-B829-31740E45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DEE16-D897-4933-B1BF-A856BC48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B6226-8782-4B76-8B07-1B992EC9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96326-E392-43C0-AC32-4D4267AF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26430-B88D-412F-83A7-FDC4BE38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5CE55-07D9-4FDB-A1F7-2EC80106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276A-4804-4BA4-8614-2D2E164F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D6F-468B-4DF0-9B6D-9BBB7CE1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EFF-4C04-44A7-8C29-3E49BFD2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170-4C37-4C1F-A80D-029B812A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6D7-05F5-4A97-A560-D045233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A56-06E1-4BE0-9C5A-3CDA07E2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91A-6925-4E29-AB8B-A75C5BBD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C7A-0EF1-4FD9-B059-A8D0A2F3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B89-321A-47F5-BB87-EEA96333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4D0-892F-4848-8B77-7A7BB1F3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545F-A33F-49E7-86EA-AE8C2130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93E0-7F34-4A73-9D07-74D41257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FE42-BEFA-487E-BBBA-A2F3781C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D265-B2A4-41FA-9680-C2BA877A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813C-8598-48A5-A8E8-16B780DC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57C4-E5C1-4A1F-969F-FA566B9F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62DA-A54C-417E-A8D8-0074CD3E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22A6-B50F-4BB5-B4F4-7C172053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810B-B24D-403A-8DF6-B89746F4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9FED-CA08-4924-A51E-2BD4C9AC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CC3E-B18F-497E-91CE-6B482743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1853-A3B9-405E-B9E3-0D400C82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DE09C-909B-4963-8D27-F97EDA7D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2D71-9A12-4DAB-BEC8-F0ACED65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67B70-F0D6-46D0-BC32-8DBCF167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031A-7685-4FE1-97EB-79847B7C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562E-0DD1-4315-91B1-01E7EEC3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6DF9-1635-40DC-8CB4-41849E74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7A6E-9D2F-4EBE-AE9E-7ADA95A6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C8AE8-B33F-44E4-B8BB-BE4C9692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C978-1FCC-4FFB-A34A-49937FD7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8BB6F-BDEA-460D-9CCA-37B6BD44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81F0-98D6-43D0-BF73-5B8496B7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C667-60D9-497F-93E5-A734D27C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29A10-BB44-4097-A330-53FC8CD2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5CFA-AE05-429B-9B4F-1074D482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9E285-D285-42B2-9746-A16EFC73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E73F7-3AFC-47B7-B801-6F0CBE11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4FA06-E1AD-4BB9-9250-30457DA0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5C713-EDCF-4F48-B451-52FF47CD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3FA4-93A7-4277-8AF1-98049D9B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72047-110B-4839-BF38-A06ADBB2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442BA-56C5-4B50-A0AD-00930A26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03240-3346-4F75-8F7F-886230B3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68C6B-E8D8-4693-97C1-D2C4852D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5C277-9393-4B96-9801-C234517F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06E08-AC3A-437C-AD2F-9ADA6E3D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F4102-F08E-4F17-830D-4798185E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053FD-F72F-4E07-B98A-41E6BB70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AB78-1848-441D-A763-28D5FFF8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BC3CE-B0B0-4152-81B4-6ED296B5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13CA2-9ACE-4C23-ABE2-8F9EFF91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5B081-D8E0-4DDF-B6EE-E82A8DC0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3207E-919B-4F21-B55D-8298420E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A4562-B7DE-400E-9009-51FDC064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46B4E-8D45-4BE6-B559-CA61D360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247E6-C2B2-4CEC-A9FA-30410B86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98D57-182C-4608-BB42-E7C49364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C9494-4E65-412E-A501-603ED900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68E6C-4D6A-45C7-800F-DFE920B7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AD673-CD30-41EA-B3CB-0CDDA5F0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85D78-8F39-4AF0-B45E-ACE9E31C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233CC-E6C7-4FEB-ACA4-D5C476CF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33D1D-37E0-4595-B326-2CD5C446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EEC05-7F84-4D8E-B21F-26990EFB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D88F5-3A92-4FD7-A465-C5543298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52275-5CFB-4A2B-A4D3-CD37DAFA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2F1C2-970C-46B2-B5A4-CEBC3430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B99B0-D2D5-4FDD-810D-3BD1B52B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CE6EA-E9E1-4A11-8439-5839F3BA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AA9F2-4071-41C3-9798-3B4E4B00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FDF3A-C1A0-46FF-9E11-3C1D51DB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CD148-7F95-42CF-9577-06174F01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74D88-BA58-4F19-B154-7D8443D0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F94BC-14B6-45A2-BA42-ACF4CA1A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224CC-AAB1-4211-B340-ED7F53E4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79DA8-B4F3-4707-BEDD-CE104BFA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9B3EF-7797-41E6-B98D-C9E3BF45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93D76-CD97-4901-8AF7-AE0D3A8D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2EFD6-1BCF-4A39-A7E7-A809309A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A5AB5-DBFC-4969-843F-34E58BA2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DB8B-7C77-4A90-B421-1DA9E1FE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70580-6080-45FB-A2C3-91846560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1DFE9-A1BA-4E73-BCD7-1ACF4B24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8DC9A-B066-48BA-8585-5FB20DFC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3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1" descr=""/>
          <p:cNvPicPr/>
          <p:nvPr/>
        </p:nvPicPr>
        <p:blipFill>
          <a:blip r:embed="rId3"/>
          <a:stretch/>
        </p:blipFill>
        <p:spPr>
          <a:xfrm>
            <a:off x="3139920" y="723960"/>
            <a:ext cx="1417680" cy="2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551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1" descr=""/>
          <p:cNvPicPr/>
          <p:nvPr/>
        </p:nvPicPr>
        <p:blipFill>
          <a:blip r:embed="rId3"/>
          <a:stretch/>
        </p:blipFill>
        <p:spPr>
          <a:xfrm>
            <a:off x="3139920" y="723960"/>
            <a:ext cx="1417680" cy="2793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5A5C1-F37D-485B-8EF2-151F436F407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612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1" descr=""/>
          <p:cNvPicPr/>
          <p:nvPr/>
        </p:nvPicPr>
        <p:blipFill>
          <a:blip r:embed="rId3"/>
          <a:stretch/>
        </p:blipFill>
        <p:spPr>
          <a:xfrm>
            <a:off x="3139920" y="723960"/>
            <a:ext cx="1417680" cy="2793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74302-D2DF-4841-A5D6-D1B11916AB6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673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1" descr=""/>
          <p:cNvPicPr/>
          <p:nvPr/>
        </p:nvPicPr>
        <p:blipFill>
          <a:blip r:embed="rId3"/>
          <a:stretch/>
        </p:blipFill>
        <p:spPr>
          <a:xfrm>
            <a:off x="3139920" y="723960"/>
            <a:ext cx="1417680" cy="27936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2EC3E-43DB-43E8-B59C-52033C106E4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61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1" descr=""/>
          <p:cNvPicPr/>
          <p:nvPr/>
        </p:nvPicPr>
        <p:blipFill>
          <a:blip r:embed="rId3"/>
          <a:stretch/>
        </p:blipFill>
        <p:spPr>
          <a:xfrm>
            <a:off x="3139920" y="723960"/>
            <a:ext cx="1417680" cy="279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CF456-8F13-4CDF-8501-AF88A155E33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124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1" descr=""/>
          <p:cNvPicPr/>
          <p:nvPr/>
        </p:nvPicPr>
        <p:blipFill>
          <a:blip r:embed="rId3"/>
          <a:stretch/>
        </p:blipFill>
        <p:spPr>
          <a:xfrm>
            <a:off x="3139920" y="723960"/>
            <a:ext cx="1417680" cy="279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355AE-C76B-40D2-83F2-1931DAF0E3E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185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1" descr=""/>
          <p:cNvPicPr/>
          <p:nvPr/>
        </p:nvPicPr>
        <p:blipFill>
          <a:blip r:embed="rId3"/>
          <a:stretch/>
        </p:blipFill>
        <p:spPr>
          <a:xfrm>
            <a:off x="3139920" y="723960"/>
            <a:ext cx="1417680" cy="2793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B6B72-B01D-48D6-8960-B911DF55704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246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1" descr=""/>
          <p:cNvPicPr/>
          <p:nvPr/>
        </p:nvPicPr>
        <p:blipFill>
          <a:blip r:embed="rId3"/>
          <a:stretch/>
        </p:blipFill>
        <p:spPr>
          <a:xfrm>
            <a:off x="3139920" y="723960"/>
            <a:ext cx="1417680" cy="2793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D8D7A-7EF5-44A8-95B9-A63B8B6D450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307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1" descr=""/>
          <p:cNvPicPr/>
          <p:nvPr/>
        </p:nvPicPr>
        <p:blipFill>
          <a:blip r:embed="rId3"/>
          <a:stretch/>
        </p:blipFill>
        <p:spPr>
          <a:xfrm>
            <a:off x="3139920" y="723960"/>
            <a:ext cx="1417680" cy="2793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97541-3F72-45D9-A60F-CEF54215598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368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1" descr=""/>
          <p:cNvPicPr/>
          <p:nvPr/>
        </p:nvPicPr>
        <p:blipFill>
          <a:blip r:embed="rId3"/>
          <a:stretch/>
        </p:blipFill>
        <p:spPr>
          <a:xfrm>
            <a:off x="3139920" y="723960"/>
            <a:ext cx="1417680" cy="2793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E110F-B4B2-4C1B-B0A8-AB1B4023540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429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1" descr=""/>
          <p:cNvPicPr/>
          <p:nvPr/>
        </p:nvPicPr>
        <p:blipFill>
          <a:blip r:embed="rId3"/>
          <a:stretch/>
        </p:blipFill>
        <p:spPr>
          <a:xfrm>
            <a:off x="3139920" y="723960"/>
            <a:ext cx="1417680" cy="279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B1364-FC57-42A5-8EFB-B21764654D7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490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1" descr=""/>
          <p:cNvPicPr/>
          <p:nvPr/>
        </p:nvPicPr>
        <p:blipFill>
          <a:blip r:embed="rId3"/>
          <a:stretch/>
        </p:blipFill>
        <p:spPr>
          <a:xfrm>
            <a:off x="3139920" y="723960"/>
            <a:ext cx="1417680" cy="279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3F639-D65A-4EE8-9676-B11F0E7DCD2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8T01:22:12Z</dcterms:created>
  <dc:creator>柴田宏</dc:creator>
  <dc:description/>
  <dc:language>en-US</dc:language>
  <cp:lastModifiedBy>宏 柴田</cp:lastModifiedBy>
  <dcterms:modified xsi:type="dcterms:W3CDTF">2021-02-05T06:31:42Z</dcterms:modified>
  <cp:revision>3</cp:revision>
  <dc:subject/>
  <dc:title>PowerPoint プレゼンテーション</dc:title>
</cp:coreProperties>
</file>