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9B9E7-3A04-4051-AA29-A36CB04C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6350-2B66-4542-A496-46E73CD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7DD8-978A-4C2B-B340-04B2234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C99CA-3137-488C-B0FD-8C38CE4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CA391-CAF8-47EA-955A-9C0C29D7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1F70-813C-435E-A45A-5462FBA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EA75-90D9-4739-A404-5F74504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0EF5-558D-404C-92C9-9D76C857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90BB-CE98-4549-9EBA-0A6EFD68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1D33C-789C-46C8-8E1B-1060BD82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93E45-5DF5-48AD-974F-058E8F5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87F36-EF1C-4804-BE6F-1D561555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0390-E92D-4D56-B719-FF113D6B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1C998-E19D-4508-9E4F-D30E2056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0107A-7C63-429B-A897-D1B5C15E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070BA-0A3A-46FC-A743-DFD5F36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0128A-39FF-46C4-9083-5F5CE3B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2AEC0-3F25-494B-A43F-30535DA9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C4551-2BE8-43CD-ABFE-120161E4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D2A13-5EAC-40D6-94DE-40765A4E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5925B-2E45-44F7-99E6-DF12FD96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46DF4-B044-43F4-B6E2-D4AA2B5E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72DFD-8E80-4BE4-A8E3-F25D025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3B2BF-647E-4532-8016-50C36F90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31374-5905-4FCF-92CB-72B3133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0D1B6-DB1B-4E7E-99DE-18802F0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A4E35-7ADE-4986-8955-64430EA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99F72-B954-46BA-B097-09292C7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DC4A2-6C62-449E-834C-C30F1B7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186BC-4B83-4041-A23A-79E1BDE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C00-79C7-4731-8B4A-C60A123A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F6441-F4E0-4EBB-9E20-04931496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74569-2305-4D72-8BCC-29E17EDC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28C8C-A3AC-4E57-A235-B253D363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1292A-968D-443B-BF0C-5C72AABE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7228C-87FB-498B-84FB-0881010A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D31F-B0AD-4422-B2D5-27A7EBCB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D79E4-B644-4052-AB96-1ACEDAB4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9C7C5-2512-4904-8D09-C9482003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4C4C-A0BE-4C59-B569-D2A7483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0370-0544-4966-BC63-9D4608AB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F4E-4624-4535-AF97-7B07CA2F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0F814-D42F-4500-A5C8-6423508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F540B-9FB2-4810-93C2-C9921323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ED206-7E07-45CE-B46D-3C488C9B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7F19E-DA12-477A-AE35-161AC72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EA95F-4CEE-4E00-80C8-2E19F0AB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970-2C1E-4F91-8F9D-0E7093BC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6C6-AEB3-4CEB-82EA-59AE81B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548-E5AD-4729-BAE9-587DA4F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04D-259C-4C56-84F3-B2A43E9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99C-194C-4708-B107-D618DE36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E65-896E-4A7E-BD13-019C82C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EFA-F7B6-49B5-A9B4-B146069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72C-ED4D-432E-A6CB-8E487C9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A28-40A4-41A0-A45F-3CB1B39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4B9-2160-4B42-9108-5A5ADD6C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9874-F80A-41EB-9EA3-D5D063D6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656A-510F-488F-81A6-72174AF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8169-A7A8-49B5-89B8-80C5ED8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CBCB-DBB4-4DF4-B9FA-5E1279D9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B51E-5E4E-4B72-96BB-6C0E2D6D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CC2-3D5A-44BB-BDF2-F8E28132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BE8A-BF0D-49CA-96D4-75504E15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4C94-C732-4A10-9AD0-E137EFC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7E40-166A-4AF3-A68B-10495E0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6DF-688A-43D3-A8A3-C6AD781D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2A1C-33CB-427F-A274-92FD91C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1715-C853-44C9-A22B-7B023159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DD67-DC1E-4F29-96D4-AB8BF2C2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9510-71A2-478A-8A8B-520F2BA1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8E0D-6115-451D-B0A6-A59EC78A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5869-0581-4A20-A67D-720050C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AD26-73D3-44EE-9285-1FFB0DB4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1FE2-F177-4FA2-9DB7-043D820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3781-E5FB-4128-8681-4883C458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39EF-5F56-4C40-A8CD-8EC42E4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5971-92D5-4383-8EBB-E54D115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4B5D-7DF3-4EDD-930C-4CA7DE9C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BEC8-DE71-4C01-BF0A-0B3CC719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D256-89C8-4462-B106-EA2074D4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8B15-F358-4A92-A588-9AAFA935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0A42-782A-4C36-9D70-A743E0A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41F9-694F-43ED-B406-D967EB1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1CB7-EE3A-402C-B06C-DCFDF46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095A-2777-48C2-AAA8-F6C50D9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62C8-3547-48D8-BB52-1D5FA15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89A9-5E92-4866-88A2-1541B76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0B17-E11D-40DC-BBAB-B089217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E3F1-3391-4673-BF6F-6E0456C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377E-85D1-4B90-AB07-E6E95A02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7613-B126-4382-9A5B-88051510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D98A-91F7-4FFB-ABF4-E345F215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3EAF-4747-4740-BA1A-5124F627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6701-4006-4088-AF10-EC1202D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1278-B4F8-472B-95CD-B8F4900F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619E-CC3C-43A0-B8B1-39E3C84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78CC-693D-4F3E-AF32-209D299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DFFA-665E-474A-87CF-BBA36A2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1865-FA2C-4C45-98D3-5DEBF29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5654D-B42E-4DA1-9DC9-01A5BA1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4B8F-1CEB-4079-B692-F453D5CF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F2CD-3D37-474C-8CB1-D7B81BB6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7A6F-FD46-4A4A-92FF-75CFD242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5F2D-7B0C-43C0-BC62-C410711A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B922-1C1B-4E9D-A7ED-1821E0A9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960D-8D8B-430B-837E-FB6A60E9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92FE-13CF-426E-B0D9-151DE5CB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F94AC-9170-47F4-AE81-152B0D1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581C-1B45-472B-BC95-D188917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AB0B8-C292-4A50-8D43-6D22078D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FB7CA-D78C-464F-8EA0-9985B107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3000F-C982-4496-92E2-D15764D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E7F5-FB20-4CA0-964E-5F95828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AFD9-CF1C-4CB8-B72E-D588CAC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82A9C-CB44-4A6D-B228-118B39DC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128F5-C12A-4484-AC79-4DFC4EB1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125D-C02F-49D3-B3A4-C1FB58AB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5CF6D-523D-4AA6-B3ED-CED42884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2C88-02C8-43A9-8300-A02234C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0B53-80E9-4C00-89B2-3455AD4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F2EF-7EA6-4358-A6DF-CFA25C5C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8BEBE-8743-4B72-8EE4-8576BE96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71773-079E-440F-B506-B0BEBD1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971F4-F41B-4AEA-88B1-9517409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AC1AA-F652-41DB-8A2D-F494A7B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8B95-B4DC-4030-96D6-989F5D8A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2906-D55E-4B92-A587-61EA903F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49AC-179D-49D3-8B57-7F962A55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3DF9-FDD0-4913-BE1A-2EB05CFA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3AF41-EAF9-4524-A611-69C02C4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C5897-932F-4603-AE7B-EECB2A6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3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551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6F48C-1F51-48BA-8A1A-7DA1CC779AC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612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FE1AC-6BEA-4320-99F9-2B84D3AB44B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673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D34D3-368D-4103-867E-FC4B4CE7C16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61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ED7D6-F55C-4DF2-AB80-27561FF3909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124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5BCA1-F9E5-421B-9643-93C5C784EBC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185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828B9-444C-4E1A-A294-66E196F13F4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246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4954A-17FC-4A17-8B42-B27B0E0E77A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307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CCF1B-2ABD-4454-A877-9C6C625FEE1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368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D8DD9-6DAE-4C41-8532-B844B3A4999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429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D5F43-642A-47A6-BF87-55861B6EB30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8107200" y="3711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423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2179800" y="1285920"/>
            <a:ext cx="6102360" cy="4584600"/>
            <a:chOff x="2179800" y="1285920"/>
            <a:chExt cx="6102360" cy="4584600"/>
          </a:xfrm>
        </p:grpSpPr>
        <p:sp>
          <p:nvSpPr>
            <p:cNvPr id="490" name="Line 22"/>
            <p:cNvSpPr/>
            <p:nvPr/>
          </p:nvSpPr>
          <p:spPr>
            <a:xfrm>
              <a:off x="2179800" y="1581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2179800" y="16909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2179800" y="359424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2179800" y="5469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2179800" y="5577120"/>
              <a:ext cx="610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45916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567160" y="128592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5243760" y="1285920"/>
              <a:ext cx="0" cy="458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789804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8002800" y="1306440"/>
              <a:ext cx="0" cy="4564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455920" y="1579680"/>
              <a:ext cx="5546880" cy="399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2671920" y="1795320"/>
            <a:ext cx="5121000" cy="35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563920" y="1687680"/>
            <a:ext cx="5333760" cy="37782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233360" y="386244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214280" y="26258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924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984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8205840" y="2496960"/>
            <a:ext cx="1028520" cy="72108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439560"/>
            <a:ext cx="1419120" cy="287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DF59B-8EA8-4FCD-9FC9-860E3D7CF21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1:33Z</dcterms:modified>
  <cp:revision>5</cp:revision>
  <dc:subject/>
  <dc:title>PowerPoint プレゼンテーション</dc:title>
</cp:coreProperties>
</file>