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251950" cy="13103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AAFFD-0FB5-4912-A993-38870E53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9B58A-91D6-4495-8A4D-45A34632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6D04C-6419-4A54-B787-8206ECA0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FAB16-E48E-4889-A25D-100FC532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0B7B7-968C-4938-BB85-600A52D9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7610B-AA57-49B1-9645-EB17C4D8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D348B-42DA-4AC9-BA88-7DEC24C5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84D2D-2FD3-49FD-9DAF-B5E9A611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E2B20-A675-4C21-96F8-71D80591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A4DE7-DD43-4E98-A796-46997009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A2F88-A411-497F-8A01-F993A5A8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E3833-08D1-4349-A54F-C804E85C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BEDE4-B576-4240-B471-D9ACB715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62D6C-9CF5-44EB-A3EC-7C320355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DBA0E-0FA7-4873-94C6-83507851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C3B48-EE9E-4AD0-A19F-207650D7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354FA-099D-4C13-898F-1EA38DB7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84018-203B-4D9B-A610-F062E445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69109-343B-44F4-9942-CCC1813D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C0685-D22B-4F8E-A6AC-7710CE02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58D61-0F44-48CE-80B0-EA38F9B1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14F37-4ACE-451B-B926-4161AD9E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509B9-915B-4FAF-BCB1-1839C6EC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60CE1-93D5-469A-9972-460A84CD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1D4D0-AFB8-4DF1-926E-9D49F7F0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22AB5-1355-46C2-941D-5E0C0984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F2E92-16BD-4B39-BB30-3B820241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2C649-A46B-49F9-907A-6DE2EA12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0223C-CD82-4FDE-82E1-913BE322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1C0D2-783B-40F2-9109-010122C0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FA0-824A-412B-A7B1-0F3894B9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58984-0DF9-4C34-AB76-6F5A92E6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4A3EF-4A86-479C-BBE9-5A9559AF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CC80A-7489-4A0B-8DAD-9A1FA27F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1445E-AB1B-4384-B092-2E84480E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2789C-0DD5-4821-B41E-EEFB5F44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34BEA-3AFC-4F32-819C-D096419A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FC8AF-A227-458E-ADFE-F3468593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FAAE5-E144-4436-9615-F3592C18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31F0D-1D51-4F31-B2E2-89D9890F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5B41B-D71E-411B-8215-8FCBF561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779-74E6-4099-BBE2-BBD767C3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8D28B-4EE1-43BF-8DC3-4A1F9117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18813-9826-402D-95EC-BB71732E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2BC79-6601-4B5A-B909-53A75C85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829AE-7E63-423F-9DB0-4BF86C66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48DF0-C297-4AD3-8446-3EA8BF01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741-6089-430C-AA84-193E8350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0C5-4998-4614-B6C6-FBF088F3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C46-32C8-4F6B-9E9F-87E2E678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B27-E2CD-402B-ABF3-8FBC0DC7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07C-EF6F-4798-AF5D-6BE5A96C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547-80CF-4894-960F-29265A06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52D-F093-4DC0-B9AF-A8341C51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C9C-3793-4623-85D1-5C7B8EE3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16B-FD2E-420C-9749-58607AFE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703-105D-4FDE-8605-C5B38C43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5D51-764F-4DA2-B5D6-FBBC5F76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A2B0-1768-46AE-BE8D-074E3E3C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B07D-7AFB-403D-AD51-757B7C5B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01F5-5126-471E-9EEA-826FC446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5E43-9908-4B6D-994C-646C6871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15B0-CEBC-4EE8-B0BE-E363AAAA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3F1F-541F-4E81-AA05-273055CD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BD2C-DFE8-482D-BAE9-022A260D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58CC-DD46-44D9-BB44-66E904E8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C1B4-1510-499E-AB74-CA3475F3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F41A-187D-4BE6-BB5A-85968DAB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5C5E-958F-48FD-88A1-6ECCD9C2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21B8F-7411-4CCF-9864-596B6806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824C8-A745-4451-A5FA-0B44AF31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4FDF6-0ABF-4D42-A4CB-29657329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88B4C-EACB-4F16-8B8A-B1F54F2A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607E2-4593-4EAD-8CA9-5E99559B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7262-63EF-414C-A277-FEF8A9C9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281B-C518-4BEC-8E2B-2BDC56A5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85B3-5BE6-4E36-9047-BAF7F82F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7C53B-1C41-4B6E-9248-D52FFB27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F2219-6D3C-4D31-A245-9F2B54DB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D99B8-6997-4A3A-A084-AA299603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FD74-FA98-4F21-88B8-EEEC297F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A656B-25AF-4C09-905F-6AEB0FD4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FD7BE-AE29-4C5D-85D2-81A23235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4A740-94B8-4722-A748-6AA674EA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F83E6-37B1-48E0-A518-C234D6E5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6811D-B00D-4061-94CE-DE1E6D79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0B4B3-51C0-4958-88C3-8B490705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5585C-D751-4DCE-95A1-E021BED7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C47B4-BBDE-47BE-BF91-6023E4C4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3BE97-F984-4B88-9CE7-5FA4C36A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92F97-A29C-491D-84ED-01A031F9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C4A2D-2814-4B93-8368-0BDF5552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31B9F-0B3F-44C2-A0A6-25BED5BB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809E5-0163-42CE-A924-237C5685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76376-7147-485C-BFEC-084F764C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CE7E0-B15B-4219-81C5-00CD1E97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9FC16-1862-4028-B3C6-C3006880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09047-E3F1-4754-A017-F125E0BD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9BC87-9666-4B1D-B6F2-F33184C0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7B6DB-41FA-43D7-8C28-BF67EB3E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8FE33-D7DC-495B-9ECA-44E7F5A9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DD12B-7A47-4C29-A2C5-0A885DF3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9B417-AFAE-4862-AE3A-C01EBD20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57443-681A-4C1B-81D1-C28ABB9C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941F0-E943-4AAC-93C2-52067C18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C501D-54CF-4236-A35E-D583EF82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ED5E3-2393-422D-8CD3-698CC571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94D4A-7820-4057-96B0-97AEB20B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65092-5BEE-498E-9A94-EE6E6160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21F86-5AF2-4CD6-AA4F-78481972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ED90C-1A8D-40E4-BBC6-E82C0907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EDF18-4B3B-4959-84FA-6CD618D7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A3065-27B2-49F5-A56A-5867AF31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CC789-D52C-448A-A5CF-C388645B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19B6F-75BC-4F38-BEEB-6E5E53B7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08464-4579-469D-B3A2-035EC84D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DC8A1-2F9E-48C2-B57B-4177BD1A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DD65F-EE7A-46DD-A127-7D77F29C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94989-66EE-4540-AC4F-8ACB1A87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9D2F2-BFE9-46E0-9108-64E22A0B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0C7B7-49A0-4DB8-B0AE-DA87967D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02F86-05EA-4B31-BC03-8D688AA7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61C1D-9BF1-49CF-A691-3E0DE7D3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2EB16-8461-44F3-B285-AA400FD3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0C24F-4E5D-4C4C-BA0C-C1952522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888BB-F29D-489A-9AD2-B36DC6A0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32853-388D-47F2-8AC2-850C4EA2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C14E3-A3E7-4FFC-B3E3-01D53B8E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0C4E4-ED3E-4416-A56A-7F14EEFC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18759-C59C-48B9-9A3B-1B89FEA1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45BBE-7569-4998-B21C-44DF6EB7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D60E6-DD0E-491F-830D-412F21E8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3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1" descr=""/>
          <p:cNvPicPr/>
          <p:nvPr/>
        </p:nvPicPr>
        <p:blipFill>
          <a:blip r:embed="rId3"/>
          <a:stretch/>
        </p:blipFill>
        <p:spPr>
          <a:xfrm>
            <a:off x="3916440" y="1006560"/>
            <a:ext cx="1417680" cy="28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551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1" descr=""/>
          <p:cNvPicPr/>
          <p:nvPr/>
        </p:nvPicPr>
        <p:blipFill>
          <a:blip r:embed="rId3"/>
          <a:stretch/>
        </p:blipFill>
        <p:spPr>
          <a:xfrm>
            <a:off x="3916440" y="100656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4F5C9-0E54-4C8C-BBC0-9FF65988232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612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1" descr=""/>
          <p:cNvPicPr/>
          <p:nvPr/>
        </p:nvPicPr>
        <p:blipFill>
          <a:blip r:embed="rId3"/>
          <a:stretch/>
        </p:blipFill>
        <p:spPr>
          <a:xfrm>
            <a:off x="3916440" y="100656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6BD12-3540-4A28-B1ED-754673CF3CC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673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1" descr=""/>
          <p:cNvPicPr/>
          <p:nvPr/>
        </p:nvPicPr>
        <p:blipFill>
          <a:blip r:embed="rId3"/>
          <a:stretch/>
        </p:blipFill>
        <p:spPr>
          <a:xfrm>
            <a:off x="3916440" y="100656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67B98-84B2-4DB4-B93C-97B64958BDE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61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1" descr=""/>
          <p:cNvPicPr/>
          <p:nvPr/>
        </p:nvPicPr>
        <p:blipFill>
          <a:blip r:embed="rId3"/>
          <a:stretch/>
        </p:blipFill>
        <p:spPr>
          <a:xfrm>
            <a:off x="3916440" y="100656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69536-C280-4B84-96C8-4FF09C2E635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556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17840" indent="-230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8116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81160" indent="-230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81160" indent="-230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124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1" descr=""/>
          <p:cNvPicPr/>
          <p:nvPr/>
        </p:nvPicPr>
        <p:blipFill>
          <a:blip r:embed="rId3"/>
          <a:stretch/>
        </p:blipFill>
        <p:spPr>
          <a:xfrm>
            <a:off x="3916440" y="100656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1DA5D-7230-45E4-B109-CC2D5D348F2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185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1" descr=""/>
          <p:cNvPicPr/>
          <p:nvPr/>
        </p:nvPicPr>
        <p:blipFill>
          <a:blip r:embed="rId3"/>
          <a:stretch/>
        </p:blipFill>
        <p:spPr>
          <a:xfrm>
            <a:off x="3916440" y="100656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9BE2F-02F6-436F-BC7F-3372027B578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246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1" descr=""/>
          <p:cNvPicPr/>
          <p:nvPr/>
        </p:nvPicPr>
        <p:blipFill>
          <a:blip r:embed="rId3"/>
          <a:stretch/>
        </p:blipFill>
        <p:spPr>
          <a:xfrm>
            <a:off x="3916440" y="100656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48A86-5078-4D32-BB01-4A4488A341D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307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1" descr=""/>
          <p:cNvPicPr/>
          <p:nvPr/>
        </p:nvPicPr>
        <p:blipFill>
          <a:blip r:embed="rId3"/>
          <a:stretch/>
        </p:blipFill>
        <p:spPr>
          <a:xfrm>
            <a:off x="3916440" y="100656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4B791-1679-4434-A11E-209D0FA7C44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368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1" descr=""/>
          <p:cNvPicPr/>
          <p:nvPr/>
        </p:nvPicPr>
        <p:blipFill>
          <a:blip r:embed="rId3"/>
          <a:stretch/>
        </p:blipFill>
        <p:spPr>
          <a:xfrm>
            <a:off x="3916440" y="100656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13EC5-F971-49AA-A1B2-7C751517491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429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1" descr=""/>
          <p:cNvPicPr/>
          <p:nvPr/>
        </p:nvPicPr>
        <p:blipFill>
          <a:blip r:embed="rId3"/>
          <a:stretch/>
        </p:blipFill>
        <p:spPr>
          <a:xfrm>
            <a:off x="3916440" y="100656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4ABD0-4AC4-4E44-AF0F-B0583866D74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490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1" descr=""/>
          <p:cNvPicPr/>
          <p:nvPr/>
        </p:nvPicPr>
        <p:blipFill>
          <a:blip r:embed="rId3"/>
          <a:stretch/>
        </p:blipFill>
        <p:spPr>
          <a:xfrm>
            <a:off x="3916440" y="100656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94FA6-2937-4139-897A-A9E50070CC5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8T04:57:02Z</dcterms:created>
  <dc:creator>柴田宏</dc:creator>
  <dc:description/>
  <dc:language>en-US</dc:language>
  <cp:lastModifiedBy>宏 柴田</cp:lastModifiedBy>
  <dcterms:modified xsi:type="dcterms:W3CDTF">2021-02-05T06:33:16Z</dcterms:modified>
  <cp:revision>2</cp:revision>
  <dc:subject/>
  <dc:title>PowerPoint プレゼンテーション</dc:title>
</cp:coreProperties>
</file>