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3103225" cy="9251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87992-E8FF-4D74-B2B6-7E250B69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B4CB5-AE07-4796-9588-CAAB25EF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6928-7DFA-4681-A670-D3757040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D82F-D148-4885-BB4B-A0D43336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287D-C03F-4549-96EE-DD7B7E57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D7765-FF6B-420C-8D19-3532A1EF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93216-B440-4429-9FDE-278F3F4B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B2123-1706-41D1-9709-D7E773EC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0B7F6-2781-47DF-9B96-E3D21F28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688AE-689D-4326-AD6D-546B1C69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AC269-7BC2-4D99-AC94-7B48F08D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D85AF-0B92-4AEE-AD0E-FFCA9CA4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F3E5B-A0F7-437A-8255-D3B8BD8E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5F64F-E815-43B0-A103-D6D9AB84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A45AF-2F5C-4FB2-B32C-214FF3F4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91459-6157-49B1-ADA8-EF114D1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B66C0-8D62-41E4-BB13-31F69DC0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10B89-96D5-4164-B078-53F483DB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779A2-A89A-4FD1-81B1-6A3D0716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5E024-838B-4BCF-A337-2C646E0B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2E1D2-B18A-433F-A6D6-8D9C3E1D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AFD36-D6C2-4965-B291-28594CA6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36CFB-2DBE-4406-B903-DB913F2D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B900F-E612-4BEB-B4BA-6E8FFD12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41C8F-4DE7-4755-8C2B-3AE77EFD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11598-A8C7-410A-8AE7-81FF40A2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D28CF-D78B-4B2C-A336-AFBBEF6E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19E20-E0D4-4DA2-8D9E-2460D9D1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2D38C-2F3A-40C4-B279-C20D96D0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69EA0-92F2-4C90-9926-43414A17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2B0-E5D6-4C5F-ACD0-75133B8F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CA47E-A150-427E-BD0C-06921CD4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21FCD-113B-49C4-98D6-FA07FF10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80AA3-E7A8-4B5F-ABFF-6549C724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08F8D-B42C-47A5-B827-1CB038D2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DF100-DF50-4086-A03E-6935A139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9CB37-BD70-4828-8CA2-29BE5524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80EA4-E30F-4DD2-8231-C4E6D4F9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A71C8-89C0-4851-85DF-0D923776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4A15C-A726-4FD0-95CC-7909F5D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6C93A-899B-46D8-AE00-43AA7E9F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614-299F-4CFD-8CDC-47806FC7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E8A84-2D67-47D2-898A-C67B087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9DF43-1FBE-453E-BDD1-71C602BB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04C64-29D3-43E0-A984-87FD64A8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BA74C-83AD-49BE-A828-EC264200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FF0A3-613A-41CB-A803-C55827FC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23B-E342-4107-A544-2771467B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6B7-8ACC-42B7-8B63-62B36A79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4F0-CB5A-432C-BD99-6C579B41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A72-342F-41DB-A3D8-FD0D8BF1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C24-0430-4B16-958D-9A3CFD9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900-8811-4DCC-A41E-8E9173F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DFD-6A96-4724-8F37-B4CDC91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941-412F-4D12-AD80-9F462E7A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FD2-9830-4B67-83EF-BA968FEA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C27-32E4-4F74-9274-B2F5B344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82C3-638B-42AB-9F3D-94834348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513A-8BFF-42C4-94F0-8A81F5E1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5BBA-18CE-476C-8210-D1675EC9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76E4-E710-4DFF-863E-387733FD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1F26-FE3C-4E3A-A755-BC222EE4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F2BF-844D-4688-AEC2-A782BDF0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EFC7-0BF5-4A50-8507-C1EC94AA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955C-E396-4B6B-8547-448555E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D6E8-24E8-4785-A51A-CB03EBAA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6D27-0AE9-41E0-847E-7A05D504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519C-5AAE-4D04-A567-792041BA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F163-4631-46D6-B7B5-34C583D1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308B-EBF7-484F-A57F-39E3EF38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68B6-FE72-4B98-B33C-68DD9341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94AE-D5AF-470D-A859-3EFEBD38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3D72-23B7-4026-B513-18F1438E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C82D-387C-4FC7-A295-06C2FBC0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C33D7-0C4F-4EDF-BC2A-0B625376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238E-4005-4A5B-8E87-FF2E7763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E7DB-6771-4946-AE6F-1C1DB47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2128-CFA7-4EF4-A2A6-14B84538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034B-903C-458F-973C-522E2697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4FF3-8AE6-4C4A-ABAB-BB569D52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D673-E574-45C0-86CC-8A20B4EE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916D0-F0F9-40CC-8472-210DAE42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08DEA-DD84-4B68-811B-0D93D345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74BFD-AF15-4539-B483-4C675E7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92597-87B4-4C1E-A4CF-574227B3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8133E-CE3E-44D0-85A9-EB03A962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D8BBF-E2DC-48BE-9B20-B3B60B87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DB02-0BDD-42A9-9F9F-F9FFF64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FBDA-60A6-4713-96BD-A77DE2F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2EB9-C12D-4C18-8D36-E6E1503B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6146-F847-4ED3-B23E-2478D753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245A-9A8C-456C-BE87-23DEA057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A1D9-ED21-4926-9987-D290CFEC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A347-8227-4234-B876-4A734D3F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52458-22B5-4C5C-876E-796D19D5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C6BD9-A289-41E8-8DD0-2961585A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BF2B0-042E-46FC-B1B8-13007922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D2D2C-D4FF-43BD-A9B4-1B94529F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9E8E3-5B14-4CCF-8745-B16D96EC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F9E53-74D5-46A8-A189-F92875B2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CF2F6-0E9B-4657-8C80-BA109BC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BCDA8-CCF2-4FF1-82D8-F766AA02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B503D-65F2-41ED-8BCE-3CAF9BBC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7B1BE-6741-4DF7-A9AB-DFA97BE0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A57F-5BD7-4F0B-A12F-90DF707B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C95B-AD54-4A4C-9DCF-67367281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DD3B-2E84-4EB5-B235-38CF6FFB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05431-39A9-4A3B-AEF1-1F1E394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C641-F429-4DE5-AD1E-48BDC17B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614C8-34CB-42E5-97D3-418FCFE1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28327-11D5-4DA5-9196-335CC6B9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B9112-D7F4-479F-9D68-B402494E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F3EB3-592E-4AA6-B3AC-4EB1F557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338AF-6EE7-40BC-A4DD-20F076CD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86E7-82FF-4EEE-8F4E-CF90963A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90D1D-C2CD-4DC3-B97A-84D50D2C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EEBD-0B30-472A-8A03-B581D488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C0894-EEEE-4696-B400-CC0A5263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05E3-0CE5-4ED1-90A8-05937189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8A7D5-8532-4AB0-98A1-95C881C5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6C02-17D8-4A48-9977-81013210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ABE85-4F30-4EBD-9ACE-73342CB7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91489-80CD-43A8-BD67-641F8C67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EA745-1E98-4ABF-8DC6-16BA7EF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B4AA5-D833-4EB9-8F1B-92A342A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FE7D4-DD6D-4F20-93DA-D0A7856E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09FF-3E21-483B-AAD2-B81DABE8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683F-1FA2-49FC-9E67-A4A41FE3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EF2B4-041D-42E7-80B1-8D58FD94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9C8EE-3FBE-461F-8E51-A6665F63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AE9BF-1340-43CE-92E2-40A125BE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8E948-CAEB-489C-95CC-1AE99816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3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551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B55EA-B09F-465C-9D6E-740975994B4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612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583BC-58C4-4D32-973B-D82449A617B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673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D904F-A374-4078-A183-BEA024ACB76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61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EB702-ACB3-44C8-A705-821E8510283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4152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15748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77488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124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7CCA2-4736-440F-9C5C-1C558248B1E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185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5C2AB-1BF5-4CA3-A96F-E84BED098D6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246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48442-B791-4B93-BF62-496B548053D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307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79492-1708-4A06-B651-F974B1DE24E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368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574CE-B3FD-479F-82FD-AF0E3D04D29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429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6029E-C821-4AB3-84CD-62012725AE7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10550520" y="49417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2344680" y="1582560"/>
            <a:ext cx="8207280" cy="6046920"/>
            <a:chOff x="2344680" y="1582560"/>
            <a:chExt cx="8207280" cy="6046920"/>
          </a:xfrm>
        </p:grpSpPr>
        <p:sp>
          <p:nvSpPr>
            <p:cNvPr id="490" name="Line 22"/>
            <p:cNvSpPr/>
            <p:nvPr/>
          </p:nvSpPr>
          <p:spPr>
            <a:xfrm>
              <a:off x="2344680" y="183492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2344680" y="194436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2344680" y="4611600"/>
              <a:ext cx="820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2344680" y="7273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2344680" y="7381800"/>
              <a:ext cx="8207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256212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26697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6448320" y="1582560"/>
              <a:ext cx="0" cy="603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1023120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10335960" y="1582560"/>
              <a:ext cx="0" cy="6046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2558880" y="1834920"/>
              <a:ext cx="7776720" cy="554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2766960" y="2044800"/>
            <a:ext cx="7362720" cy="512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658960" y="1943280"/>
            <a:ext cx="7572600" cy="5330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359000" y="4927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314360" y="3330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6384960" y="766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6324480" y="1263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0533240" y="29988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7" descr=""/>
          <p:cNvPicPr/>
          <p:nvPr/>
        </p:nvPicPr>
        <p:blipFill>
          <a:blip r:embed="rId3"/>
          <a:stretch/>
        </p:blipFill>
        <p:spPr>
          <a:xfrm>
            <a:off x="5735520" y="5284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C4337-00F5-4B3B-A17F-20573DA4BD0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3:26:41Z</dcterms:created>
  <dc:creator>柴田宏</dc:creator>
  <dc:description/>
  <dc:language>en-US</dc:language>
  <cp:lastModifiedBy>宏 柴田</cp:lastModifiedBy>
  <dcterms:modified xsi:type="dcterms:W3CDTF">2021-02-05T06:33:07Z</dcterms:modified>
  <cp:revision>4</cp:revision>
  <dc:subject/>
  <dc:title>PowerPoint プレゼンテーション</dc:title>
</cp:coreProperties>
</file>