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251950" cy="1310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A6A80-9E4A-48BF-BED7-A2D2CD7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513C-0426-4E58-BF49-258386F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FCFD9-664E-4073-816F-4679AC5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AB93-1291-4DDF-90B0-AD449F8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93AA-ECE2-42B7-B052-CE76B63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51AEA-4AA3-4FF4-921F-EE328EE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F4D5E-4073-444E-B69A-9142974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8BFE-4829-499B-B26F-B1CF5591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034E-EB65-44A6-BD61-BA574EF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FBA8-388E-478E-AAB2-512C00E0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E6A8-B440-4386-B7ED-EC02D79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7D1A-78F9-4410-98E9-30D0E14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B43D9-EFA7-4295-AD4F-74F4803E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146BB-D8F8-4340-8489-E629881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7B1EA-8EDF-43D3-8548-9F62954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A4317-34DC-4A90-9A01-AE6A781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1C611-802F-4CD2-BCB5-912844A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1FFB8-8E1B-48EE-9C9A-7876BE3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2FEE7-CA6F-49EB-BA43-8B3E97E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31CAF-97D8-42A2-8EDE-0579740E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1205-B31E-436C-AA40-5D1983DD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0DD37-3051-4645-91FB-F6CD54DB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70B3-549D-4835-9EE9-16284E7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85F13-E7CD-44D3-AD2B-9E6A71B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14231-1543-41A9-96F4-6CABE16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24E5-F9F7-473A-8BD4-AEAC640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606DE-6D9D-49EE-81F9-BA4C7C23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FBFC5-D080-4E58-A8D1-2F66209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3EFD6-472B-46AB-B82C-7661AE7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A4D8F-B0AD-4BEE-9087-8A73B4E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B40-9B7D-4D86-8078-BF47E24E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222D0-10EF-4DE5-9848-C0ECB38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6656-B264-4732-BDB5-EC7FC408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00A00-A599-4248-BEE1-F49F0DBF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B6168-2E57-4AFD-A4C5-2BDEA4B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3258-9C8A-4A0F-92B4-9330B2E9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074D-3EB1-47F0-AB0F-263F040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CB69A-F06B-4EED-9C5F-7EC6102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0E1C5-EFCD-41A3-90E8-C3F03BB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7E7CA-EB59-4B2E-B452-CB3D9D9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B21F-29A3-45DF-84CD-26FA4A7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B5C-214B-4893-A5C3-FF9E932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33293-A7CA-4E9F-956F-4F5E0A00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8C7D-DEF0-478D-8CDE-3F3D609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51C55-9DF5-4E85-A934-CB9CBD81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2D1A5-83AC-4750-8BF9-431FD6EA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B0486-CD35-4878-B805-C39354BD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7D8-E635-4EC5-B9BE-43F6B645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557-48DF-4B2F-9821-F16599B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7A6-7EFB-4164-989A-12ED89AF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9F6-B5F9-4229-90F2-798523F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2D7-D7D3-42E2-BE33-BA2276A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F41-6C0A-49AC-9771-05927B45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036-C050-47EF-A88B-5E757A1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DBE-35F5-475D-ADFE-CE18A16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3AD-DD51-4C5C-B4D3-B7C4E6B2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EF6-BB36-4F90-AD39-F85A53F8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E09-C5C8-4D61-9E2F-FE341EEC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601-937D-4603-871C-AB230FB8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8244-0795-44B2-A27F-8B51C16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BD0-246D-4396-AB21-EE1E167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FEE4-1032-454C-9EB8-F57CDF98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BE2-0528-4036-8803-0F260FE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4390-3208-46EA-941D-D12B5B37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FF2B-D120-4278-93CD-866B6E5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ECC-A51B-45C0-B2D9-E3D5FF7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5DDF-46C6-49AA-B9DB-B0957F06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3994-8270-48C6-A956-4ED68EDE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65F-59BE-4CEF-8085-F23F043E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AECA-E093-4691-A3A2-481A145E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CF97-F96A-4D45-86D2-ED5874A5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D845-C1EB-4ED1-A2A3-3B524FAC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7708-1406-448F-A224-FA1F801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D6C5-63AD-4759-9560-6745C4E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293D-B540-4D6F-A2EF-18CB4A3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B0CF-8837-4774-8CA5-811700B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B484-F5BE-4404-8636-E5A193A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ACC1-AB22-4C2F-9196-E4F4B5F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0DDA-F6BD-44CE-ABF4-F9E8DC8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F47A-B3CD-4CA9-8786-304F75A8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32BE-6774-4305-8833-B9EA146B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48BE-911E-4F7C-9027-DE04337F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2C70-8F85-4B98-A3E5-D3AA71D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C23E-D0C8-4944-AD05-8BBE1903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6954-FE01-4CD5-A0DC-DB07389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BA92-B4A3-42C7-9765-A1649E9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7525-DD9E-4D77-8A09-7DE3F20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7B4E-0D31-48D3-8E88-C99DF43A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6761-4379-495C-A352-A78EB26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DAC2-9E12-45FB-85B6-1C208F1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8A67-E224-4586-90CC-C586DA2F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FB0E-7F77-4E52-9617-6F2B2F94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F8BB-41CE-460C-8380-3083B0B0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EA9B-6C88-421E-AE38-911C56B1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4C22-44D4-4FED-9D25-94159F8F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22C5-B398-4A3E-A42F-0B602547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D4BF-2951-4777-8FC3-0E0ED40B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730C-5ABC-415D-9450-9E72B0B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8185E-8E1E-4020-8ED6-B328ABA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19F5-ADB4-4BB0-A66A-5516D90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4CC0-DA07-43D6-A739-BAD536D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9F7A-4AD6-470A-B5C6-2CD5C16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C193-BE0B-4381-BDAD-5A9AE94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E55C-D8E7-4DD8-ABF6-73E1A277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DB5D-0A4C-4286-A8CE-577F1832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1C36-CA2B-4924-8FCC-DFE43A01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62E1-25FB-42F2-999A-EDE285F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243E-4B5F-454D-8BC8-FBC54B53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C48A-9B36-4055-B9BE-0CBDBFA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A911-1878-4A1C-9235-8183AFB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52B4-314B-4B6D-BC3A-6B86ECF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5065-CC26-44E0-A698-F432ED1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0C52-DE29-4F94-A465-1FB2796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09E7-30B7-4A09-B9A7-6FAB87C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AA5F-5FED-43DE-B6E0-5BAA1BE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0A99-19E2-464C-8FB7-9A88A82F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5F04-EBBF-4AC7-A06D-7ACF821F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1366-9EF5-41FA-9B28-E2825955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990C5-5536-4C6C-A8DF-3900725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ED70-54BF-47B1-8A03-7A8C7EC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F783-DA37-4596-8972-869AE04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CF411-82E2-4434-9AE3-BEFE929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62600" y="522720"/>
            <a:ext cx="83264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ECBC-5D5A-4428-8947-F555208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AFBC-6631-4395-875E-E01A3FB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D8B6-6A86-422E-904A-E930322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CF6D-6499-445F-AA11-3F305F2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600" y="7035840"/>
            <a:ext cx="83264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53219-220E-483A-9604-72E00DC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28960" y="306612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260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28960" y="7035840"/>
            <a:ext cx="406296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CC0C-C415-4EE7-98BE-B0E40816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7780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3360" y="306612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26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7780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93360" y="7035840"/>
            <a:ext cx="268092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B5FC-8409-49A9-827E-4D6D212E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E249-A5E7-4FBF-99BB-BCE3A864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4C02-3A05-46B2-9E42-1026463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86B1A-C56A-41BB-BB0E-AF612768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551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7753E-5352-4BE4-981C-29D788236C8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12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FD523-69A5-4FC2-9D47-36819D339AE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73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70E66-F1F1-4224-84AE-95BB3C9CF5C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61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96987-26F8-401B-99EE-66EA5B89A95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62600" y="522720"/>
            <a:ext cx="83264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62600" y="3066120"/>
            <a:ext cx="83264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56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17840" indent="-230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8116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8116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124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FFDEF-7821-472E-8CF1-8CFD73C62BE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185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3C3F4-7563-42C8-BA2F-9E6008D41D2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246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FAB7A-6F53-4FE2-84F9-D362C681166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07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25C1B-6C9C-4820-9240-2FDF4A5894B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368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75EC5-79D7-4225-A750-F2CA4D0FBD1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429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A05DC-AE4F-4E33-8476-DB24B410AA1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7448400" y="6948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284560" y="11515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604520" y="2373480"/>
            <a:ext cx="6046920" cy="8207280"/>
            <a:chOff x="1604520" y="2373480"/>
            <a:chExt cx="6046920" cy="8207280"/>
          </a:xfrm>
        </p:grpSpPr>
        <p:sp>
          <p:nvSpPr>
            <p:cNvPr id="490" name="Line 22"/>
            <p:cNvSpPr/>
            <p:nvPr/>
          </p:nvSpPr>
          <p:spPr>
            <a:xfrm>
              <a:off x="739908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728964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4622400" y="2373480"/>
              <a:ext cx="0" cy="82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960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852200" y="2373480"/>
              <a:ext cx="0" cy="820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604520" y="259092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604520" y="26985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618920" y="6477120"/>
              <a:ext cx="603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604520" y="1026000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604520" y="10364760"/>
              <a:ext cx="6046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737280" y="370224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946440" y="3915360"/>
            <a:ext cx="7363080" cy="5128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837720" y="381456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28560" y="530208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615960" y="4067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4519440" y="10686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4519440" y="1996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593120" y="391788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3916440" y="8460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636120" y="12143880"/>
            <a:ext cx="20811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065400" y="12143880"/>
            <a:ext cx="3121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6534000" y="12143880"/>
            <a:ext cx="208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35077-BE44-4D59-AAE1-BCB9D10451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4:57:02Z</dcterms:created>
  <dc:creator>柴田宏</dc:creator>
  <dc:description/>
  <dc:language>en-US</dc:language>
  <cp:lastModifiedBy>宏 柴田</cp:lastModifiedBy>
  <dcterms:modified xsi:type="dcterms:W3CDTF">2021-02-05T06:32:45Z</dcterms:modified>
  <cp:revision>3</cp:revision>
  <dc:subject/>
  <dc:title>PowerPoint プレゼンテーション</dc:title>
</cp:coreProperties>
</file>