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DB51B-626E-4E5A-9A79-CC3ED18C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2FEC-87BD-4B03-BA48-E0EA5EF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D628-7776-4792-A749-0C2AEB96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C6E2-A8E0-41E4-8AE7-D22E47E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D2DC-43A9-4E5F-90FC-38F1492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88CB-AC5E-45D8-AA25-41B3B1E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8449-87DA-49C3-9EF8-155431A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CD42B-3E28-423D-A0E9-3B50B0A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69989-23C8-41E7-A6D8-F5CDD131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BFC4-E2D0-4F6B-A7C1-D0236983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F6612-D580-49AA-A671-49073E5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3E322-F185-4DD7-BFD9-34E2685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AD489-B94C-4B83-889B-91EBCBB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165AC-18B5-4C8A-9A57-5F510EC1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C5132-B663-45A2-9E0D-CC2A67DA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BD363-D625-4979-829C-EC3FF97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F241C-AFF6-4447-9A34-B4D61B7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6A056-5A22-47DE-87FB-D773436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CE3C-F17B-4C6A-A464-80A8B84C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A229-16F2-406B-80CB-200289B4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A264F-83F9-441B-9AC1-5AA7360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9B948-9BF8-445F-96CB-67AD970C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D2177-74AE-4AC4-946E-2C7ECC3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BEB5F-8470-48C9-9490-63CE66E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4780-52F8-4E96-8660-7D1A8E3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0EF20-40CC-4651-95BD-47C4DE58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A6A0B-E363-4722-847E-E91F6297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E1146-4055-48DD-85F0-D877702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EC4EF-25D6-48D3-8868-A57A938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D33E1-84A7-4D19-A22C-92D4FD7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14B-54F6-48D5-9B37-6CFB33F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0CE13-6557-434C-A7BD-5FD02C38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E76BA-7E5D-4FDF-8547-75C6AFB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1AA53-6A78-445D-8890-D116ECD5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69410-CA26-4FDA-A768-C43EAE1D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E8FF-93CC-4160-9251-0120186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39EDE-42FC-4D31-8340-FCFA56B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2DA69-7DFD-41C7-928A-22F38B0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EEEE1-ACA6-46A6-8AF8-EA10AA3E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0B9D-1487-45A1-ACCF-ACE6254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602D1-7562-40FE-9FF7-A87F8F1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5E0-1557-4B10-940C-0CCEC63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95DCB-E35B-4E2C-8F64-29696E6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F687-FC07-4AD9-ACC6-0534BF1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92E3-991B-4EA6-80F5-9B43927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7B407-BF9E-42C5-9EFF-433ED12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9914-7978-4399-B70C-257507B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4D5-EBE8-4757-9226-EE64288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006-8626-4AA1-95E9-8122056B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2F6-D932-4E91-B2A2-8CD2931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450-5390-4402-83D3-B88B82C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E71-9BD9-4AF1-87BC-2A70144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1A3-5316-4731-9A5C-5E55B44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9B5-B1AE-4498-A3B0-17ED560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A72-A27C-4A3E-B42B-566FE6E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B4D-32E5-4338-AC79-6D83C2FE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6F4-A331-4A88-8525-DD744493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348-5A46-42EE-9B06-1BA372D8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2D3C-CD77-4FDE-9A7F-EC429437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44D-C566-4F0B-87EB-E56FEE3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A95E-9AE3-43F9-8297-C9D22A6C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4C33-2B9F-4A47-9D19-FC064E5B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4A91-3198-47F0-BDB9-A642CD0C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0D3E-019D-4FD4-9309-3EEF5BB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F369-2934-48EC-B145-9343AFD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F7A1-D620-41B4-89F2-C4C0972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B8DD-79CB-4640-9971-DE9E683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A9E1-EC80-4F14-8CBA-6BC522D9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CF8A-3A79-4E65-951C-69B2F7AC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8DCF-092E-472E-90E4-B519B8CB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F34B-9638-4B5D-9C36-27F2D85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4709-4F86-4BD5-80AC-28FC4447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EAF1-DEC9-453F-9058-90E8FE2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EBAD-5A57-4ECC-80A0-3C7EA3E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E23F-5602-4B5A-84A8-996F1EB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4152-3D28-4C8B-8C4C-C2C8F41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374C-B91C-4504-88C6-99E9F16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69DC-F165-42A1-977C-460A149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762F-D590-40BE-BEB5-2700FE3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53A5-640D-4F63-826D-6645EA80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C9A6-271D-45A1-B2F3-F65C11A9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0E7D-AAD8-4131-986D-BE8831E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D4E8-EF27-4FB9-8E2A-66E5A73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D3C3-3A2B-4330-89BE-136CEF6C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A781-48AC-42F6-B629-2FDF0A6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DA35-CF77-45B3-B35D-68A4AE9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A059-2238-4375-9C0B-00B5A40B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A08D-E9E7-4641-9C79-9FDEE14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BAC2-7259-4D33-A8C8-C085A15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C0AA-EAFD-4993-A9E7-78F795B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2AF3-97C6-417D-B5FC-6FEAAA3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22E3-63AF-41C7-8609-EA0C3787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805F-BF9E-461B-ABB9-AEEC6F09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19BE-40E9-4786-A5F0-EAA837EB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95A3-36C6-4BF5-B2CD-01ADAB93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E845-F094-40DF-84D9-D7985EA9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2536-8F8B-4A9A-A0CF-D4718B42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31EF-C35E-469B-9DC6-3DC2C98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B2ED-D4B6-4C51-A14B-CF41576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41D0-C67B-417F-A090-8E29133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8A9A-BCE6-4FB1-9642-71F91970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1B2BC-8EA9-4F6D-81A0-FCD1FFC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F025-C80D-4C58-B24B-FBB9BE3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3013-64C6-4137-BAD2-E8A5D38D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A503-A73B-4F47-906D-3F90B939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8DB01-76C1-4E75-A19F-C72D2DE3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17A9-D7E6-4937-B8EF-520D6604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C004-9645-474E-8EE9-856442E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C971-A9A8-4C66-870A-599036C0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BD6DA-1C94-4F91-AF47-978DCB77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D0E4-86F7-4844-AFAE-30B7E61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4929-870C-455D-BFFD-A4885F9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217D-5D15-4CFA-A914-CC77B37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2BBA-A0D5-495F-947F-31446A3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A5F5-4156-495F-B226-B690EB39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BB42-6D3F-4E42-A909-91A9A751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54C8-7823-46FF-886B-A88DD1B9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CF7D-45D0-4686-B4A6-309401C0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54B7-2217-40C5-9B59-50D6FD8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2EF9-C893-407E-A9DB-840537A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BB94-0A9C-4E1D-A3BF-E3DCB0DD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14A95-9F3D-45F3-AA95-718FFE5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73805-D13B-44A6-8FF5-392AE31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B166-998D-4AB6-ABCE-0D34CFB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115A7-F246-4C08-BE1E-6077B9D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BA26-2C87-44AC-8E45-B69886F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F5A2-4CBB-45D1-A3A8-0A6D8E9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B6E4-692E-4726-9EA9-B085D11C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3C104-E45A-4989-9AF8-0B43863C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7A69-EE63-46AE-8406-C5C2A518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2D426-2B79-4FD8-943A-3C06331D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0779-EAF4-4490-B056-C6D90628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551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23A7F-9B80-4FF0-B03F-ED279A2887F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12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E0F49-672F-41E1-9E20-DD6436E1704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73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FDF34-7C17-4C54-B385-2AC5FE228DE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1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69001-0585-4EBF-B60D-88D3462D473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124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151E-3EAB-476C-9F63-42A06814272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185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0E66D-E30C-410B-88DC-E7CA85D9E13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246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BEB83-55D4-4C64-925E-AF4C8B012CE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07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47A4A-7207-42AE-BBFF-60E4298D82A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68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0F25-1C43-4A84-8E1A-3297B6D6013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429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20F7A-F1D6-41E2-96D2-AF57DF931D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490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344680" y="4611600"/>
              <a:ext cx="7991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5270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45F97-EBB4-4850-B6CC-F64B68338C8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3:00Z</dcterms:modified>
  <cp:revision>4</cp:revision>
  <dc:subject/>
  <dc:title>PowerPoint プレゼンテーション</dc:title>
</cp:coreProperties>
</file>