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609560" y="619200"/>
            <a:ext cx="7473960" cy="6319800"/>
            <a:chOff x="1609560" y="619200"/>
            <a:chExt cx="7473960" cy="6319800"/>
          </a:xfrm>
        </p:grpSpPr>
        <p:grpSp>
          <p:nvGrpSpPr>
            <p:cNvPr id="1" name="Group 296"/>
            <p:cNvGrpSpPr/>
            <p:nvPr/>
          </p:nvGrpSpPr>
          <p:grpSpPr>
            <a:xfrm>
              <a:off x="1609560" y="6481800"/>
              <a:ext cx="457200" cy="456840"/>
              <a:chOff x="1609560" y="6481800"/>
              <a:chExt cx="457200" cy="456840"/>
            </a:xfrm>
          </p:grpSpPr>
          <p:sp>
            <p:nvSpPr>
              <p:cNvPr id="2" name="Shape 6"/>
              <p:cNvSpPr/>
              <p:nvPr/>
            </p:nvSpPr>
            <p:spPr>
              <a:xfrm>
                <a:off x="160956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Shape 7"/>
              <p:cNvSpPr/>
              <p:nvPr/>
            </p:nvSpPr>
            <p:spPr>
              <a:xfrm>
                <a:off x="160956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297"/>
            <p:cNvGrpSpPr/>
            <p:nvPr/>
          </p:nvGrpSpPr>
          <p:grpSpPr>
            <a:xfrm>
              <a:off x="1609560" y="619200"/>
              <a:ext cx="457200" cy="456840"/>
              <a:chOff x="1609560" y="619200"/>
              <a:chExt cx="457200" cy="456840"/>
            </a:xfrm>
          </p:grpSpPr>
          <p:sp>
            <p:nvSpPr>
              <p:cNvPr id="5" name="Shape 8"/>
              <p:cNvSpPr/>
              <p:nvPr/>
            </p:nvSpPr>
            <p:spPr>
              <a:xfrm>
                <a:off x="160956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0"/>
                    </a:moveTo>
                    <a:lnTo>
                      <a:pt x="342900" y="457199"/>
                    </a:lnTo>
                    <a:lnTo>
                      <a:pt x="0" y="4571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Shape 9"/>
              <p:cNvSpPr/>
              <p:nvPr/>
            </p:nvSpPr>
            <p:spPr>
              <a:xfrm>
                <a:off x="160956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0"/>
                    </a:moveTo>
                    <a:lnTo>
                      <a:pt x="457200" y="342899"/>
                    </a:lnTo>
                    <a:lnTo>
                      <a:pt x="0" y="3428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" name="Group 298"/>
            <p:cNvGrpSpPr/>
            <p:nvPr/>
          </p:nvGrpSpPr>
          <p:grpSpPr>
            <a:xfrm>
              <a:off x="8626320" y="619200"/>
              <a:ext cx="457200" cy="456840"/>
              <a:chOff x="8626320" y="619200"/>
              <a:chExt cx="457200" cy="456840"/>
            </a:xfrm>
          </p:grpSpPr>
          <p:sp>
            <p:nvSpPr>
              <p:cNvPr id="8" name="Shape 10"/>
              <p:cNvSpPr/>
              <p:nvPr/>
            </p:nvSpPr>
            <p:spPr>
              <a:xfrm>
                <a:off x="874044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457199"/>
                    </a:moveTo>
                    <a:lnTo>
                      <a:pt x="0" y="4571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Shape 11"/>
              <p:cNvSpPr/>
              <p:nvPr/>
            </p:nvSpPr>
            <p:spPr>
              <a:xfrm>
                <a:off x="862632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342899"/>
                    </a:moveTo>
                    <a:lnTo>
                      <a:pt x="0" y="3428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Group 299"/>
            <p:cNvGrpSpPr/>
            <p:nvPr/>
          </p:nvGrpSpPr>
          <p:grpSpPr>
            <a:xfrm>
              <a:off x="8626320" y="6481800"/>
              <a:ext cx="457200" cy="456840"/>
              <a:chOff x="8626320" y="6481800"/>
              <a:chExt cx="457200" cy="456840"/>
            </a:xfrm>
          </p:grpSpPr>
          <p:sp>
            <p:nvSpPr>
              <p:cNvPr id="11" name="Shape 12"/>
              <p:cNvSpPr/>
              <p:nvPr/>
            </p:nvSpPr>
            <p:spPr>
              <a:xfrm>
                <a:off x="874044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Shape 13"/>
              <p:cNvSpPr/>
              <p:nvPr/>
            </p:nvSpPr>
            <p:spPr>
              <a:xfrm>
                <a:off x="862632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Group 300"/>
            <p:cNvGrpSpPr/>
            <p:nvPr/>
          </p:nvGrpSpPr>
          <p:grpSpPr>
            <a:xfrm>
              <a:off x="1609560" y="3321720"/>
              <a:ext cx="304560" cy="914040"/>
              <a:chOff x="1609560" y="3321720"/>
              <a:chExt cx="304560" cy="914040"/>
            </a:xfrm>
          </p:grpSpPr>
          <p:sp>
            <p:nvSpPr>
              <p:cNvPr id="14" name="Shape 14"/>
              <p:cNvSpPr/>
              <p:nvPr/>
            </p:nvSpPr>
            <p:spPr>
              <a:xfrm>
                <a:off x="160956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Shape 15"/>
              <p:cNvSpPr/>
              <p:nvPr/>
            </p:nvSpPr>
            <p:spPr>
              <a:xfrm>
                <a:off x="18381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0"/>
                    </a:moveTo>
                    <a:lnTo>
                      <a:pt x="0" y="91447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Group 301"/>
            <p:cNvGrpSpPr/>
            <p:nvPr/>
          </p:nvGrpSpPr>
          <p:grpSpPr>
            <a:xfrm>
              <a:off x="8778600" y="3321720"/>
              <a:ext cx="304560" cy="914040"/>
              <a:chOff x="8778600" y="3321720"/>
              <a:chExt cx="304560" cy="914040"/>
            </a:xfrm>
          </p:grpSpPr>
          <p:sp>
            <p:nvSpPr>
              <p:cNvPr id="17" name="Shape 16"/>
              <p:cNvSpPr/>
              <p:nvPr/>
            </p:nvSpPr>
            <p:spPr>
              <a:xfrm>
                <a:off x="877860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Shape 17"/>
              <p:cNvSpPr/>
              <p:nvPr/>
            </p:nvSpPr>
            <p:spPr>
              <a:xfrm>
                <a:off x="88545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91447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Group 302"/>
            <p:cNvGrpSpPr/>
            <p:nvPr/>
          </p:nvGrpSpPr>
          <p:grpSpPr>
            <a:xfrm>
              <a:off x="4889160" y="619200"/>
              <a:ext cx="914400" cy="304560"/>
              <a:chOff x="4889160" y="619200"/>
              <a:chExt cx="914400" cy="304560"/>
            </a:xfrm>
          </p:grpSpPr>
          <p:sp>
            <p:nvSpPr>
              <p:cNvPr id="20" name="Shape 18"/>
              <p:cNvSpPr/>
              <p:nvPr/>
            </p:nvSpPr>
            <p:spPr>
              <a:xfrm>
                <a:off x="4889160" y="8478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0" y="0"/>
                    </a:moveTo>
                    <a:lnTo>
                      <a:pt x="91431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Shape 19"/>
              <p:cNvSpPr/>
              <p:nvPr/>
            </p:nvSpPr>
            <p:spPr>
              <a:xfrm>
                <a:off x="5346360" y="6192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9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Group 303"/>
            <p:cNvGrpSpPr/>
            <p:nvPr/>
          </p:nvGrpSpPr>
          <p:grpSpPr>
            <a:xfrm>
              <a:off x="4889160" y="6634440"/>
              <a:ext cx="914400" cy="304560"/>
              <a:chOff x="4889160" y="6634440"/>
              <a:chExt cx="914400" cy="304560"/>
            </a:xfrm>
          </p:grpSpPr>
          <p:sp>
            <p:nvSpPr>
              <p:cNvPr id="23" name="Shape 20"/>
              <p:cNvSpPr/>
              <p:nvPr/>
            </p:nvSpPr>
            <p:spPr>
              <a:xfrm>
                <a:off x="4889160" y="6710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914311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Shape 21"/>
              <p:cNvSpPr/>
              <p:nvPr/>
            </p:nvSpPr>
            <p:spPr>
              <a:xfrm>
                <a:off x="5346360" y="6634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6"/>
          <p:cNvGrpSpPr/>
          <p:nvPr/>
        </p:nvGrpSpPr>
        <p:grpSpPr>
          <a:xfrm>
            <a:off x="1609560" y="619200"/>
            <a:ext cx="7473960" cy="6319800"/>
            <a:chOff x="1609560" y="619200"/>
            <a:chExt cx="7473960" cy="6319800"/>
          </a:xfrm>
        </p:grpSpPr>
        <p:grpSp>
          <p:nvGrpSpPr>
            <p:cNvPr id="62" name="Group 296"/>
            <p:cNvGrpSpPr/>
            <p:nvPr/>
          </p:nvGrpSpPr>
          <p:grpSpPr>
            <a:xfrm>
              <a:off x="1609560" y="6481800"/>
              <a:ext cx="457200" cy="456840"/>
              <a:chOff x="1609560" y="6481800"/>
              <a:chExt cx="457200" cy="456840"/>
            </a:xfrm>
          </p:grpSpPr>
          <p:sp>
            <p:nvSpPr>
              <p:cNvPr id="63" name="Shape 6"/>
              <p:cNvSpPr/>
              <p:nvPr/>
            </p:nvSpPr>
            <p:spPr>
              <a:xfrm>
                <a:off x="160956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Shape 7"/>
              <p:cNvSpPr/>
              <p:nvPr/>
            </p:nvSpPr>
            <p:spPr>
              <a:xfrm>
                <a:off x="160956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Group 297"/>
            <p:cNvGrpSpPr/>
            <p:nvPr/>
          </p:nvGrpSpPr>
          <p:grpSpPr>
            <a:xfrm>
              <a:off x="1609560" y="619200"/>
              <a:ext cx="457200" cy="456840"/>
              <a:chOff x="1609560" y="619200"/>
              <a:chExt cx="457200" cy="456840"/>
            </a:xfrm>
          </p:grpSpPr>
          <p:sp>
            <p:nvSpPr>
              <p:cNvPr id="66" name="Shape 8"/>
              <p:cNvSpPr/>
              <p:nvPr/>
            </p:nvSpPr>
            <p:spPr>
              <a:xfrm>
                <a:off x="160956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0"/>
                    </a:moveTo>
                    <a:lnTo>
                      <a:pt x="342900" y="457199"/>
                    </a:lnTo>
                    <a:lnTo>
                      <a:pt x="0" y="4571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Shape 9"/>
              <p:cNvSpPr/>
              <p:nvPr/>
            </p:nvSpPr>
            <p:spPr>
              <a:xfrm>
                <a:off x="160956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0"/>
                    </a:moveTo>
                    <a:lnTo>
                      <a:pt x="457200" y="342899"/>
                    </a:lnTo>
                    <a:lnTo>
                      <a:pt x="0" y="3428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Group 298"/>
            <p:cNvGrpSpPr/>
            <p:nvPr/>
          </p:nvGrpSpPr>
          <p:grpSpPr>
            <a:xfrm>
              <a:off x="8626320" y="619200"/>
              <a:ext cx="457200" cy="456840"/>
              <a:chOff x="8626320" y="619200"/>
              <a:chExt cx="457200" cy="456840"/>
            </a:xfrm>
          </p:grpSpPr>
          <p:sp>
            <p:nvSpPr>
              <p:cNvPr id="69" name="Shape 10"/>
              <p:cNvSpPr/>
              <p:nvPr/>
            </p:nvSpPr>
            <p:spPr>
              <a:xfrm>
                <a:off x="874044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457199"/>
                    </a:moveTo>
                    <a:lnTo>
                      <a:pt x="0" y="4571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Shape 11"/>
              <p:cNvSpPr/>
              <p:nvPr/>
            </p:nvSpPr>
            <p:spPr>
              <a:xfrm>
                <a:off x="862632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342899"/>
                    </a:moveTo>
                    <a:lnTo>
                      <a:pt x="0" y="3428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Group 299"/>
            <p:cNvGrpSpPr/>
            <p:nvPr/>
          </p:nvGrpSpPr>
          <p:grpSpPr>
            <a:xfrm>
              <a:off x="8626320" y="6481800"/>
              <a:ext cx="457200" cy="456840"/>
              <a:chOff x="8626320" y="6481800"/>
              <a:chExt cx="457200" cy="456840"/>
            </a:xfrm>
          </p:grpSpPr>
          <p:sp>
            <p:nvSpPr>
              <p:cNvPr id="72" name="Shape 12"/>
              <p:cNvSpPr/>
              <p:nvPr/>
            </p:nvSpPr>
            <p:spPr>
              <a:xfrm>
                <a:off x="874044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Shape 13"/>
              <p:cNvSpPr/>
              <p:nvPr/>
            </p:nvSpPr>
            <p:spPr>
              <a:xfrm>
                <a:off x="862632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Group 300"/>
            <p:cNvGrpSpPr/>
            <p:nvPr/>
          </p:nvGrpSpPr>
          <p:grpSpPr>
            <a:xfrm>
              <a:off x="1609560" y="3321720"/>
              <a:ext cx="304560" cy="914040"/>
              <a:chOff x="1609560" y="3321720"/>
              <a:chExt cx="304560" cy="914040"/>
            </a:xfrm>
          </p:grpSpPr>
          <p:sp>
            <p:nvSpPr>
              <p:cNvPr id="75" name="Shape 14"/>
              <p:cNvSpPr/>
              <p:nvPr/>
            </p:nvSpPr>
            <p:spPr>
              <a:xfrm>
                <a:off x="160956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Shape 15"/>
              <p:cNvSpPr/>
              <p:nvPr/>
            </p:nvSpPr>
            <p:spPr>
              <a:xfrm>
                <a:off x="18381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0"/>
                    </a:moveTo>
                    <a:lnTo>
                      <a:pt x="0" y="91447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301"/>
            <p:cNvGrpSpPr/>
            <p:nvPr/>
          </p:nvGrpSpPr>
          <p:grpSpPr>
            <a:xfrm>
              <a:off x="8778600" y="3321720"/>
              <a:ext cx="304560" cy="914040"/>
              <a:chOff x="8778600" y="3321720"/>
              <a:chExt cx="304560" cy="914040"/>
            </a:xfrm>
          </p:grpSpPr>
          <p:sp>
            <p:nvSpPr>
              <p:cNvPr id="78" name="Shape 16"/>
              <p:cNvSpPr/>
              <p:nvPr/>
            </p:nvSpPr>
            <p:spPr>
              <a:xfrm>
                <a:off x="877860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Shape 17"/>
              <p:cNvSpPr/>
              <p:nvPr/>
            </p:nvSpPr>
            <p:spPr>
              <a:xfrm>
                <a:off x="88545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91447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Group 302"/>
            <p:cNvGrpSpPr/>
            <p:nvPr/>
          </p:nvGrpSpPr>
          <p:grpSpPr>
            <a:xfrm>
              <a:off x="4889160" y="619200"/>
              <a:ext cx="914400" cy="304560"/>
              <a:chOff x="4889160" y="619200"/>
              <a:chExt cx="914400" cy="304560"/>
            </a:xfrm>
          </p:grpSpPr>
          <p:sp>
            <p:nvSpPr>
              <p:cNvPr id="81" name="Shape 18"/>
              <p:cNvSpPr/>
              <p:nvPr/>
            </p:nvSpPr>
            <p:spPr>
              <a:xfrm>
                <a:off x="4889160" y="8478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0" y="0"/>
                    </a:moveTo>
                    <a:lnTo>
                      <a:pt x="91431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Shape 19"/>
              <p:cNvSpPr/>
              <p:nvPr/>
            </p:nvSpPr>
            <p:spPr>
              <a:xfrm>
                <a:off x="5346360" y="6192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9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Group 303"/>
            <p:cNvGrpSpPr/>
            <p:nvPr/>
          </p:nvGrpSpPr>
          <p:grpSpPr>
            <a:xfrm>
              <a:off x="4889160" y="6634440"/>
              <a:ext cx="914400" cy="304560"/>
              <a:chOff x="4889160" y="6634440"/>
              <a:chExt cx="914400" cy="304560"/>
            </a:xfrm>
          </p:grpSpPr>
          <p:sp>
            <p:nvSpPr>
              <p:cNvPr id="84" name="Shape 20"/>
              <p:cNvSpPr/>
              <p:nvPr/>
            </p:nvSpPr>
            <p:spPr>
              <a:xfrm>
                <a:off x="4889160" y="6710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914311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Shape 21"/>
              <p:cNvSpPr/>
              <p:nvPr/>
            </p:nvSpPr>
            <p:spPr>
              <a:xfrm>
                <a:off x="5346360" y="6634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グループ化 31"/>
          <p:cNvGrpSpPr/>
          <p:nvPr/>
        </p:nvGrpSpPr>
        <p:grpSpPr>
          <a:xfrm>
            <a:off x="171360" y="963720"/>
            <a:ext cx="10520280" cy="6912000"/>
            <a:chOff x="171360" y="963720"/>
            <a:chExt cx="10520280" cy="6912000"/>
          </a:xfrm>
        </p:grpSpPr>
        <p:grpSp>
          <p:nvGrpSpPr>
            <p:cNvPr id="87" name="Group 28"/>
            <p:cNvGrpSpPr/>
            <p:nvPr/>
          </p:nvGrpSpPr>
          <p:grpSpPr>
            <a:xfrm>
              <a:off x="1952640" y="963720"/>
              <a:ext cx="6783480" cy="5630400"/>
              <a:chOff x="1952640" y="963720"/>
              <a:chExt cx="6783480" cy="5630400"/>
            </a:xfrm>
          </p:grpSpPr>
          <p:sp>
            <p:nvSpPr>
              <p:cNvPr id="88" name="Shape 6"/>
              <p:cNvSpPr/>
              <p:nvPr/>
            </p:nvSpPr>
            <p:spPr>
              <a:xfrm>
                <a:off x="1978560" y="1412280"/>
                <a:ext cx="6731640" cy="4625640"/>
              </a:xfrm>
              <a:custGeom>
                <a:avLst/>
                <a:gdLst>
                  <a:gd name="textAreaLeft" fmla="*/ 0 w 6731640"/>
                  <a:gd name="textAreaRight" fmla="*/ 6732000 w 6731640"/>
                  <a:gd name="textAreaTop" fmla="*/ 0 h 4625640"/>
                  <a:gd name="textAreaBottom" fmla="*/ 4626000 h 4625640"/>
                </a:gdLst>
                <a:ahLst/>
                <a:rect l="textAreaLeft" t="textAreaTop" r="textAreaRight" b="textAreaBottom"/>
                <a:pathLst>
                  <a:path w="6731076" h="4626204">
                    <a:moveTo>
                      <a:pt x="3365500" y="4049408"/>
                    </a:moveTo>
                    <a:cubicBezTo>
                      <a:pt x="4125443" y="4049408"/>
                      <a:pt x="4639793" y="4295471"/>
                      <a:pt x="5053978" y="4626204"/>
                    </a:cubicBezTo>
                    <a:cubicBezTo>
                      <a:pt x="5053978" y="4626204"/>
                      <a:pt x="5490693" y="4371671"/>
                      <a:pt x="5888622" y="3762070"/>
                    </a:cubicBezTo>
                    <a:cubicBezTo>
                      <a:pt x="6286563" y="3152470"/>
                      <a:pt x="6731076" y="1649400"/>
                      <a:pt x="5863222" y="815607"/>
                    </a:cubicBezTo>
                    <a:cubicBezTo>
                      <a:pt x="5014329" y="0"/>
                      <a:pt x="3616262" y="27140"/>
                      <a:pt x="3365500" y="27140"/>
                    </a:cubicBezTo>
                    <a:cubicBezTo>
                      <a:pt x="3114815" y="27140"/>
                      <a:pt x="1716748" y="0"/>
                      <a:pt x="867842" y="815607"/>
                    </a:cubicBezTo>
                    <a:cubicBezTo>
                      <a:pt x="0" y="1649400"/>
                      <a:pt x="444513" y="3152470"/>
                      <a:pt x="842442" y="3762070"/>
                    </a:cubicBezTo>
                    <a:cubicBezTo>
                      <a:pt x="1240384" y="4371671"/>
                      <a:pt x="1677086" y="4626204"/>
                      <a:pt x="1677086" y="4626204"/>
                    </a:cubicBezTo>
                    <a:cubicBezTo>
                      <a:pt x="2091284" y="4295471"/>
                      <a:pt x="2605634" y="4049408"/>
                      <a:pt x="3365500" y="4049408"/>
                    </a:cubicBezTo>
                    <a:close/>
                  </a:path>
                </a:pathLst>
              </a:custGeom>
              <a:noFill/>
              <a:ln w="6480">
                <a:solidFill>
                  <a:srgbClr val="42287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Shape 7"/>
              <p:cNvSpPr/>
              <p:nvPr/>
            </p:nvSpPr>
            <p:spPr>
              <a:xfrm>
                <a:off x="2283480" y="1691640"/>
                <a:ext cx="6122160" cy="4031640"/>
              </a:xfrm>
              <a:custGeom>
                <a:avLst/>
                <a:gdLst>
                  <a:gd name="textAreaLeft" fmla="*/ 0 w 6122160"/>
                  <a:gd name="textAreaRight" fmla="*/ 6122520 w 6122160"/>
                  <a:gd name="textAreaTop" fmla="*/ 0 h 4031640"/>
                  <a:gd name="textAreaBottom" fmla="*/ 4032000 h 4031640"/>
                </a:gdLst>
                <a:ahLst/>
                <a:rect l="textAreaLeft" t="textAreaTop" r="textAreaRight" b="textAreaBottom"/>
                <a:pathLst>
                  <a:path w="6121617" h="4032111">
                    <a:moveTo>
                      <a:pt x="5382514" y="719112"/>
                    </a:moveTo>
                    <a:cubicBezTo>
                      <a:pt x="5068431" y="417322"/>
                      <a:pt x="4628503" y="206616"/>
                      <a:pt x="4075011" y="92837"/>
                    </a:cubicBezTo>
                    <a:cubicBezTo>
                      <a:pt x="3623336" y="0"/>
                      <a:pt x="3232239" y="1041"/>
                      <a:pt x="3085008" y="1435"/>
                    </a:cubicBezTo>
                    <a:lnTo>
                      <a:pt x="3060776" y="1486"/>
                    </a:lnTo>
                    <a:lnTo>
                      <a:pt x="3036532" y="1435"/>
                    </a:lnTo>
                    <a:cubicBezTo>
                      <a:pt x="2889390" y="1041"/>
                      <a:pt x="2498281" y="0"/>
                      <a:pt x="2046618" y="92837"/>
                    </a:cubicBezTo>
                    <a:cubicBezTo>
                      <a:pt x="1493114" y="206616"/>
                      <a:pt x="1053199" y="417322"/>
                      <a:pt x="739102" y="719112"/>
                    </a:cubicBezTo>
                    <a:cubicBezTo>
                      <a:pt x="0" y="1429220"/>
                      <a:pt x="381775" y="2778849"/>
                      <a:pt x="750418" y="3343567"/>
                    </a:cubicBezTo>
                    <a:cubicBezTo>
                      <a:pt x="979412" y="3694367"/>
                      <a:pt x="1222756" y="3917201"/>
                      <a:pt x="1368095" y="4032111"/>
                    </a:cubicBezTo>
                    <a:cubicBezTo>
                      <a:pt x="1866037" y="3680575"/>
                      <a:pt x="2408923" y="3515754"/>
                      <a:pt x="3060776" y="3515754"/>
                    </a:cubicBezTo>
                    <a:cubicBezTo>
                      <a:pt x="3712693" y="3515754"/>
                      <a:pt x="4255554" y="3680562"/>
                      <a:pt x="4753496" y="4032085"/>
                    </a:cubicBezTo>
                    <a:cubicBezTo>
                      <a:pt x="4899114" y="3916973"/>
                      <a:pt x="5142332" y="3694189"/>
                      <a:pt x="5371199" y="3343567"/>
                    </a:cubicBezTo>
                    <a:cubicBezTo>
                      <a:pt x="5739841" y="2778849"/>
                      <a:pt x="6121617" y="1429220"/>
                      <a:pt x="5382514" y="719112"/>
                    </a:cubicBez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Shape 8"/>
              <p:cNvSpPr/>
              <p:nvPr/>
            </p:nvSpPr>
            <p:spPr>
              <a:xfrm>
                <a:off x="1952640" y="963720"/>
                <a:ext cx="6783480" cy="5630400"/>
              </a:xfrm>
              <a:custGeom>
                <a:avLst/>
                <a:gdLst>
                  <a:gd name="textAreaLeft" fmla="*/ 0 w 6783480"/>
                  <a:gd name="textAreaRight" fmla="*/ 6783840 w 6783480"/>
                  <a:gd name="textAreaTop" fmla="*/ 0 h 5630400"/>
                  <a:gd name="textAreaBottom" fmla="*/ 5630760 h 5630400"/>
                </a:gdLst>
                <a:ahLst/>
                <a:rect l="textAreaLeft" t="textAreaTop" r="textAreaRight" b="textAreaBottom"/>
                <a:pathLst>
                  <a:path w="6782956" h="5631117">
                    <a:moveTo>
                      <a:pt x="0" y="5631117"/>
                    </a:moveTo>
                    <a:lnTo>
                      <a:pt x="6782956" y="5631117"/>
                    </a:lnTo>
                    <a:lnTo>
                      <a:pt x="6782956" y="0"/>
                    </a:lnTo>
                    <a:lnTo>
                      <a:pt x="0" y="0"/>
                    </a:lnTo>
                    <a:lnTo>
                      <a:pt x="0" y="5631117"/>
                    </a:lnTo>
                    <a:close/>
                  </a:path>
                </a:pathLst>
              </a:custGeom>
              <a:noFill/>
              <a:ln w="6480">
                <a:solidFill>
                  <a:srgbClr val="18171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Text Box 123"/>
            <p:cNvSpPr/>
            <p:nvPr/>
          </p:nvSpPr>
          <p:spPr>
            <a:xfrm>
              <a:off x="1461960" y="7012080"/>
              <a:ext cx="7786800" cy="86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青い破線が仕上がり線（型抜き線）になります。フチなし印刷をご希望の方は、外側のトンボ（黒の破線部分）まで色や写真を配置し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うちわの型抜きをする際、天地左右で最大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Ｐゴシック"/>
                </a:rPr>
                <a:t>7mm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のズレが生じる可能性がございます。文字や絵柄で切れて困るものは、ピンクの破線内に配置し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（ピンクや青の破線、吹き出し文字等）を削除してください。また、テンプレートと同じサイズになっているか確認し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図 56" descr=""/>
            <p:cNvPicPr/>
            <p:nvPr/>
          </p:nvPicPr>
          <p:blipFill>
            <a:blip r:embed="rId2"/>
            <a:stretch/>
          </p:blipFill>
          <p:spPr>
            <a:xfrm>
              <a:off x="8762400" y="4724640"/>
              <a:ext cx="192924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121"/>
            <p:cNvSpPr/>
            <p:nvPr/>
          </p:nvSpPr>
          <p:spPr>
            <a:xfrm>
              <a:off x="242640" y="5146920"/>
              <a:ext cx="1509480" cy="879480"/>
            </a:xfrm>
            <a:prstGeom prst="wedgeRoundRectCallout">
              <a:avLst>
                <a:gd name="adj1" fmla="val 116481"/>
                <a:gd name="adj2" fmla="val -10848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122"/>
            <p:cNvSpPr/>
            <p:nvPr/>
          </p:nvSpPr>
          <p:spPr>
            <a:xfrm>
              <a:off x="242640" y="2351160"/>
              <a:ext cx="1455480" cy="841320"/>
            </a:xfrm>
            <a:prstGeom prst="wedgeRoundRectCallout">
              <a:avLst>
                <a:gd name="adj1" fmla="val 112416"/>
                <a:gd name="adj2" fmla="val -4300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122"/>
            <p:cNvSpPr/>
            <p:nvPr/>
          </p:nvSpPr>
          <p:spPr>
            <a:xfrm>
              <a:off x="171360" y="1171440"/>
              <a:ext cx="1455480" cy="841320"/>
            </a:xfrm>
            <a:prstGeom prst="wedgeRoundRectCallout">
              <a:avLst>
                <a:gd name="adj1" fmla="val 70199"/>
                <a:gd name="adj2" fmla="val -3053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7T05:10:37Z</dcterms:created>
  <dc:creator/>
  <dc:description/>
  <dc:language>en-US</dc:language>
  <cp:lastModifiedBy>HP Inc.</cp:lastModifiedBy>
  <dcterms:modified xsi:type="dcterms:W3CDTF">2021-05-20T05:55:37Z</dcterms:modified>
  <cp:revision>4</cp:revision>
  <dc:subject/>
  <dc:title>PowerPoint プレゼンテーション</dc:title>
</cp:coreProperties>
</file>