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5119350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ABB89-1BBE-46B1-9022-00679E49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8C45-6C12-4E37-A26C-287F0B88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C849-9452-4216-A84B-429CF8BE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A192-401F-4189-89BE-4C0B0B8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899B7-BB87-44AE-8A97-07BCFCBD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DD1F8-F2F9-4FA3-B1CA-046BA2B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D5E0-9E47-4A0D-9E1B-25D87873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92698-A9BE-43E7-80DF-AF75D3AC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723A-CE65-43F3-BDE1-52E600A9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21326-CA35-43CA-A897-4CA01ADD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EB910-5FCB-4D33-BAD1-E1FFF101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3EC80-DE05-49C0-9D11-ED071DC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7D9DF-DB3E-4B90-94DC-FB9BF090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4567F-9A5A-46FC-A005-4E9537A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95165-5FE2-4A6A-9118-FE19BBF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45DC9-0C05-4BB6-AD18-1CE13C5F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0ADB6-9C56-47E1-B370-A9AC02A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72387-E6CA-45A2-9087-A6A36DF7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50736-D586-4FBA-B4BA-41F8509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5890B-059B-4E8A-8D3B-FAEF0097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6EDD0-96D6-4543-9DD0-B6D61329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51C8A-2775-4C79-8DC3-AC36187A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82ADB-E844-4F51-A8DD-CA8605D1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7C8D-7A31-40C4-8F0E-DBB8A4D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332E5-BBC4-4A2B-A356-AD520326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1D4EC-98E8-4458-AAAD-D2C3714D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DC2DE-E63F-4071-9A48-94AA2B5E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5B447-84BB-4A83-8939-CD8FB4A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38739-844C-418F-A7CF-3C24503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8A836-F1C5-4BFC-ABBA-9F8DF2F4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4A0-44E0-483F-9196-7BB443B4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E3C23-0389-47F5-B09A-CF41BBFA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C91BF-2F34-4F77-89CD-30BF23FC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997F8-474A-477D-8457-D1AF3C7C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8E445-6686-4111-BDCC-2B8BCFBD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788D2-1E75-4ECF-90EE-7ACF6B8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16973-2390-4575-A98B-4846277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E318-36BE-41BD-9F59-FA32009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302B6-1AC1-4003-8E73-4038EF8C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B8CC4-E43A-471D-BCF6-2FA9BDA5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DABD9-853C-4AC9-B37C-852EBA7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71B-D657-4B01-8C40-70813932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B55DE-B8FA-4E65-A841-9992DAC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24FE9-231C-4402-8595-E0F29E86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5779D-1EC1-45DE-8D9E-7EF6D05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932C5-5050-45D6-97CC-7F4ECC42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91237-8029-407E-9D5E-7A348279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0CB-0A68-44D4-82DD-60D59844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17C-8E85-4094-B6EA-8D356780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B0B-4D85-438F-A40D-563FA5C4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7DC-2E37-409F-B146-EA87C9C6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C16-F64D-44F8-A7CC-6DC9BD2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053-E87F-4A52-9815-563518C6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62B-ECB1-4197-8D4D-F8398789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5F7-3AB7-45E3-A794-E4694E1F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27D-58A9-45A3-AAAA-B99ED75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214-6E3C-4EA4-B610-308BA28E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397-69BD-4048-A641-63B19171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1717-1D76-4823-928E-1B384F47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7210-00EF-49B6-98E4-E9E119E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C10E-17E9-4020-B4E9-9DE6B52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B43E-7A96-4645-BFF0-EB2A7A30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F786-C4ED-4C93-9841-A5B34282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571-AB82-4ACB-A102-CB64823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D1F2-9041-4F45-AFF3-1842620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33B7-CCDC-475D-A94E-6DD7C9B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428C-2893-4077-86DE-C70599E3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82B-C59F-4558-80A6-92A8AAFF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7409-29D1-48E5-9740-21E6C501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0548-5F80-45E6-B600-A6C7FBE6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5F42-5541-4917-B55B-73AE9B8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74F9-E884-4BB6-8E97-724453F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D360-85C0-4C2E-8FE8-67049DEA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3AB5-F99E-4C7E-A9D2-1318D1AF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3B0F-221E-47CD-80DE-5C0FA28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EA6B-4295-4FAD-8B29-D45B9B9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C42D-50E8-4A8E-872C-D704CF0A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8B7F-96E6-40FA-BC7A-74A944C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4C6F-E313-4D0E-B80D-87943B93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ADA2-BE3A-41E6-8853-331EE7F2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6C46-4C0A-4425-B9D7-C322D2A9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2162-C1F4-4DAE-AF15-33BBC588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7479-4C7A-4FFD-A503-25466A47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B409-982D-4E2A-931C-84142FA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ADAD-55D5-45EE-9089-B5A5EC1D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1175-4C39-4002-8A83-9F33EA89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8DE17-D9F8-4965-A720-68CE954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2C99-4044-4013-9BF1-35CEAA0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2F0E-617B-4F00-8D47-64194E3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978E-E70C-4A8F-97CF-FE5838C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557B-E25F-4786-9339-8729245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3D0D-1943-49B6-B67F-3EF81CB3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313A-491A-4D04-8D98-C4D1FEA0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8FD8-AE95-4B0B-94DE-1F622B35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A69B-4E43-4AE6-964D-6DAF5BF3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EB9D6-FE50-4D14-B4CA-7A736464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8F1B-2BAF-413B-839F-C3F44681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30D6D-4112-4269-95EF-31B8BF7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7520-7321-4D0C-A4C6-09AD8355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07E58-6843-48B9-A308-C066CED0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E611-CC22-4056-A09A-C69FEE2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50D4-56E1-4CB4-AF3A-3576308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F36C-9005-483A-BCEB-3C26613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91BA2-14D8-43F1-9B62-A89403D3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8738-03AD-45C7-A229-C0BDC7CE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9666C-3282-44CF-BBD0-473195E4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8F5B-E84F-4BB0-BA8D-ED7C58C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C9E74-E8BB-479F-A9A5-22009BDB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A9B4-2BD7-434E-BF63-FDE0B83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1E545-9D0B-4FE2-9B18-44716260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580BC-BA89-4774-AC9F-BB0D2B50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65810-C1C0-40FA-B44C-EF61359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EB8F9-35C0-40A3-BEC4-030B1D8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BE77-4BB1-4663-B9E2-51B7AA2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CB5D-8E49-464E-AB5E-59CDE70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54FE9-CBB5-4DF2-B16B-443F6856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8903-933E-4FDE-AAC1-07A25272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4B911-0950-41F3-BFCE-E1699073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B65CF-BD37-49C7-9A06-1AD3E6D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183E-04D1-49E4-BD6F-1E200BE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A5CFC-FC7A-4243-B4A2-AABB6E84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38D4-5D55-4143-8181-27F65AB3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3CCA-948F-47B3-A767-042A3B6E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9A4B6-A897-46DA-B3CE-B887C8ED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B209-A583-4F6F-AE2E-4E20A49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F09C-D52E-46F2-AF31-07761B5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A54D-67D4-4FA0-B1DA-398AC03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1D19-6076-4298-A5F8-D5551CF5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D616-04CE-43B6-8CBF-71F041A8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57B3B-9015-4B32-9FAF-2FCA16A5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9566C-5052-470B-9FE2-D2FDF71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2FC33-47F5-4BB9-BC6A-3E4CB26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3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551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4D493-F9CD-467E-A851-0C7CA91C911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612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F9710-F51A-418E-9D67-FD089916476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673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C671B-7220-46C7-A029-7648F06926F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61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7CD96-D401-4B1F-B79F-FD6D2CEE21A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124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D91D7-0A8E-4E53-B35E-9A6CAF462DD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185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B2A9C-214E-441C-A913-8B6175471E4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246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3CB7C-3AAE-481F-B617-ADBB7960408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307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7569F-CE01-4F78-B6C1-B44E596E9F1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368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4F882-5317-49E6-9151-F17844F22C3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429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CC158-F461-4B14-BD55-26A612A03B3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490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6743880" y="34128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C1D7D-9045-46F5-8A0B-59151518A0C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7:38:35Z</dcterms:created>
  <dc:creator>柴田宏</dc:creator>
  <dc:description/>
  <dc:language>en-US</dc:language>
  <cp:lastModifiedBy>宏 柴田</cp:lastModifiedBy>
  <dcterms:modified xsi:type="dcterms:W3CDTF">2021-02-05T06:33:55Z</dcterms:modified>
  <cp:revision>3</cp:revision>
  <dc:subject/>
  <dc:title>PowerPoint プレゼンテーション</dc:title>
</cp:coreProperties>
</file>