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5119350" cy="106918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2813-3250-458B-8F8F-4BF87D8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D3B73-7655-4880-9987-5FEA34C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C776E-C65F-48B8-A2E0-EF150DA4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B8D03-A6A9-470E-9CEC-0D60380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4CE62-600C-4EE4-9D9E-2A13BC6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A1D3-3B19-48CF-9321-5587292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67BD-DF93-41A6-BB6F-2ADFBD77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524D-17AF-4254-95F2-A261D75E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F1CB1-EFF4-4093-B784-113ABEB4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E3FCC-064D-48AE-AB77-6D31AA52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B2FB3-A635-4D75-A36F-249CDC0A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189D-5017-4BC0-9B39-D35B626B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93ED8-C9D0-47AA-BE1F-9A20579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B1755-6B42-48B2-8727-1097822A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3C9D6-D640-4734-8642-F435518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C8E6F-9016-4EA3-A15A-1434CB8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A4EDA-0FBF-45B0-8E08-8F7C4B3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1BF64-063B-4896-80CF-138AFBDD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AA5C7-0B80-4789-99BB-7A8F1C7E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60C0F-792E-4F6D-95A5-F3637D1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F4B6B-8BE0-4191-8ECA-549D759F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0D375-57D6-4AD0-85A3-4541D52A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F10D-49C1-45BF-8600-25071C51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AF34-BCEA-4104-A9CE-BF7AFCA3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66094-578D-491D-AB55-937599A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4A4F7-547D-404E-809B-110C7CD2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4AE0D-854F-47D0-98F5-43D9DFAC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4F8BB-9026-4707-A75C-C00A58B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DDB77-23D5-4C5D-9A48-FB0E6BB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DA7F2-4BED-4976-A2A1-6B9CE1E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568-A3A3-4C5E-99A8-64F03F79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E077E-9BE7-486B-BC6D-F838378C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2FE4C-7D76-4F4A-B19A-F7FCA911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78B37-EB2F-4E16-BACE-520C7F14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DDDCC-CB45-4B07-AEED-49ADB20C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355B9-F708-4D14-9E9C-67A9DEC0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DE79F-F678-4B52-ADD9-DCB4712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79A0-FF1C-4A25-8442-F9C9B0D9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41F94-2224-4341-A2E8-A7328199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D1AAD-5FFB-4029-9EC5-55EFD0FD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0D542-C2E8-4E70-8458-747952EB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DA9-2DD5-4648-B858-1ED00563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D2BB-1108-4C34-9112-86E3422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BB740-77FD-4596-A5F9-F6AC9D76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C76CF-EADA-4F5F-9CF9-5E160581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28B6B-24E1-48FB-B3E1-5BFD337A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8AAD9-7BCD-4266-B91A-015CD491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48B-B5B7-4397-878A-18C105E4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3DD-7EDD-4875-8A02-47DE16DC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61E-FB32-4848-9D69-246AF507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560-5532-4355-9909-B4D085B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4AF-1C53-4348-ADCE-BEF240D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0D6-80B2-4E35-A178-4AF36AE5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902-8B58-4ACB-8601-A33FF8E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72F-9D2C-4AE1-A0FE-90FD4BC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665-5990-4121-AE3A-EE5E6224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E35-446F-407A-AFD3-74A40BBF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3B6-9FC8-4EA5-ADED-44024197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AC55-B0D7-4366-93D7-046D9B3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267-F8BC-44E3-AE4B-94454B10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FA2-244F-471C-B23D-9F09293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3083-75E7-4DE9-8E2B-D1B7BC0D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4741-E8A2-488B-BEA6-AF076FF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D2C8-1552-47AD-A467-EF410066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DB9B-55D1-436A-9B2C-3EDC9AD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F36F-74A4-4E2E-AB73-02D33423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48F-E1E0-4150-8986-31875B3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4E23-4532-49B9-9611-254B5E46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6DE5-F086-45A7-8EBE-01BB027F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C587-10BF-4585-82E2-A2AE89F7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2008-A93E-4141-86E9-9056EC6E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D4D6-48B7-4373-925A-486C002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0787-D7FB-460A-AC5F-06EE3820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59A2-48FF-4FE0-918A-7D16E28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E05F-304A-42F6-9DC9-7AE16306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3B80-DCED-4164-8488-E0BE1AD1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D14E-4533-4DFF-8E34-7440260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B3E7-8732-409F-A396-A6532DE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287F-15FA-4BE6-A97D-FE1C0314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04BB-A8F7-43E4-8632-9263D78B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C043D-A0A6-48B4-954A-3DE675F1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C034-4014-4948-B937-B9810877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7BCF-6FA5-49D9-BA66-B31199E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7BA3-1949-4BF0-B11C-068796F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E52A-4E0B-4EFD-A7E0-06421F1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ABD9-AA7E-4983-951E-80EA2B27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BE03-284C-408F-BCD3-05B46629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EF39B-5A36-4F55-B6CE-BB580BF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ABFA-8095-4022-96E6-3EEA701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43824-D163-4E40-A6CD-0C39638A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3355-877E-4609-9D90-40F280E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AEF0-4F3C-447D-BE26-2E40BA63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11CD-28AE-464B-AC7D-7CB24ED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88FEE-79A3-450E-8660-A0585666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3DFD-6673-48C5-BA8C-D97631D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5129-0F34-4820-8381-9E213C64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73DA-6D66-403E-9BD8-A26FF17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4C4F-B301-41A5-9A53-03D68D0D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0C9D-B64D-4079-A884-76BE65E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5463-B35C-47F2-839E-20D939F7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3E5F-8959-4E25-A1A6-E28BC79B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0178-F69C-47A9-B3D2-1F3D5A8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C536-D783-43F4-9C5C-3056234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76C8-A359-479D-ADEE-002E2BAB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B9F4-8CC6-4741-AF8D-2063F59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E2586-495D-4F1B-9E60-BA032F43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904E1-F670-4550-BBA7-D234ECAC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108B-BECD-4954-A381-9FA3431C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F6E2A-B8E0-4BC8-AC00-3AFA5E7A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BB77-A13E-4068-A428-E2517CD2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298C8-912A-43D9-82F4-EA27ED8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B4664-5F36-4281-B72B-27043049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3815-3081-4C91-A608-F8FF711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AF4BC-E260-4FCC-972E-8A660A1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3EA8C-A94B-4BC9-B43E-58116AA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9997-E846-4160-B503-AD092A62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1AD55-5752-4025-9DF9-8476D033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A9F3-34C0-4315-835A-9F969B62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BD6B-A9A7-464F-AEC7-A8423FE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D803-68B1-460F-8298-C057D791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79FF-8D37-4ABB-B4D1-20E1C759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F714-C6E0-4D6F-8028-8DE7AAC1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07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B174-AA56-414A-9015-C0E5A343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83C45-3191-4D61-A437-09982CC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43217-B342-4B6E-B576-75135FE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80F2-C262-4D5A-ADCF-5EC8109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07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B69B-4BDE-4E89-AC21-94B1A55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7728480" y="250164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7728480" y="5740920"/>
            <a:ext cx="66402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577E-A81F-4C6D-B68A-0C8B459A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571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57960" y="250164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3571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9957960" y="5740920"/>
            <a:ext cx="438156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2794-BE35-4D64-BD56-504CED8E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BE6B7-9E1C-4A18-B3D8-C9E01E59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F265A-9365-4844-8D2C-DCC4908B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C943-91C8-4F87-A3F3-583388B5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551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F960C-7E21-43D0-B674-69D214005D9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12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F1B4D-6875-49D4-84AA-06D8F284E57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73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1C650-9C71-4D84-929B-E8E7BA7D8E5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61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2C3E9-34F3-48E4-9126-F910DFA1593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07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07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124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CF599-F178-4E86-8075-5984F82D319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185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4A054-BEEE-42C4-96E3-D56E1C43662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246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73DE0-5446-44D8-A08F-71868E5AAC7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07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9DE4AD-E6DF-44BE-A998-C9726B6BD3F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368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EEAE2-47E3-4D2F-B348-A252C669637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429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5F3A7-19C3-4EE7-896E-A0E65BF5AB9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13115880" y="58356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317680" y="962676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792440" y="1143000"/>
            <a:ext cx="11534760" cy="8378640"/>
            <a:chOff x="1792440" y="1143000"/>
            <a:chExt cx="11534760" cy="8378640"/>
          </a:xfrm>
        </p:grpSpPr>
        <p:sp>
          <p:nvSpPr>
            <p:cNvPr id="490" name="Line 22"/>
            <p:cNvSpPr/>
            <p:nvPr/>
          </p:nvSpPr>
          <p:spPr>
            <a:xfrm>
              <a:off x="1792440" y="1452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1792440" y="15602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1792440" y="534348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792440" y="9131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792440" y="9239040"/>
              <a:ext cx="11534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>
              <a:off x="2106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>
              <a:off x="22147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>
              <a:off x="755028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>
              <a:off x="1290636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>
              <a:off x="13011120" y="1143000"/>
              <a:ext cx="0" cy="837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2103480" y="1452240"/>
              <a:ext cx="10904400" cy="7782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>
            <a:off x="2317680" y="166860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2216160" y="1569960"/>
            <a:ext cx="10688760" cy="756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879480" y="353052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879480" y="238140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7346880" y="959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7321680" y="809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13204800" y="371808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31" descr=""/>
          <p:cNvPicPr/>
          <p:nvPr/>
        </p:nvPicPr>
        <p:blipFill>
          <a:blip r:embed="rId3"/>
          <a:stretch/>
        </p:blipFill>
        <p:spPr>
          <a:xfrm>
            <a:off x="6743880" y="317520"/>
            <a:ext cx="141732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103968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5008320" y="9909000"/>
            <a:ext cx="510228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10677600" y="9909000"/>
            <a:ext cx="34020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3752A-0FCE-479D-9C26-71565ED00A9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7:38:35Z</dcterms:created>
  <dc:creator>柴田宏</dc:creator>
  <dc:description/>
  <dc:language>en-US</dc:language>
  <cp:lastModifiedBy>宏 柴田</cp:lastModifiedBy>
  <dcterms:modified xsi:type="dcterms:W3CDTF">2021-02-05T06:34:02Z</dcterms:modified>
  <cp:revision>2</cp:revision>
  <dc:subject/>
  <dc:title>PowerPoint プレゼンテーション</dc:title>
</cp:coreProperties>
</file>