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10080625" cy="100806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4000" y="402120"/>
            <a:ext cx="907164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4000" y="2358720"/>
            <a:ext cx="907164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4000" y="5412240"/>
            <a:ext cx="907164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4000" y="402120"/>
            <a:ext cx="907164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04000" y="2358720"/>
            <a:ext cx="442692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52680" y="2358720"/>
            <a:ext cx="442692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04000" y="5412240"/>
            <a:ext cx="442692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5152680" y="5412240"/>
            <a:ext cx="442692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4000" y="402120"/>
            <a:ext cx="907164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4000" y="2358720"/>
            <a:ext cx="292068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571200" y="2358720"/>
            <a:ext cx="292068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638040" y="2358720"/>
            <a:ext cx="292068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504000" y="5412240"/>
            <a:ext cx="292068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571200" y="5412240"/>
            <a:ext cx="292068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638040" y="5412240"/>
            <a:ext cx="292068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4000" y="402120"/>
            <a:ext cx="907164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504000" y="2358720"/>
            <a:ext cx="9071640" cy="58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4000" y="402120"/>
            <a:ext cx="907164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4000" y="2358720"/>
            <a:ext cx="9071640" cy="58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4000" y="402120"/>
            <a:ext cx="907164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4000" y="2358720"/>
            <a:ext cx="4426920" cy="58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52680" y="2358720"/>
            <a:ext cx="4426920" cy="58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000" y="402120"/>
            <a:ext cx="907164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504000" y="402120"/>
            <a:ext cx="9071640" cy="780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000" y="402120"/>
            <a:ext cx="907164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000" y="2358720"/>
            <a:ext cx="442692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2680" y="2358720"/>
            <a:ext cx="4426920" cy="58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4000" y="5412240"/>
            <a:ext cx="442692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4000" y="402120"/>
            <a:ext cx="907164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504000" y="2358720"/>
            <a:ext cx="9071640" cy="58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000" y="402120"/>
            <a:ext cx="907164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000" y="2358720"/>
            <a:ext cx="4426920" cy="58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152680" y="2358720"/>
            <a:ext cx="442692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152680" y="5412240"/>
            <a:ext cx="442692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4000" y="402120"/>
            <a:ext cx="907164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04000" y="2358720"/>
            <a:ext cx="442692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152680" y="2358720"/>
            <a:ext cx="442692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04000" y="5412240"/>
            <a:ext cx="907164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4000" y="402120"/>
            <a:ext cx="907164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4000" y="2358720"/>
            <a:ext cx="907164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04000" y="5412240"/>
            <a:ext cx="907164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000" y="402120"/>
            <a:ext cx="907164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000" y="2358720"/>
            <a:ext cx="442692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152680" y="2358720"/>
            <a:ext cx="442692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04000" y="5412240"/>
            <a:ext cx="442692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5152680" y="5412240"/>
            <a:ext cx="442692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4000" y="402120"/>
            <a:ext cx="907164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4000" y="2358720"/>
            <a:ext cx="292068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571200" y="2358720"/>
            <a:ext cx="292068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638040" y="2358720"/>
            <a:ext cx="292068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504000" y="5412240"/>
            <a:ext cx="292068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571200" y="5412240"/>
            <a:ext cx="292068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638040" y="5412240"/>
            <a:ext cx="292068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000" y="402120"/>
            <a:ext cx="907164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000" y="2358720"/>
            <a:ext cx="9071640" cy="58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4000" y="402120"/>
            <a:ext cx="907164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4000" y="2358720"/>
            <a:ext cx="4426920" cy="58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52680" y="2358720"/>
            <a:ext cx="4426920" cy="58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04000" y="402120"/>
            <a:ext cx="907164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504000" y="402120"/>
            <a:ext cx="9071640" cy="780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000" y="402120"/>
            <a:ext cx="907164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000" y="2358720"/>
            <a:ext cx="442692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2358720"/>
            <a:ext cx="4426920" cy="58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000" y="5412240"/>
            <a:ext cx="442692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4000" y="402120"/>
            <a:ext cx="907164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04000" y="2358720"/>
            <a:ext cx="4426920" cy="58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152680" y="2358720"/>
            <a:ext cx="442692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152680" y="5412240"/>
            <a:ext cx="442692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4000" y="402120"/>
            <a:ext cx="907164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04000" y="2358720"/>
            <a:ext cx="442692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2358720"/>
            <a:ext cx="442692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504000" y="5412240"/>
            <a:ext cx="907164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TL"/>
          <p:cNvGrpSpPr/>
          <p:nvPr/>
        </p:nvGrpSpPr>
        <p:grpSpPr>
          <a:xfrm>
            <a:off x="1081080" y="1079640"/>
            <a:ext cx="358920" cy="360360"/>
            <a:chOff x="1081080" y="1079640"/>
            <a:chExt cx="358920" cy="360360"/>
          </a:xfrm>
        </p:grpSpPr>
        <p:grpSp>
          <p:nvGrpSpPr>
            <p:cNvPr id="1" name="グループ化 3"/>
            <p:cNvGrpSpPr/>
            <p:nvPr/>
          </p:nvGrpSpPr>
          <p:grpSpPr>
            <a:xfrm>
              <a:off x="1081080" y="1332000"/>
              <a:ext cx="250920" cy="108000"/>
              <a:chOff x="1081080" y="1332000"/>
              <a:chExt cx="250920" cy="108000"/>
            </a:xfrm>
          </p:grpSpPr>
          <p:sp>
            <p:nvSpPr>
              <p:cNvPr id="2" name="直線コネクタ 51"/>
              <p:cNvSpPr/>
              <p:nvPr/>
            </p:nvSpPr>
            <p:spPr>
              <a:xfrm>
                <a:off x="1081080" y="1332000"/>
                <a:ext cx="250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" name="直線コネクタ 53"/>
              <p:cNvSpPr/>
              <p:nvPr/>
            </p:nvSpPr>
            <p:spPr>
              <a:xfrm>
                <a:off x="1081080" y="1440000"/>
                <a:ext cx="250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" name="グループ化 17"/>
            <p:cNvGrpSpPr/>
            <p:nvPr/>
          </p:nvGrpSpPr>
          <p:grpSpPr>
            <a:xfrm>
              <a:off x="1332000" y="1079640"/>
              <a:ext cx="108000" cy="252360"/>
              <a:chOff x="1332000" y="1079640"/>
              <a:chExt cx="108000" cy="252360"/>
            </a:xfrm>
          </p:grpSpPr>
          <p:sp>
            <p:nvSpPr>
              <p:cNvPr id="5" name="直線コネクタ 49"/>
              <p:cNvSpPr/>
              <p:nvPr/>
            </p:nvSpPr>
            <p:spPr>
              <a:xfrm>
                <a:off x="1332000" y="1079640"/>
                <a:ext cx="0" cy="252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" name="直線コネクタ 50"/>
              <p:cNvSpPr/>
              <p:nvPr/>
            </p:nvSpPr>
            <p:spPr>
              <a:xfrm>
                <a:off x="1440000" y="1079640"/>
                <a:ext cx="0" cy="252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" name="TR"/>
          <p:cNvGrpSpPr/>
          <p:nvPr/>
        </p:nvGrpSpPr>
        <p:grpSpPr>
          <a:xfrm>
            <a:off x="8640720" y="1079640"/>
            <a:ext cx="358920" cy="360360"/>
            <a:chOff x="8640720" y="1079640"/>
            <a:chExt cx="358920" cy="360360"/>
          </a:xfrm>
        </p:grpSpPr>
        <p:grpSp>
          <p:nvGrpSpPr>
            <p:cNvPr id="8" name="グループ化 61"/>
            <p:cNvGrpSpPr/>
            <p:nvPr/>
          </p:nvGrpSpPr>
          <p:grpSpPr>
            <a:xfrm>
              <a:off x="8640720" y="1079640"/>
              <a:ext cx="108000" cy="252000"/>
              <a:chOff x="8640720" y="1079640"/>
              <a:chExt cx="108000" cy="252000"/>
            </a:xfrm>
          </p:grpSpPr>
          <p:sp>
            <p:nvSpPr>
              <p:cNvPr id="9" name="直線コネクタ 47"/>
              <p:cNvSpPr/>
              <p:nvPr/>
            </p:nvSpPr>
            <p:spPr>
              <a:xfrm>
                <a:off x="8640720" y="1079640"/>
                <a:ext cx="0" cy="2520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" name="直線コネクタ 48"/>
              <p:cNvSpPr/>
              <p:nvPr/>
            </p:nvSpPr>
            <p:spPr>
              <a:xfrm>
                <a:off x="8748720" y="1079640"/>
                <a:ext cx="0" cy="2520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" name="グループ化 64"/>
            <p:cNvGrpSpPr/>
            <p:nvPr/>
          </p:nvGrpSpPr>
          <p:grpSpPr>
            <a:xfrm>
              <a:off x="8748720" y="1331640"/>
              <a:ext cx="250920" cy="108360"/>
              <a:chOff x="8748720" y="1331640"/>
              <a:chExt cx="250920" cy="108360"/>
            </a:xfrm>
          </p:grpSpPr>
          <p:sp>
            <p:nvSpPr>
              <p:cNvPr id="12" name="直線コネクタ 45"/>
              <p:cNvSpPr/>
              <p:nvPr/>
            </p:nvSpPr>
            <p:spPr>
              <a:xfrm>
                <a:off x="8748720" y="1331640"/>
                <a:ext cx="250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" name="直線コネクタ 46"/>
              <p:cNvSpPr/>
              <p:nvPr/>
            </p:nvSpPr>
            <p:spPr>
              <a:xfrm>
                <a:off x="8748720" y="1440000"/>
                <a:ext cx="250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4" name="BL"/>
          <p:cNvGrpSpPr/>
          <p:nvPr/>
        </p:nvGrpSpPr>
        <p:grpSpPr>
          <a:xfrm>
            <a:off x="1081080" y="8640720"/>
            <a:ext cx="358920" cy="360360"/>
            <a:chOff x="1081080" y="8640720"/>
            <a:chExt cx="358920" cy="360360"/>
          </a:xfrm>
        </p:grpSpPr>
        <p:grpSp>
          <p:nvGrpSpPr>
            <p:cNvPr id="15" name="グループ化 67"/>
            <p:cNvGrpSpPr/>
            <p:nvPr/>
          </p:nvGrpSpPr>
          <p:grpSpPr>
            <a:xfrm>
              <a:off x="1081080" y="8640720"/>
              <a:ext cx="250920" cy="108000"/>
              <a:chOff x="1081080" y="8640720"/>
              <a:chExt cx="250920" cy="108000"/>
            </a:xfrm>
          </p:grpSpPr>
          <p:sp>
            <p:nvSpPr>
              <p:cNvPr id="16" name="直線コネクタ 43"/>
              <p:cNvSpPr/>
              <p:nvPr/>
            </p:nvSpPr>
            <p:spPr>
              <a:xfrm>
                <a:off x="1081080" y="8640720"/>
                <a:ext cx="250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" name="直線コネクタ 44"/>
              <p:cNvSpPr/>
              <p:nvPr/>
            </p:nvSpPr>
            <p:spPr>
              <a:xfrm>
                <a:off x="1081080" y="8748720"/>
                <a:ext cx="250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" name="グループ化 73"/>
            <p:cNvGrpSpPr/>
            <p:nvPr/>
          </p:nvGrpSpPr>
          <p:grpSpPr>
            <a:xfrm>
              <a:off x="1332000" y="8749440"/>
              <a:ext cx="108000" cy="251640"/>
              <a:chOff x="1332000" y="8749440"/>
              <a:chExt cx="108000" cy="251640"/>
            </a:xfrm>
          </p:grpSpPr>
          <p:sp>
            <p:nvSpPr>
              <p:cNvPr id="19" name="直線コネクタ 39"/>
              <p:cNvSpPr/>
              <p:nvPr/>
            </p:nvSpPr>
            <p:spPr>
              <a:xfrm>
                <a:off x="1332000" y="8749440"/>
                <a:ext cx="0" cy="251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" name="直線コネクタ 40"/>
              <p:cNvSpPr/>
              <p:nvPr/>
            </p:nvSpPr>
            <p:spPr>
              <a:xfrm>
                <a:off x="1440000" y="8749440"/>
                <a:ext cx="0" cy="251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1" name="BR"/>
          <p:cNvGrpSpPr/>
          <p:nvPr/>
        </p:nvGrpSpPr>
        <p:grpSpPr>
          <a:xfrm>
            <a:off x="8640720" y="8640720"/>
            <a:ext cx="358920" cy="360360"/>
            <a:chOff x="8640720" y="8640720"/>
            <a:chExt cx="358920" cy="360360"/>
          </a:xfrm>
        </p:grpSpPr>
        <p:grpSp>
          <p:nvGrpSpPr>
            <p:cNvPr id="22" name="グループ化 70"/>
            <p:cNvGrpSpPr/>
            <p:nvPr/>
          </p:nvGrpSpPr>
          <p:grpSpPr>
            <a:xfrm>
              <a:off x="8748720" y="8640720"/>
              <a:ext cx="250920" cy="108000"/>
              <a:chOff x="8748720" y="8640720"/>
              <a:chExt cx="250920" cy="108000"/>
            </a:xfrm>
          </p:grpSpPr>
          <p:sp>
            <p:nvSpPr>
              <p:cNvPr id="23" name="直線コネクタ 41"/>
              <p:cNvSpPr/>
              <p:nvPr/>
            </p:nvSpPr>
            <p:spPr>
              <a:xfrm>
                <a:off x="8748720" y="8640720"/>
                <a:ext cx="250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" name="直線コネクタ 42"/>
              <p:cNvSpPr/>
              <p:nvPr/>
            </p:nvSpPr>
            <p:spPr>
              <a:xfrm>
                <a:off x="8748720" y="8748720"/>
                <a:ext cx="250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5" name="グループ化 76"/>
            <p:cNvGrpSpPr/>
            <p:nvPr/>
          </p:nvGrpSpPr>
          <p:grpSpPr>
            <a:xfrm>
              <a:off x="8640720" y="8749440"/>
              <a:ext cx="108000" cy="251640"/>
              <a:chOff x="8640720" y="8749440"/>
              <a:chExt cx="108000" cy="251640"/>
            </a:xfrm>
          </p:grpSpPr>
          <p:sp>
            <p:nvSpPr>
              <p:cNvPr id="26" name="直線コネクタ 37"/>
              <p:cNvSpPr/>
              <p:nvPr/>
            </p:nvSpPr>
            <p:spPr>
              <a:xfrm>
                <a:off x="8640720" y="8749440"/>
                <a:ext cx="0" cy="251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" name="直線コネクタ 38"/>
              <p:cNvSpPr/>
              <p:nvPr/>
            </p:nvSpPr>
            <p:spPr>
              <a:xfrm>
                <a:off x="8748720" y="8749440"/>
                <a:ext cx="0" cy="251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8" name="正方形/長方形 7"/>
          <p:cNvSpPr/>
          <p:nvPr/>
        </p:nvSpPr>
        <p:spPr>
          <a:xfrm>
            <a:off x="1332000" y="1332000"/>
            <a:ext cx="7416720" cy="7416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TL"/>
          <p:cNvGrpSpPr/>
          <p:nvPr/>
        </p:nvGrpSpPr>
        <p:grpSpPr>
          <a:xfrm>
            <a:off x="1081080" y="1079640"/>
            <a:ext cx="358920" cy="360360"/>
            <a:chOff x="1081080" y="1079640"/>
            <a:chExt cx="358920" cy="360360"/>
          </a:xfrm>
        </p:grpSpPr>
        <p:grpSp>
          <p:nvGrpSpPr>
            <p:cNvPr id="66" name="グループ化 3"/>
            <p:cNvGrpSpPr/>
            <p:nvPr/>
          </p:nvGrpSpPr>
          <p:grpSpPr>
            <a:xfrm>
              <a:off x="1081080" y="1332000"/>
              <a:ext cx="250920" cy="108000"/>
              <a:chOff x="1081080" y="1332000"/>
              <a:chExt cx="250920" cy="108000"/>
            </a:xfrm>
          </p:grpSpPr>
          <p:sp>
            <p:nvSpPr>
              <p:cNvPr id="67" name="直線コネクタ 51"/>
              <p:cNvSpPr/>
              <p:nvPr/>
            </p:nvSpPr>
            <p:spPr>
              <a:xfrm>
                <a:off x="1081080" y="1332000"/>
                <a:ext cx="250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" name="直線コネクタ 53"/>
              <p:cNvSpPr/>
              <p:nvPr/>
            </p:nvSpPr>
            <p:spPr>
              <a:xfrm>
                <a:off x="1081080" y="1440000"/>
                <a:ext cx="250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9" name="グループ化 17"/>
            <p:cNvGrpSpPr/>
            <p:nvPr/>
          </p:nvGrpSpPr>
          <p:grpSpPr>
            <a:xfrm>
              <a:off x="1332000" y="1079640"/>
              <a:ext cx="108000" cy="252360"/>
              <a:chOff x="1332000" y="1079640"/>
              <a:chExt cx="108000" cy="252360"/>
            </a:xfrm>
          </p:grpSpPr>
          <p:sp>
            <p:nvSpPr>
              <p:cNvPr id="70" name="直線コネクタ 49"/>
              <p:cNvSpPr/>
              <p:nvPr/>
            </p:nvSpPr>
            <p:spPr>
              <a:xfrm>
                <a:off x="1332000" y="1079640"/>
                <a:ext cx="0" cy="252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" name="直線コネクタ 50"/>
              <p:cNvSpPr/>
              <p:nvPr/>
            </p:nvSpPr>
            <p:spPr>
              <a:xfrm>
                <a:off x="1440000" y="1079640"/>
                <a:ext cx="0" cy="252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2" name="TR"/>
          <p:cNvGrpSpPr/>
          <p:nvPr/>
        </p:nvGrpSpPr>
        <p:grpSpPr>
          <a:xfrm>
            <a:off x="8640720" y="1079640"/>
            <a:ext cx="358920" cy="360360"/>
            <a:chOff x="8640720" y="1079640"/>
            <a:chExt cx="358920" cy="360360"/>
          </a:xfrm>
        </p:grpSpPr>
        <p:grpSp>
          <p:nvGrpSpPr>
            <p:cNvPr id="73" name="グループ化 61"/>
            <p:cNvGrpSpPr/>
            <p:nvPr/>
          </p:nvGrpSpPr>
          <p:grpSpPr>
            <a:xfrm>
              <a:off x="8640720" y="1079640"/>
              <a:ext cx="108000" cy="252000"/>
              <a:chOff x="8640720" y="1079640"/>
              <a:chExt cx="108000" cy="252000"/>
            </a:xfrm>
          </p:grpSpPr>
          <p:sp>
            <p:nvSpPr>
              <p:cNvPr id="74" name="直線コネクタ 47"/>
              <p:cNvSpPr/>
              <p:nvPr/>
            </p:nvSpPr>
            <p:spPr>
              <a:xfrm>
                <a:off x="8640720" y="1079640"/>
                <a:ext cx="0" cy="2520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" name="直線コネクタ 48"/>
              <p:cNvSpPr/>
              <p:nvPr/>
            </p:nvSpPr>
            <p:spPr>
              <a:xfrm>
                <a:off x="8748720" y="1079640"/>
                <a:ext cx="0" cy="2520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6" name="グループ化 64"/>
            <p:cNvGrpSpPr/>
            <p:nvPr/>
          </p:nvGrpSpPr>
          <p:grpSpPr>
            <a:xfrm>
              <a:off x="8748720" y="1331640"/>
              <a:ext cx="250920" cy="108360"/>
              <a:chOff x="8748720" y="1331640"/>
              <a:chExt cx="250920" cy="108360"/>
            </a:xfrm>
          </p:grpSpPr>
          <p:sp>
            <p:nvSpPr>
              <p:cNvPr id="77" name="直線コネクタ 45"/>
              <p:cNvSpPr/>
              <p:nvPr/>
            </p:nvSpPr>
            <p:spPr>
              <a:xfrm>
                <a:off x="8748720" y="1331640"/>
                <a:ext cx="250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" name="直線コネクタ 46"/>
              <p:cNvSpPr/>
              <p:nvPr/>
            </p:nvSpPr>
            <p:spPr>
              <a:xfrm>
                <a:off x="8748720" y="1440000"/>
                <a:ext cx="250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9" name="BL"/>
          <p:cNvGrpSpPr/>
          <p:nvPr/>
        </p:nvGrpSpPr>
        <p:grpSpPr>
          <a:xfrm>
            <a:off x="1081080" y="8640720"/>
            <a:ext cx="358920" cy="360360"/>
            <a:chOff x="1081080" y="8640720"/>
            <a:chExt cx="358920" cy="360360"/>
          </a:xfrm>
        </p:grpSpPr>
        <p:grpSp>
          <p:nvGrpSpPr>
            <p:cNvPr id="80" name="グループ化 67"/>
            <p:cNvGrpSpPr/>
            <p:nvPr/>
          </p:nvGrpSpPr>
          <p:grpSpPr>
            <a:xfrm>
              <a:off x="1081080" y="8640720"/>
              <a:ext cx="250920" cy="108000"/>
              <a:chOff x="1081080" y="8640720"/>
              <a:chExt cx="250920" cy="108000"/>
            </a:xfrm>
          </p:grpSpPr>
          <p:sp>
            <p:nvSpPr>
              <p:cNvPr id="81" name="直線コネクタ 43"/>
              <p:cNvSpPr/>
              <p:nvPr/>
            </p:nvSpPr>
            <p:spPr>
              <a:xfrm>
                <a:off x="1081080" y="8640720"/>
                <a:ext cx="250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" name="直線コネクタ 44"/>
              <p:cNvSpPr/>
              <p:nvPr/>
            </p:nvSpPr>
            <p:spPr>
              <a:xfrm>
                <a:off x="1081080" y="8748720"/>
                <a:ext cx="250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3" name="グループ化 73"/>
            <p:cNvGrpSpPr/>
            <p:nvPr/>
          </p:nvGrpSpPr>
          <p:grpSpPr>
            <a:xfrm>
              <a:off x="1332000" y="8749440"/>
              <a:ext cx="108000" cy="251640"/>
              <a:chOff x="1332000" y="8749440"/>
              <a:chExt cx="108000" cy="251640"/>
            </a:xfrm>
          </p:grpSpPr>
          <p:sp>
            <p:nvSpPr>
              <p:cNvPr id="84" name="直線コネクタ 39"/>
              <p:cNvSpPr/>
              <p:nvPr/>
            </p:nvSpPr>
            <p:spPr>
              <a:xfrm>
                <a:off x="1332000" y="8749440"/>
                <a:ext cx="0" cy="251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" name="直線コネクタ 40"/>
              <p:cNvSpPr/>
              <p:nvPr/>
            </p:nvSpPr>
            <p:spPr>
              <a:xfrm>
                <a:off x="1440000" y="8749440"/>
                <a:ext cx="0" cy="251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86" name="BR"/>
          <p:cNvGrpSpPr/>
          <p:nvPr/>
        </p:nvGrpSpPr>
        <p:grpSpPr>
          <a:xfrm>
            <a:off x="8640720" y="8640720"/>
            <a:ext cx="358920" cy="360360"/>
            <a:chOff x="8640720" y="8640720"/>
            <a:chExt cx="358920" cy="360360"/>
          </a:xfrm>
        </p:grpSpPr>
        <p:grpSp>
          <p:nvGrpSpPr>
            <p:cNvPr id="87" name="グループ化 70"/>
            <p:cNvGrpSpPr/>
            <p:nvPr/>
          </p:nvGrpSpPr>
          <p:grpSpPr>
            <a:xfrm>
              <a:off x="8748720" y="8640720"/>
              <a:ext cx="250920" cy="108000"/>
              <a:chOff x="8748720" y="8640720"/>
              <a:chExt cx="250920" cy="108000"/>
            </a:xfrm>
          </p:grpSpPr>
          <p:sp>
            <p:nvSpPr>
              <p:cNvPr id="88" name="直線コネクタ 41"/>
              <p:cNvSpPr/>
              <p:nvPr/>
            </p:nvSpPr>
            <p:spPr>
              <a:xfrm>
                <a:off x="8748720" y="8640720"/>
                <a:ext cx="250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" name="直線コネクタ 42"/>
              <p:cNvSpPr/>
              <p:nvPr/>
            </p:nvSpPr>
            <p:spPr>
              <a:xfrm>
                <a:off x="8748720" y="8748720"/>
                <a:ext cx="250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90" name="グループ化 76"/>
            <p:cNvGrpSpPr/>
            <p:nvPr/>
          </p:nvGrpSpPr>
          <p:grpSpPr>
            <a:xfrm>
              <a:off x="8640720" y="8749440"/>
              <a:ext cx="108000" cy="251640"/>
              <a:chOff x="8640720" y="8749440"/>
              <a:chExt cx="108000" cy="251640"/>
            </a:xfrm>
          </p:grpSpPr>
          <p:sp>
            <p:nvSpPr>
              <p:cNvPr id="91" name="直線コネクタ 37"/>
              <p:cNvSpPr/>
              <p:nvPr/>
            </p:nvSpPr>
            <p:spPr>
              <a:xfrm>
                <a:off x="8640720" y="8749440"/>
                <a:ext cx="0" cy="251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" name="直線コネクタ 38"/>
              <p:cNvSpPr/>
              <p:nvPr/>
            </p:nvSpPr>
            <p:spPr>
              <a:xfrm>
                <a:off x="8748720" y="8749440"/>
                <a:ext cx="0" cy="251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93" name="正方形/長方形 7"/>
          <p:cNvSpPr/>
          <p:nvPr/>
        </p:nvSpPr>
        <p:spPr>
          <a:xfrm>
            <a:off x="1332000" y="1332000"/>
            <a:ext cx="7416720" cy="7416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AutoShape 3"/>
          <p:cNvSpPr/>
          <p:nvPr/>
        </p:nvSpPr>
        <p:spPr>
          <a:xfrm>
            <a:off x="1332000" y="1332000"/>
            <a:ext cx="7416720" cy="74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5" name="グループ化 32"/>
          <p:cNvGrpSpPr/>
          <p:nvPr/>
        </p:nvGrpSpPr>
        <p:grpSpPr>
          <a:xfrm>
            <a:off x="41400" y="1440000"/>
            <a:ext cx="8599320" cy="7197480"/>
            <a:chOff x="41400" y="1440000"/>
            <a:chExt cx="8599320" cy="7197480"/>
          </a:xfrm>
        </p:grpSpPr>
        <p:sp>
          <p:nvSpPr>
            <p:cNvPr id="96" name="Oval 5"/>
            <p:cNvSpPr/>
            <p:nvPr/>
          </p:nvSpPr>
          <p:spPr>
            <a:xfrm>
              <a:off x="1443600" y="1440000"/>
              <a:ext cx="7197120" cy="7197480"/>
            </a:xfrm>
            <a:prstGeom prst="ellipse">
              <a:avLst/>
            </a:prstGeom>
            <a:noFill/>
            <a:ln w="324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Oval 7"/>
            <p:cNvSpPr/>
            <p:nvPr/>
          </p:nvSpPr>
          <p:spPr>
            <a:xfrm>
              <a:off x="1695960" y="1695600"/>
              <a:ext cx="6695280" cy="6696000"/>
            </a:xfrm>
            <a:prstGeom prst="ellipse">
              <a:avLst/>
            </a:prstGeom>
            <a:noFill/>
            <a:ln w="324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Oval 8"/>
            <p:cNvSpPr/>
            <p:nvPr/>
          </p:nvSpPr>
          <p:spPr>
            <a:xfrm>
              <a:off x="4502520" y="6980400"/>
              <a:ext cx="1079280" cy="1082520"/>
            </a:xfrm>
            <a:prstGeom prst="ellipse">
              <a:avLst/>
            </a:prstGeom>
            <a:noFill/>
            <a:ln w="324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Oval 10"/>
            <p:cNvSpPr/>
            <p:nvPr/>
          </p:nvSpPr>
          <p:spPr>
            <a:xfrm>
              <a:off x="4251960" y="6728400"/>
              <a:ext cx="1583640" cy="1584000"/>
            </a:xfrm>
            <a:prstGeom prst="ellipse">
              <a:avLst/>
            </a:prstGeom>
            <a:noFill/>
            <a:ln w="324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AutoShape 121"/>
            <p:cNvSpPr/>
            <p:nvPr/>
          </p:nvSpPr>
          <p:spPr>
            <a:xfrm>
              <a:off x="41400" y="6742080"/>
              <a:ext cx="1133280" cy="879480"/>
            </a:xfrm>
            <a:prstGeom prst="wedgeRoundRectCallout">
              <a:avLst>
                <a:gd name="adj1" fmla="val 105166"/>
                <a:gd name="adj2" fmla="val -88421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ctr" anchorCtr="1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全てのオブジェクトをピンクの破線内におさめてください。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AutoShape 122"/>
            <p:cNvSpPr/>
            <p:nvPr/>
          </p:nvSpPr>
          <p:spPr>
            <a:xfrm>
              <a:off x="41400" y="3944880"/>
              <a:ext cx="1093680" cy="841320"/>
            </a:xfrm>
            <a:prstGeom prst="wedgeRoundRectCallout">
              <a:avLst>
                <a:gd name="adj1" fmla="val 94814"/>
                <a:gd name="adj2" fmla="val -52537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ctr" anchorCtr="1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青い破線が仕上がり位置となります。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AutoShape 122"/>
            <p:cNvSpPr/>
            <p:nvPr/>
          </p:nvSpPr>
          <p:spPr>
            <a:xfrm>
              <a:off x="41400" y="2766960"/>
              <a:ext cx="1093680" cy="841320"/>
            </a:xfrm>
            <a:prstGeom prst="wedgeRoundRectCallout">
              <a:avLst>
                <a:gd name="adj1" fmla="val 67074"/>
                <a:gd name="adj2" fmla="val -37703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ctr" anchorCtr="1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フチなし印刷の場合は、背景や写真を黒い線まで伸ばします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3" name="Text Box 123"/>
          <p:cNvSpPr/>
          <p:nvPr/>
        </p:nvSpPr>
        <p:spPr>
          <a:xfrm>
            <a:off x="216000" y="9121680"/>
            <a:ext cx="778644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青い破線が仕上がり線（型抜き線）になります。フチなし印刷をご希望の方は、外側のトンボ（黒の破線部分）まで色や写真を配置してください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文字や絵柄で切れて困るものは、ピンクの破線内に配置してください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9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を作成する際は、説明部分（ピンクや青の破線、吹き出し文字等）を削除してください。また、テンプレートと同じサイズになっているか確認してください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図 56" descr=""/>
          <p:cNvPicPr/>
          <p:nvPr/>
        </p:nvPicPr>
        <p:blipFill>
          <a:blip r:embed="rId2"/>
          <a:stretch/>
        </p:blipFill>
        <p:spPr>
          <a:xfrm>
            <a:off x="8136000" y="8926560"/>
            <a:ext cx="1908000" cy="115416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4000" y="402120"/>
            <a:ext cx="907164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504000" y="2358720"/>
            <a:ext cx="9071640" cy="58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42876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1" marL="933480" indent="-35712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2" marL="1438200" indent="-28584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201456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590920" indent="-2858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590920" indent="-2858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590920" indent="-2858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14T07:16:23Z</dcterms:created>
  <dc:creator/>
  <dc:description/>
  <dc:language>en-US</dc:language>
  <cp:lastModifiedBy>HP Inc.</cp:lastModifiedBy>
  <dcterms:modified xsi:type="dcterms:W3CDTF">2021-05-20T05:54:39Z</dcterms:modified>
  <cp:revision>31</cp:revision>
  <dc:subject/>
  <dc:title>PowerPoint プレゼンテーション</dc:title>
</cp:coreProperties>
</file>