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15119350" cy="2138362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56000" y="853200"/>
            <a:ext cx="13607640" cy="35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7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56000" y="5003640"/>
            <a:ext cx="13607640" cy="59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756000" y="11481840"/>
            <a:ext cx="13607640" cy="59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756000" y="853200"/>
            <a:ext cx="13607640" cy="35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7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756000" y="5003640"/>
            <a:ext cx="6640200" cy="1240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7728480" y="5003640"/>
            <a:ext cx="6640200" cy="1240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F8E954-F091-4D6D-AFB3-66A72EF16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756000" y="853200"/>
            <a:ext cx="13607640" cy="35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7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1D267D-6F6A-4904-B052-700380B1E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ubTitle"/>
          </p:nvPr>
        </p:nvSpPr>
        <p:spPr>
          <a:xfrm>
            <a:off x="756000" y="853200"/>
            <a:ext cx="13607640" cy="1655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17876A-A36B-4CEF-BA7F-B25C22B58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756000" y="853200"/>
            <a:ext cx="13607640" cy="35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7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756000" y="5003640"/>
            <a:ext cx="6640200" cy="59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7728480" y="5003640"/>
            <a:ext cx="6640200" cy="1240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756000" y="11481840"/>
            <a:ext cx="6640200" cy="59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0B7536-83B6-4DC5-9271-E0C215362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756000" y="853200"/>
            <a:ext cx="13607640" cy="35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7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756000" y="5003640"/>
            <a:ext cx="6640200" cy="1240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7728480" y="5003640"/>
            <a:ext cx="6640200" cy="59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7728480" y="11481840"/>
            <a:ext cx="6640200" cy="59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96D080-D4EE-4DD5-A931-92924F114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756000" y="853200"/>
            <a:ext cx="13607640" cy="35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7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756000" y="5003640"/>
            <a:ext cx="6640200" cy="59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7728480" y="5003640"/>
            <a:ext cx="6640200" cy="59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756000" y="11481840"/>
            <a:ext cx="13607640" cy="59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CB9946-FC45-47D0-B89D-0BC923EE2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756000" y="853200"/>
            <a:ext cx="13607640" cy="35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7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756000" y="5003640"/>
            <a:ext cx="13607640" cy="59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756000" y="11481840"/>
            <a:ext cx="13607640" cy="59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9BEF5E-16C0-46F7-9C0A-052A2D67A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756000" y="853200"/>
            <a:ext cx="13607640" cy="35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7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756000" y="5003640"/>
            <a:ext cx="6640200" cy="59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7728480" y="5003640"/>
            <a:ext cx="6640200" cy="59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756000" y="11481840"/>
            <a:ext cx="6640200" cy="59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/>
          </p:nvPr>
        </p:nvSpPr>
        <p:spPr>
          <a:xfrm>
            <a:off x="7728480" y="11481840"/>
            <a:ext cx="6640200" cy="59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A21F1F-5812-46E4-B170-959587ED5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756000" y="853200"/>
            <a:ext cx="13607640" cy="35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7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756000" y="5003640"/>
            <a:ext cx="4381560" cy="59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5357160" y="5003640"/>
            <a:ext cx="4381560" cy="59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9957960" y="5003640"/>
            <a:ext cx="4381560" cy="59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756000" y="11481840"/>
            <a:ext cx="4381560" cy="59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6"/>
          <p:cNvSpPr>
            <a:spLocks noGrp="1"/>
          </p:cNvSpPr>
          <p:nvPr>
            <p:ph/>
          </p:nvPr>
        </p:nvSpPr>
        <p:spPr>
          <a:xfrm>
            <a:off x="5357160" y="11481840"/>
            <a:ext cx="4381560" cy="59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7"/>
          <p:cNvSpPr>
            <a:spLocks noGrp="1"/>
          </p:cNvSpPr>
          <p:nvPr>
            <p:ph/>
          </p:nvPr>
        </p:nvSpPr>
        <p:spPr>
          <a:xfrm>
            <a:off x="9957960" y="11481840"/>
            <a:ext cx="4381560" cy="59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554CE2-BAAD-4388-A2D1-4921F3278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DF6C8A-A07D-4533-A89C-F3AB5FB2A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56000" y="853200"/>
            <a:ext cx="13607640" cy="35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7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56000" y="5003640"/>
            <a:ext cx="6640200" cy="59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7728480" y="5003640"/>
            <a:ext cx="6640200" cy="59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756000" y="11481840"/>
            <a:ext cx="6640200" cy="59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7728480" y="11481840"/>
            <a:ext cx="6640200" cy="59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756000" y="853200"/>
            <a:ext cx="13607640" cy="35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7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 type="subTitle"/>
          </p:nvPr>
        </p:nvSpPr>
        <p:spPr>
          <a:xfrm>
            <a:off x="756000" y="5003640"/>
            <a:ext cx="13607640" cy="1240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2306C3-C0B8-463B-86F5-B4F6E9CCE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756000" y="853200"/>
            <a:ext cx="13607640" cy="35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7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756000" y="5003640"/>
            <a:ext cx="13607640" cy="1240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8EBE0E-091B-4FD3-B765-BEBF3607D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756000" y="853200"/>
            <a:ext cx="13607640" cy="35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7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756000" y="5003640"/>
            <a:ext cx="6640200" cy="1240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7728480" y="5003640"/>
            <a:ext cx="6640200" cy="1240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4CD245-3BED-4306-900F-E61AA8211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756000" y="853200"/>
            <a:ext cx="13607640" cy="35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7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F0FD4E-2E55-4B58-8385-4FBA13F08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subTitle"/>
          </p:nvPr>
        </p:nvSpPr>
        <p:spPr>
          <a:xfrm>
            <a:off x="756000" y="853200"/>
            <a:ext cx="13607640" cy="1655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D35E37-7DCB-47D8-8A63-D02201A63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756000" y="853200"/>
            <a:ext cx="13607640" cy="35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7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756000" y="5003640"/>
            <a:ext cx="6640200" cy="59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7728480" y="5003640"/>
            <a:ext cx="6640200" cy="1240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756000" y="11481840"/>
            <a:ext cx="6640200" cy="59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0E0D51-774E-4C00-96F2-C874FA913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756000" y="853200"/>
            <a:ext cx="13607640" cy="35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7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756000" y="5003640"/>
            <a:ext cx="6640200" cy="1240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7728480" y="5003640"/>
            <a:ext cx="6640200" cy="59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7728480" y="11481840"/>
            <a:ext cx="6640200" cy="59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9A87E3-3BC4-4454-9C23-F2C27313E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756000" y="853200"/>
            <a:ext cx="13607640" cy="35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7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756000" y="5003640"/>
            <a:ext cx="6640200" cy="59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7728480" y="5003640"/>
            <a:ext cx="6640200" cy="59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756000" y="11481840"/>
            <a:ext cx="13607640" cy="59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453914-CFFB-43D3-AC48-BCBF758AA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756000" y="853200"/>
            <a:ext cx="13607640" cy="35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7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756000" y="5003640"/>
            <a:ext cx="13607640" cy="59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756000" y="11481840"/>
            <a:ext cx="13607640" cy="59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AD11E0-EBAC-4F51-B3B1-15B19692E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756000" y="853200"/>
            <a:ext cx="13607640" cy="35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7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756000" y="5003640"/>
            <a:ext cx="6640200" cy="59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7728480" y="5003640"/>
            <a:ext cx="6640200" cy="59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756000" y="11481840"/>
            <a:ext cx="6640200" cy="59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/>
          </p:nvPr>
        </p:nvSpPr>
        <p:spPr>
          <a:xfrm>
            <a:off x="7728480" y="11481840"/>
            <a:ext cx="6640200" cy="59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78A3C5-9584-4CF2-91BE-52778CFA4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56000" y="853200"/>
            <a:ext cx="13607640" cy="35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7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000" y="5003640"/>
            <a:ext cx="4381560" cy="59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57160" y="5003640"/>
            <a:ext cx="4381560" cy="59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9957960" y="5003640"/>
            <a:ext cx="4381560" cy="59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756000" y="11481840"/>
            <a:ext cx="4381560" cy="59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5357160" y="11481840"/>
            <a:ext cx="4381560" cy="59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9957960" y="11481840"/>
            <a:ext cx="4381560" cy="59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756000" y="853200"/>
            <a:ext cx="13607640" cy="35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7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756000" y="5003640"/>
            <a:ext cx="4381560" cy="59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5357160" y="5003640"/>
            <a:ext cx="4381560" cy="59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9957960" y="5003640"/>
            <a:ext cx="4381560" cy="59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5"/>
          <p:cNvSpPr>
            <a:spLocks noGrp="1"/>
          </p:cNvSpPr>
          <p:nvPr>
            <p:ph/>
          </p:nvPr>
        </p:nvSpPr>
        <p:spPr>
          <a:xfrm>
            <a:off x="756000" y="11481840"/>
            <a:ext cx="4381560" cy="59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6"/>
          <p:cNvSpPr>
            <a:spLocks noGrp="1"/>
          </p:cNvSpPr>
          <p:nvPr>
            <p:ph/>
          </p:nvPr>
        </p:nvSpPr>
        <p:spPr>
          <a:xfrm>
            <a:off x="5357160" y="11481840"/>
            <a:ext cx="4381560" cy="59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7"/>
          <p:cNvSpPr>
            <a:spLocks noGrp="1"/>
          </p:cNvSpPr>
          <p:nvPr>
            <p:ph/>
          </p:nvPr>
        </p:nvSpPr>
        <p:spPr>
          <a:xfrm>
            <a:off x="9957960" y="11481840"/>
            <a:ext cx="4381560" cy="59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57B40E-6339-4BDE-8D22-536AD9514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585D09-3358-426B-8912-9860084EF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756000" y="853200"/>
            <a:ext cx="13607640" cy="35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7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 type="subTitle"/>
          </p:nvPr>
        </p:nvSpPr>
        <p:spPr>
          <a:xfrm>
            <a:off x="756000" y="5003640"/>
            <a:ext cx="13607640" cy="1240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66FA3B-F19C-45F8-A10A-ED804D85D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756000" y="853200"/>
            <a:ext cx="13607640" cy="35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7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756000" y="5003640"/>
            <a:ext cx="13607640" cy="1240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35BE61-6E46-47A8-B6B9-85F95A86F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756000" y="853200"/>
            <a:ext cx="13607640" cy="35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7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756000" y="5003640"/>
            <a:ext cx="6640200" cy="1240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7728480" y="5003640"/>
            <a:ext cx="6640200" cy="1240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29B472-D488-4246-AD3E-B85D8E942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756000" y="853200"/>
            <a:ext cx="13607640" cy="35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7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9907C1-AB31-43C4-A587-BEF86C7A8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subTitle"/>
          </p:nvPr>
        </p:nvSpPr>
        <p:spPr>
          <a:xfrm>
            <a:off x="756000" y="853200"/>
            <a:ext cx="13607640" cy="1655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824FAA-7A17-4A01-95EB-394FFC8FD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756000" y="853200"/>
            <a:ext cx="13607640" cy="35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7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756000" y="5003640"/>
            <a:ext cx="6640200" cy="59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7728480" y="5003640"/>
            <a:ext cx="6640200" cy="1240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756000" y="11481840"/>
            <a:ext cx="6640200" cy="59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D6602F-BC01-45CD-A716-BA993B6F6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756000" y="853200"/>
            <a:ext cx="13607640" cy="35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7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756000" y="5003640"/>
            <a:ext cx="6640200" cy="1240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7728480" y="5003640"/>
            <a:ext cx="6640200" cy="59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7728480" y="11481840"/>
            <a:ext cx="6640200" cy="59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59B7C6-4C34-4E81-9879-77498ADFA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756000" y="853200"/>
            <a:ext cx="13607640" cy="35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7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756000" y="5003640"/>
            <a:ext cx="6640200" cy="59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7728480" y="5003640"/>
            <a:ext cx="6640200" cy="59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756000" y="11481840"/>
            <a:ext cx="13607640" cy="59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EF3380-3876-416A-B377-1B1CB51DE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337E9-940D-4BCD-8339-D55563153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756000" y="853200"/>
            <a:ext cx="13607640" cy="35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7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756000" y="5003640"/>
            <a:ext cx="13607640" cy="59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756000" y="11481840"/>
            <a:ext cx="13607640" cy="59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BD471C-DFD3-4FC6-A8F7-FB5FF7425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756000" y="853200"/>
            <a:ext cx="13607640" cy="35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7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756000" y="5003640"/>
            <a:ext cx="6640200" cy="59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7728480" y="5003640"/>
            <a:ext cx="6640200" cy="59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756000" y="11481840"/>
            <a:ext cx="6640200" cy="59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7728480" y="11481840"/>
            <a:ext cx="6640200" cy="59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7D75C0-4CCB-4F00-8C38-4865F9AAD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756000" y="853200"/>
            <a:ext cx="13607640" cy="35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7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756000" y="5003640"/>
            <a:ext cx="4381560" cy="59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5357160" y="5003640"/>
            <a:ext cx="4381560" cy="59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9957960" y="5003640"/>
            <a:ext cx="4381560" cy="59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5"/>
          <p:cNvSpPr>
            <a:spLocks noGrp="1"/>
          </p:cNvSpPr>
          <p:nvPr>
            <p:ph/>
          </p:nvPr>
        </p:nvSpPr>
        <p:spPr>
          <a:xfrm>
            <a:off x="756000" y="11481840"/>
            <a:ext cx="4381560" cy="59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6"/>
          <p:cNvSpPr>
            <a:spLocks noGrp="1"/>
          </p:cNvSpPr>
          <p:nvPr>
            <p:ph/>
          </p:nvPr>
        </p:nvSpPr>
        <p:spPr>
          <a:xfrm>
            <a:off x="5357160" y="11481840"/>
            <a:ext cx="4381560" cy="59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PlaceHolder 7"/>
          <p:cNvSpPr>
            <a:spLocks noGrp="1"/>
          </p:cNvSpPr>
          <p:nvPr>
            <p:ph/>
          </p:nvPr>
        </p:nvSpPr>
        <p:spPr>
          <a:xfrm>
            <a:off x="9957960" y="11481840"/>
            <a:ext cx="4381560" cy="59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835B02-2679-4E43-B5EE-07EE99063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6F9A64-2692-4C3F-A385-1253949E7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756000" y="853200"/>
            <a:ext cx="13607640" cy="35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7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 type="subTitle"/>
          </p:nvPr>
        </p:nvSpPr>
        <p:spPr>
          <a:xfrm>
            <a:off x="756000" y="5003640"/>
            <a:ext cx="13607640" cy="1240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D2C185-D024-4344-9901-4B458BF0F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756000" y="853200"/>
            <a:ext cx="13607640" cy="35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7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756000" y="5003640"/>
            <a:ext cx="13607640" cy="1240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79574F-36D7-474C-8DAD-88AB14019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756000" y="853200"/>
            <a:ext cx="13607640" cy="35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7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756000" y="5003640"/>
            <a:ext cx="6640200" cy="1240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7728480" y="5003640"/>
            <a:ext cx="6640200" cy="1240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6C392F-3F13-49E5-801A-69848F0D7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756000" y="853200"/>
            <a:ext cx="13607640" cy="35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7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2EA4CE-3E9E-47DC-9AD7-6F19D2458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subTitle"/>
          </p:nvPr>
        </p:nvSpPr>
        <p:spPr>
          <a:xfrm>
            <a:off x="756000" y="853200"/>
            <a:ext cx="13607640" cy="1655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A031DE-AE43-4881-AD1B-97F6F3638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756000" y="853200"/>
            <a:ext cx="13607640" cy="35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7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756000" y="5003640"/>
            <a:ext cx="6640200" cy="59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7728480" y="5003640"/>
            <a:ext cx="6640200" cy="1240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756000" y="11481840"/>
            <a:ext cx="6640200" cy="59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A38FD6-70A5-480C-8FD9-AD07CB3D2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56000" y="853200"/>
            <a:ext cx="13607640" cy="35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7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756000" y="5003640"/>
            <a:ext cx="13607640" cy="1240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D0264-B497-40C6-AEA6-560B1CDF8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756000" y="853200"/>
            <a:ext cx="13607640" cy="35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7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756000" y="5003640"/>
            <a:ext cx="6640200" cy="1240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7728480" y="5003640"/>
            <a:ext cx="6640200" cy="59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7728480" y="11481840"/>
            <a:ext cx="6640200" cy="59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1AADC2-82DE-46F7-8893-2255C150B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756000" y="853200"/>
            <a:ext cx="13607640" cy="35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7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756000" y="5003640"/>
            <a:ext cx="6640200" cy="59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7728480" y="5003640"/>
            <a:ext cx="6640200" cy="59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756000" y="11481840"/>
            <a:ext cx="13607640" cy="59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AF701F-3FF7-4A17-8F95-7C63F5CA1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756000" y="853200"/>
            <a:ext cx="13607640" cy="35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7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756000" y="5003640"/>
            <a:ext cx="13607640" cy="59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756000" y="11481840"/>
            <a:ext cx="13607640" cy="59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13AD86-8AF6-4E65-8251-341A68523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756000" y="853200"/>
            <a:ext cx="13607640" cy="35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7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756000" y="5003640"/>
            <a:ext cx="6640200" cy="59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7728480" y="5003640"/>
            <a:ext cx="6640200" cy="59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756000" y="11481840"/>
            <a:ext cx="6640200" cy="59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7728480" y="11481840"/>
            <a:ext cx="6640200" cy="59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628A97-2CA8-4616-ACA4-50629E2E8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756000" y="853200"/>
            <a:ext cx="13607640" cy="35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7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756000" y="5003640"/>
            <a:ext cx="4381560" cy="59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5357160" y="5003640"/>
            <a:ext cx="4381560" cy="59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/>
          </p:nvPr>
        </p:nvSpPr>
        <p:spPr>
          <a:xfrm>
            <a:off x="9957960" y="5003640"/>
            <a:ext cx="4381560" cy="59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5"/>
          <p:cNvSpPr>
            <a:spLocks noGrp="1"/>
          </p:cNvSpPr>
          <p:nvPr>
            <p:ph/>
          </p:nvPr>
        </p:nvSpPr>
        <p:spPr>
          <a:xfrm>
            <a:off x="756000" y="11481840"/>
            <a:ext cx="4381560" cy="59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PlaceHolder 6"/>
          <p:cNvSpPr>
            <a:spLocks noGrp="1"/>
          </p:cNvSpPr>
          <p:nvPr>
            <p:ph/>
          </p:nvPr>
        </p:nvSpPr>
        <p:spPr>
          <a:xfrm>
            <a:off x="5357160" y="11481840"/>
            <a:ext cx="4381560" cy="59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PlaceHolder 7"/>
          <p:cNvSpPr>
            <a:spLocks noGrp="1"/>
          </p:cNvSpPr>
          <p:nvPr>
            <p:ph/>
          </p:nvPr>
        </p:nvSpPr>
        <p:spPr>
          <a:xfrm>
            <a:off x="9957960" y="11481840"/>
            <a:ext cx="4381560" cy="59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273870-25DC-4870-A5F4-7BF7B0B32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56000" y="853200"/>
            <a:ext cx="13607640" cy="35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7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000" y="5003640"/>
            <a:ext cx="13607640" cy="1240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90F3C-131D-45B7-A5D3-C98B9D63E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56000" y="853200"/>
            <a:ext cx="13607640" cy="35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7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000" y="5003640"/>
            <a:ext cx="6640200" cy="1240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7728480" y="5003640"/>
            <a:ext cx="6640200" cy="1240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11DCA-B34B-4666-AE85-FED27DE7C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56000" y="853200"/>
            <a:ext cx="13607640" cy="35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7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B323C-AC26-4316-BF3D-5D37BB898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756000" y="853200"/>
            <a:ext cx="13607640" cy="1655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7DB9A-E0E9-4005-A5BD-7359D56B4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56000" y="853200"/>
            <a:ext cx="13607640" cy="35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7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56000" y="5003640"/>
            <a:ext cx="6640200" cy="59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7728480" y="5003640"/>
            <a:ext cx="6640200" cy="1240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756000" y="11481840"/>
            <a:ext cx="6640200" cy="59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04EB5-EDCB-4399-B1DB-7AB373CBB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56000" y="853200"/>
            <a:ext cx="13607640" cy="35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7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756000" y="5003640"/>
            <a:ext cx="13607640" cy="1240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56000" y="853200"/>
            <a:ext cx="13607640" cy="35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7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6000" y="5003640"/>
            <a:ext cx="6640200" cy="1240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7728480" y="5003640"/>
            <a:ext cx="6640200" cy="59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7728480" y="11481840"/>
            <a:ext cx="6640200" cy="59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41CC4-1F3A-4487-8C33-6FC53AC16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6000" y="853200"/>
            <a:ext cx="13607640" cy="35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7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56000" y="5003640"/>
            <a:ext cx="6640200" cy="59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7728480" y="5003640"/>
            <a:ext cx="6640200" cy="59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756000" y="11481840"/>
            <a:ext cx="13607640" cy="59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9F3E0-AEDC-4E78-BFE2-9A5EB63ED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56000" y="853200"/>
            <a:ext cx="13607640" cy="35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7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56000" y="5003640"/>
            <a:ext cx="13607640" cy="59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756000" y="11481840"/>
            <a:ext cx="13607640" cy="59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BD372-668E-4195-A05A-5ABDAF189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56000" y="853200"/>
            <a:ext cx="13607640" cy="35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7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56000" y="5003640"/>
            <a:ext cx="6640200" cy="59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7728480" y="5003640"/>
            <a:ext cx="6640200" cy="59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756000" y="11481840"/>
            <a:ext cx="6640200" cy="59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7728480" y="11481840"/>
            <a:ext cx="6640200" cy="59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9091A-F3E8-4EB7-826E-C4AB46DF6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56000" y="853200"/>
            <a:ext cx="13607640" cy="35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7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56000" y="5003640"/>
            <a:ext cx="4381560" cy="59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357160" y="5003640"/>
            <a:ext cx="4381560" cy="59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9957960" y="5003640"/>
            <a:ext cx="4381560" cy="59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756000" y="11481840"/>
            <a:ext cx="4381560" cy="59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5357160" y="11481840"/>
            <a:ext cx="4381560" cy="59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9957960" y="11481840"/>
            <a:ext cx="4381560" cy="59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5A0B9-17E8-4217-997F-02FDC7B6B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55F79-3ED6-49AA-9042-066F2B31D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56000" y="853200"/>
            <a:ext cx="13607640" cy="35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7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756000" y="5003640"/>
            <a:ext cx="13607640" cy="1240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CE79C-D52D-4FDD-945A-2F5C29AB7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56000" y="853200"/>
            <a:ext cx="13607640" cy="35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7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56000" y="5003640"/>
            <a:ext cx="13607640" cy="1240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18AEF-5E7E-4B10-B734-1FBF6D63C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56000" y="853200"/>
            <a:ext cx="13607640" cy="35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7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756000" y="5003640"/>
            <a:ext cx="6640200" cy="1240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7728480" y="5003640"/>
            <a:ext cx="6640200" cy="1240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1EDB3-1C44-4F5B-B507-199B25222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56000" y="853200"/>
            <a:ext cx="13607640" cy="35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7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A8C1F-91D1-4BD4-B28F-9CAF6287B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56000" y="853200"/>
            <a:ext cx="13607640" cy="35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7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56000" y="5003640"/>
            <a:ext cx="13607640" cy="1240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756000" y="853200"/>
            <a:ext cx="13607640" cy="1655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29E6B-6C42-4114-BAEE-042CFED03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56000" y="853200"/>
            <a:ext cx="13607640" cy="35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7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756000" y="5003640"/>
            <a:ext cx="6640200" cy="59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7728480" y="5003640"/>
            <a:ext cx="6640200" cy="1240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756000" y="11481840"/>
            <a:ext cx="6640200" cy="59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04D23-70F8-4C40-8195-A1F834332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56000" y="853200"/>
            <a:ext cx="13607640" cy="35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7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756000" y="5003640"/>
            <a:ext cx="6640200" cy="1240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7728480" y="5003640"/>
            <a:ext cx="6640200" cy="59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7728480" y="11481840"/>
            <a:ext cx="6640200" cy="59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934A2-C1A1-49FF-9695-85A5E0249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56000" y="853200"/>
            <a:ext cx="13607640" cy="35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7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756000" y="5003640"/>
            <a:ext cx="6640200" cy="59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7728480" y="5003640"/>
            <a:ext cx="6640200" cy="59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756000" y="11481840"/>
            <a:ext cx="13607640" cy="59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AE436-6B7C-4259-94A0-3F98604EB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56000" y="853200"/>
            <a:ext cx="13607640" cy="35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7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756000" y="5003640"/>
            <a:ext cx="13607640" cy="59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756000" y="11481840"/>
            <a:ext cx="13607640" cy="59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0A185-A10A-4FA5-8312-D7F13CCBE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56000" y="853200"/>
            <a:ext cx="13607640" cy="35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7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756000" y="5003640"/>
            <a:ext cx="6640200" cy="59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7728480" y="5003640"/>
            <a:ext cx="6640200" cy="59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756000" y="11481840"/>
            <a:ext cx="6640200" cy="59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7728480" y="11481840"/>
            <a:ext cx="6640200" cy="59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D7086-47B8-4E6F-9A49-F7CF923D0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56000" y="853200"/>
            <a:ext cx="13607640" cy="35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7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756000" y="5003640"/>
            <a:ext cx="4381560" cy="59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357160" y="5003640"/>
            <a:ext cx="4381560" cy="59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9957960" y="5003640"/>
            <a:ext cx="4381560" cy="59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756000" y="11481840"/>
            <a:ext cx="4381560" cy="59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6"/>
          <p:cNvSpPr>
            <a:spLocks noGrp="1"/>
          </p:cNvSpPr>
          <p:nvPr>
            <p:ph/>
          </p:nvPr>
        </p:nvSpPr>
        <p:spPr>
          <a:xfrm>
            <a:off x="5357160" y="11481840"/>
            <a:ext cx="4381560" cy="59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7"/>
          <p:cNvSpPr>
            <a:spLocks noGrp="1"/>
          </p:cNvSpPr>
          <p:nvPr>
            <p:ph/>
          </p:nvPr>
        </p:nvSpPr>
        <p:spPr>
          <a:xfrm>
            <a:off x="9957960" y="11481840"/>
            <a:ext cx="4381560" cy="59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012BB-D889-4C64-9978-1FFA453DB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CBE239-3FE8-438B-8002-6FD159564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756000" y="853200"/>
            <a:ext cx="13607640" cy="35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7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756000" y="5003640"/>
            <a:ext cx="13607640" cy="1240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82DBDA-CBD2-4078-848F-A8539D369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756000" y="853200"/>
            <a:ext cx="13607640" cy="35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7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756000" y="5003640"/>
            <a:ext cx="13607640" cy="1240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356CE5-2F3D-4413-9EC1-158D51EC0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56000" y="853200"/>
            <a:ext cx="13607640" cy="35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7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56000" y="5003640"/>
            <a:ext cx="6640200" cy="1240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728480" y="5003640"/>
            <a:ext cx="6640200" cy="1240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756000" y="853200"/>
            <a:ext cx="13607640" cy="35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7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756000" y="5003640"/>
            <a:ext cx="6640200" cy="1240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7728480" y="5003640"/>
            <a:ext cx="6640200" cy="1240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7A4C0F-7573-4C1B-B4C2-5F9359DF1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756000" y="853200"/>
            <a:ext cx="13607640" cy="35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7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23CED6-C241-47FE-AAE2-A0D8ED5F7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756000" y="853200"/>
            <a:ext cx="13607640" cy="1655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748A2D-492F-4C8C-A99F-D1A394FC7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56000" y="853200"/>
            <a:ext cx="13607640" cy="35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7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756000" y="5003640"/>
            <a:ext cx="6640200" cy="59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7728480" y="5003640"/>
            <a:ext cx="6640200" cy="1240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756000" y="11481840"/>
            <a:ext cx="6640200" cy="59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7BA947-1ED5-49B9-AA8C-40D2E7B06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756000" y="853200"/>
            <a:ext cx="13607640" cy="35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7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756000" y="5003640"/>
            <a:ext cx="6640200" cy="1240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7728480" y="5003640"/>
            <a:ext cx="6640200" cy="59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7728480" y="11481840"/>
            <a:ext cx="6640200" cy="59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356112-0CF1-4919-89F3-2AB28F808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756000" y="853200"/>
            <a:ext cx="13607640" cy="35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7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756000" y="5003640"/>
            <a:ext cx="6640200" cy="59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7728480" y="5003640"/>
            <a:ext cx="6640200" cy="59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756000" y="11481840"/>
            <a:ext cx="13607640" cy="59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B8A129-34C6-4B2C-A069-7BBE3B23A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756000" y="853200"/>
            <a:ext cx="13607640" cy="35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7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756000" y="5003640"/>
            <a:ext cx="13607640" cy="59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756000" y="11481840"/>
            <a:ext cx="13607640" cy="59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9832C0-4257-4ABF-A74C-1B57A884A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756000" y="853200"/>
            <a:ext cx="13607640" cy="35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7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756000" y="5003640"/>
            <a:ext cx="6640200" cy="59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7728480" y="5003640"/>
            <a:ext cx="6640200" cy="59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756000" y="11481840"/>
            <a:ext cx="6640200" cy="59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7728480" y="11481840"/>
            <a:ext cx="6640200" cy="59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F24E8F-1FCB-44F4-A792-23697BE2D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756000" y="853200"/>
            <a:ext cx="13607640" cy="35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7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756000" y="5003640"/>
            <a:ext cx="4381560" cy="59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357160" y="5003640"/>
            <a:ext cx="4381560" cy="59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9957960" y="5003640"/>
            <a:ext cx="4381560" cy="59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756000" y="11481840"/>
            <a:ext cx="4381560" cy="59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5357160" y="11481840"/>
            <a:ext cx="4381560" cy="59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9957960" y="11481840"/>
            <a:ext cx="4381560" cy="59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991DA5-4068-41BA-B22A-0BF72F0C5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D4EAC7-445E-4F10-AD3F-0EC5109BB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56000" y="853200"/>
            <a:ext cx="13607640" cy="35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72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756000" y="853200"/>
            <a:ext cx="13607640" cy="35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7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756000" y="5003640"/>
            <a:ext cx="13607640" cy="1240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545161-B135-48AB-B455-E7A52E56D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756000" y="853200"/>
            <a:ext cx="13607640" cy="35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7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756000" y="5003640"/>
            <a:ext cx="13607640" cy="1240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37DA4D-481A-4A49-9812-0358B4F56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756000" y="853200"/>
            <a:ext cx="13607640" cy="35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7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756000" y="5003640"/>
            <a:ext cx="6640200" cy="1240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7728480" y="5003640"/>
            <a:ext cx="6640200" cy="1240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567975-B547-46F7-817E-A392F668C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756000" y="853200"/>
            <a:ext cx="13607640" cy="35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7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BDA682-7DFB-4D3E-99DB-3F8901154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ubTitle"/>
          </p:nvPr>
        </p:nvSpPr>
        <p:spPr>
          <a:xfrm>
            <a:off x="756000" y="853200"/>
            <a:ext cx="13607640" cy="1655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CC5F53-5EEB-4375-9C3E-A85006CF8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756000" y="853200"/>
            <a:ext cx="13607640" cy="35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7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756000" y="5003640"/>
            <a:ext cx="6640200" cy="59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7728480" y="5003640"/>
            <a:ext cx="6640200" cy="1240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756000" y="11481840"/>
            <a:ext cx="6640200" cy="59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02FF83-A416-44CD-8ED1-97C324D88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756000" y="853200"/>
            <a:ext cx="13607640" cy="35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7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756000" y="5003640"/>
            <a:ext cx="6640200" cy="1240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7728480" y="5003640"/>
            <a:ext cx="6640200" cy="59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7728480" y="11481840"/>
            <a:ext cx="6640200" cy="59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43F90D-12A8-449E-8DE0-A0CE4F07E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756000" y="853200"/>
            <a:ext cx="13607640" cy="35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7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756000" y="5003640"/>
            <a:ext cx="6640200" cy="59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7728480" y="5003640"/>
            <a:ext cx="6640200" cy="59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756000" y="11481840"/>
            <a:ext cx="13607640" cy="59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60ECD6-80F4-4715-85DF-3FBA24906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756000" y="853200"/>
            <a:ext cx="13607640" cy="35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7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756000" y="5003640"/>
            <a:ext cx="13607640" cy="59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756000" y="11481840"/>
            <a:ext cx="13607640" cy="59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E04CD1-B7A1-43EF-B5F4-666D46A46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756000" y="853200"/>
            <a:ext cx="13607640" cy="35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7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756000" y="5003640"/>
            <a:ext cx="6640200" cy="59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7728480" y="5003640"/>
            <a:ext cx="6640200" cy="59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756000" y="11481840"/>
            <a:ext cx="6640200" cy="59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7728480" y="11481840"/>
            <a:ext cx="6640200" cy="59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4841D1-6E7E-4203-9866-D0A5CEED9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756000" y="853200"/>
            <a:ext cx="13607640" cy="1655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756000" y="853200"/>
            <a:ext cx="13607640" cy="35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7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756000" y="5003640"/>
            <a:ext cx="4381560" cy="59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5357160" y="5003640"/>
            <a:ext cx="4381560" cy="59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9957960" y="5003640"/>
            <a:ext cx="4381560" cy="59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756000" y="11481840"/>
            <a:ext cx="4381560" cy="59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/>
          </p:nvPr>
        </p:nvSpPr>
        <p:spPr>
          <a:xfrm>
            <a:off x="5357160" y="11481840"/>
            <a:ext cx="4381560" cy="59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7"/>
          <p:cNvSpPr>
            <a:spLocks noGrp="1"/>
          </p:cNvSpPr>
          <p:nvPr>
            <p:ph/>
          </p:nvPr>
        </p:nvSpPr>
        <p:spPr>
          <a:xfrm>
            <a:off x="9957960" y="11481840"/>
            <a:ext cx="4381560" cy="59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BA8875-4C24-4947-AB87-CE84929CF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CBA5C9-68BB-42CA-A79F-1E5637602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756000" y="853200"/>
            <a:ext cx="13607640" cy="35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7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756000" y="5003640"/>
            <a:ext cx="13607640" cy="1240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71674F-6CF4-4FA0-87FE-50648AB2D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756000" y="853200"/>
            <a:ext cx="13607640" cy="35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7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756000" y="5003640"/>
            <a:ext cx="13607640" cy="1240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A14007-2AF6-4582-A979-BF3901F45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756000" y="853200"/>
            <a:ext cx="13607640" cy="35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7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756000" y="5003640"/>
            <a:ext cx="6640200" cy="1240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7728480" y="5003640"/>
            <a:ext cx="6640200" cy="1240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753525-D7B2-4E05-9AC0-9035FC94A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756000" y="853200"/>
            <a:ext cx="13607640" cy="35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7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030C24-7A26-4B0C-8183-19639ADFF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ubTitle"/>
          </p:nvPr>
        </p:nvSpPr>
        <p:spPr>
          <a:xfrm>
            <a:off x="756000" y="853200"/>
            <a:ext cx="13607640" cy="1655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9ADA20-3A53-445C-8793-98E7BDB83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6000" y="853200"/>
            <a:ext cx="13607640" cy="35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7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756000" y="5003640"/>
            <a:ext cx="6640200" cy="59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7728480" y="5003640"/>
            <a:ext cx="6640200" cy="1240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756000" y="11481840"/>
            <a:ext cx="6640200" cy="59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6B035B-AFFF-4306-95EE-0BD4AEFC6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756000" y="853200"/>
            <a:ext cx="13607640" cy="35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7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56000" y="5003640"/>
            <a:ext cx="6640200" cy="1240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7728480" y="5003640"/>
            <a:ext cx="6640200" cy="59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7728480" y="11481840"/>
            <a:ext cx="6640200" cy="59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2234C9-BB07-44BE-8ECB-D951F5247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756000" y="853200"/>
            <a:ext cx="13607640" cy="35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7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756000" y="5003640"/>
            <a:ext cx="6640200" cy="59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7728480" y="5003640"/>
            <a:ext cx="6640200" cy="59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756000" y="11481840"/>
            <a:ext cx="13607640" cy="59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FB1755-E48B-49CC-A91F-C64A16FD7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56000" y="853200"/>
            <a:ext cx="13607640" cy="35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7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56000" y="5003640"/>
            <a:ext cx="6640200" cy="59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7728480" y="5003640"/>
            <a:ext cx="6640200" cy="1240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56000" y="11481840"/>
            <a:ext cx="6640200" cy="59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756000" y="853200"/>
            <a:ext cx="13607640" cy="35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7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756000" y="5003640"/>
            <a:ext cx="13607640" cy="59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756000" y="11481840"/>
            <a:ext cx="13607640" cy="59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53D064-95AC-45AB-AF50-03296C446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756000" y="853200"/>
            <a:ext cx="13607640" cy="35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7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756000" y="5003640"/>
            <a:ext cx="6640200" cy="59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7728480" y="5003640"/>
            <a:ext cx="6640200" cy="59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756000" y="11481840"/>
            <a:ext cx="6640200" cy="59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7728480" y="11481840"/>
            <a:ext cx="6640200" cy="59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433DCE-FBE0-4131-AAC8-E123D9C71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756000" y="853200"/>
            <a:ext cx="13607640" cy="35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7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756000" y="5003640"/>
            <a:ext cx="4381560" cy="59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5357160" y="5003640"/>
            <a:ext cx="4381560" cy="59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9957960" y="5003640"/>
            <a:ext cx="4381560" cy="59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756000" y="11481840"/>
            <a:ext cx="4381560" cy="59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6"/>
          <p:cNvSpPr>
            <a:spLocks noGrp="1"/>
          </p:cNvSpPr>
          <p:nvPr>
            <p:ph/>
          </p:nvPr>
        </p:nvSpPr>
        <p:spPr>
          <a:xfrm>
            <a:off x="5357160" y="11481840"/>
            <a:ext cx="4381560" cy="59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7"/>
          <p:cNvSpPr>
            <a:spLocks noGrp="1"/>
          </p:cNvSpPr>
          <p:nvPr>
            <p:ph/>
          </p:nvPr>
        </p:nvSpPr>
        <p:spPr>
          <a:xfrm>
            <a:off x="9957960" y="11481840"/>
            <a:ext cx="4381560" cy="59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E832AE-6E41-459D-819F-F2228686E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9F224B-64BA-4FB2-B97A-8B557BB60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756000" y="853200"/>
            <a:ext cx="13607640" cy="35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7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subTitle"/>
          </p:nvPr>
        </p:nvSpPr>
        <p:spPr>
          <a:xfrm>
            <a:off x="756000" y="5003640"/>
            <a:ext cx="13607640" cy="1240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D0D020-84BF-482C-9B24-D15A219A5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756000" y="853200"/>
            <a:ext cx="13607640" cy="35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7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756000" y="5003640"/>
            <a:ext cx="13607640" cy="1240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F24AC7-14BC-42A5-9878-333530C02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756000" y="853200"/>
            <a:ext cx="13607640" cy="35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7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756000" y="5003640"/>
            <a:ext cx="6640200" cy="1240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7728480" y="5003640"/>
            <a:ext cx="6640200" cy="1240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C98A97-7202-4159-B09A-4D6A94C91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756000" y="853200"/>
            <a:ext cx="13607640" cy="35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7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DC84D5-C241-4A55-8D4F-E95DF524F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ubTitle"/>
          </p:nvPr>
        </p:nvSpPr>
        <p:spPr>
          <a:xfrm>
            <a:off x="756000" y="853200"/>
            <a:ext cx="13607640" cy="1655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436F25-32CB-41F1-BD27-0A8527E83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756000" y="853200"/>
            <a:ext cx="13607640" cy="35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7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756000" y="5003640"/>
            <a:ext cx="6640200" cy="59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7728480" y="5003640"/>
            <a:ext cx="6640200" cy="1240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756000" y="11481840"/>
            <a:ext cx="6640200" cy="59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83DE49-7888-45FF-A0E6-38C1A8171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6000" y="853200"/>
            <a:ext cx="13607640" cy="35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7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000" y="5003640"/>
            <a:ext cx="6640200" cy="1240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7728480" y="5003640"/>
            <a:ext cx="6640200" cy="59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7728480" y="11481840"/>
            <a:ext cx="6640200" cy="59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756000" y="853200"/>
            <a:ext cx="13607640" cy="35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7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756000" y="5003640"/>
            <a:ext cx="6640200" cy="1240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7728480" y="5003640"/>
            <a:ext cx="6640200" cy="59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7728480" y="11481840"/>
            <a:ext cx="6640200" cy="59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C5851F-5398-455B-9BF1-E60133041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756000" y="853200"/>
            <a:ext cx="13607640" cy="35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7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756000" y="5003640"/>
            <a:ext cx="6640200" cy="59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7728480" y="5003640"/>
            <a:ext cx="6640200" cy="59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756000" y="11481840"/>
            <a:ext cx="13607640" cy="59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05F085-F736-440A-ACE9-F5C3FF463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756000" y="853200"/>
            <a:ext cx="13607640" cy="35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7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756000" y="5003640"/>
            <a:ext cx="13607640" cy="59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756000" y="11481840"/>
            <a:ext cx="13607640" cy="59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EE2E33-695C-48F7-B281-FEB18680C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756000" y="853200"/>
            <a:ext cx="13607640" cy="35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7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756000" y="5003640"/>
            <a:ext cx="6640200" cy="59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7728480" y="5003640"/>
            <a:ext cx="6640200" cy="59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756000" y="11481840"/>
            <a:ext cx="6640200" cy="59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7728480" y="11481840"/>
            <a:ext cx="6640200" cy="59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9224E2-AB61-4347-A642-E4A3BA532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756000" y="853200"/>
            <a:ext cx="13607640" cy="35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7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756000" y="5003640"/>
            <a:ext cx="4381560" cy="59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5357160" y="5003640"/>
            <a:ext cx="4381560" cy="59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9957960" y="5003640"/>
            <a:ext cx="4381560" cy="59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756000" y="11481840"/>
            <a:ext cx="4381560" cy="59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6"/>
          <p:cNvSpPr>
            <a:spLocks noGrp="1"/>
          </p:cNvSpPr>
          <p:nvPr>
            <p:ph/>
          </p:nvPr>
        </p:nvSpPr>
        <p:spPr>
          <a:xfrm>
            <a:off x="5357160" y="11481840"/>
            <a:ext cx="4381560" cy="59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7"/>
          <p:cNvSpPr>
            <a:spLocks noGrp="1"/>
          </p:cNvSpPr>
          <p:nvPr>
            <p:ph/>
          </p:nvPr>
        </p:nvSpPr>
        <p:spPr>
          <a:xfrm>
            <a:off x="9957960" y="11481840"/>
            <a:ext cx="4381560" cy="59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4DA760-908F-4D44-BDFC-515EB96F8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5F860D-D25D-4760-AE70-E0D034C04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756000" y="853200"/>
            <a:ext cx="13607640" cy="35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7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756000" y="5003640"/>
            <a:ext cx="13607640" cy="1240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59C9A8-F3F9-46EE-9094-8032AF3E6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756000" y="853200"/>
            <a:ext cx="13607640" cy="35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7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756000" y="5003640"/>
            <a:ext cx="13607640" cy="1240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06633A-B9F9-4AF6-A19A-BE2ED55D3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756000" y="853200"/>
            <a:ext cx="13607640" cy="35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7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756000" y="5003640"/>
            <a:ext cx="6640200" cy="1240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7728480" y="5003640"/>
            <a:ext cx="6640200" cy="1240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8CBF91-9773-49C5-8C1F-69CD948E2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756000" y="853200"/>
            <a:ext cx="13607640" cy="35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7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4DC468-B743-46D9-B50B-B48EC57AE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756000" y="853200"/>
            <a:ext cx="13607640" cy="35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7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756000" y="5003640"/>
            <a:ext cx="6640200" cy="59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7728480" y="5003640"/>
            <a:ext cx="6640200" cy="59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756000" y="11481840"/>
            <a:ext cx="13607640" cy="59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756000" y="853200"/>
            <a:ext cx="13607640" cy="1655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DFA735-7693-4446-BBDD-46FC0E8B5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756000" y="853200"/>
            <a:ext cx="13607640" cy="35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7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756000" y="5003640"/>
            <a:ext cx="6640200" cy="59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7728480" y="5003640"/>
            <a:ext cx="6640200" cy="1240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756000" y="11481840"/>
            <a:ext cx="6640200" cy="59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0DE91F-D476-4E42-919E-0A2275D0C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756000" y="853200"/>
            <a:ext cx="13607640" cy="35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7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756000" y="5003640"/>
            <a:ext cx="6640200" cy="1240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7728480" y="5003640"/>
            <a:ext cx="6640200" cy="59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7728480" y="11481840"/>
            <a:ext cx="6640200" cy="59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C0F0A7-2CD5-4B34-957E-0BA4F3559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756000" y="853200"/>
            <a:ext cx="13607640" cy="35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7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756000" y="5003640"/>
            <a:ext cx="6640200" cy="59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7728480" y="5003640"/>
            <a:ext cx="6640200" cy="59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756000" y="11481840"/>
            <a:ext cx="13607640" cy="59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5865F8-4A04-4531-8B9E-DE8B85131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756000" y="853200"/>
            <a:ext cx="13607640" cy="35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7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756000" y="5003640"/>
            <a:ext cx="13607640" cy="59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756000" y="11481840"/>
            <a:ext cx="13607640" cy="59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E589B5-F91A-4F0F-9DA5-828DDDF11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756000" y="853200"/>
            <a:ext cx="13607640" cy="35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7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756000" y="5003640"/>
            <a:ext cx="6640200" cy="59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7728480" y="5003640"/>
            <a:ext cx="6640200" cy="59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756000" y="11481840"/>
            <a:ext cx="6640200" cy="59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7728480" y="11481840"/>
            <a:ext cx="6640200" cy="59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D14852-F55D-4B6E-93F9-09B4585CF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756000" y="853200"/>
            <a:ext cx="13607640" cy="35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7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756000" y="5003640"/>
            <a:ext cx="4381560" cy="59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5357160" y="5003640"/>
            <a:ext cx="4381560" cy="59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9957960" y="5003640"/>
            <a:ext cx="4381560" cy="59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756000" y="11481840"/>
            <a:ext cx="4381560" cy="59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5357160" y="11481840"/>
            <a:ext cx="4381560" cy="59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9957960" y="11481840"/>
            <a:ext cx="4381560" cy="59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6A1A71-4791-497C-9BE7-CC05B0032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B0B948-7E88-41BC-B1DB-49A4CED3B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756000" y="853200"/>
            <a:ext cx="13607640" cy="35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7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subTitle"/>
          </p:nvPr>
        </p:nvSpPr>
        <p:spPr>
          <a:xfrm>
            <a:off x="756000" y="5003640"/>
            <a:ext cx="13607640" cy="1240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4971F7-AF84-4347-80D5-DDD875353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756000" y="853200"/>
            <a:ext cx="13607640" cy="35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7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756000" y="5003640"/>
            <a:ext cx="13607640" cy="1240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1D952B-0BB5-487A-8EAD-30FE2242B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5" descr=""/>
          <p:cNvPicPr/>
          <p:nvPr/>
        </p:nvPicPr>
        <p:blipFill>
          <a:blip r:embed="rId2"/>
          <a:stretch/>
        </p:blipFill>
        <p:spPr>
          <a:xfrm>
            <a:off x="13173120" y="11949120"/>
            <a:ext cx="1212840" cy="1525680"/>
          </a:xfrm>
          <a:prstGeom prst="rect">
            <a:avLst/>
          </a:prstGeom>
          <a:ln w="0">
            <a:noFill/>
          </a:ln>
        </p:spPr>
      </p:pic>
      <p:sp>
        <p:nvSpPr>
          <p:cNvPr id="1" name="Text Box 101"/>
          <p:cNvSpPr/>
          <p:nvPr/>
        </p:nvSpPr>
        <p:spPr>
          <a:xfrm>
            <a:off x="5276880" y="1944540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" name="Group 83"/>
          <p:cNvGrpSpPr/>
          <p:nvPr/>
        </p:nvGrpSpPr>
        <p:grpSpPr>
          <a:xfrm>
            <a:off x="1918080" y="2820960"/>
            <a:ext cx="11336040" cy="15741720"/>
            <a:chOff x="1918080" y="2820960"/>
            <a:chExt cx="11336040" cy="15741720"/>
          </a:xfrm>
        </p:grpSpPr>
        <p:sp>
          <p:nvSpPr>
            <p:cNvPr id="3" name="Line 22"/>
            <p:cNvSpPr/>
            <p:nvPr/>
          </p:nvSpPr>
          <p:spPr>
            <a:xfrm>
              <a:off x="13065480" y="2820960"/>
              <a:ext cx="0" cy="15741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" name="Line 23"/>
            <p:cNvSpPr/>
            <p:nvPr/>
          </p:nvSpPr>
          <p:spPr>
            <a:xfrm>
              <a:off x="12957480" y="2820960"/>
              <a:ext cx="0" cy="15741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" name="Line 24"/>
            <p:cNvSpPr/>
            <p:nvPr/>
          </p:nvSpPr>
          <p:spPr>
            <a:xfrm>
              <a:off x="7617240" y="2820960"/>
              <a:ext cx="0" cy="15741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" name="Line 25"/>
            <p:cNvSpPr/>
            <p:nvPr/>
          </p:nvSpPr>
          <p:spPr>
            <a:xfrm>
              <a:off x="2262600" y="2820960"/>
              <a:ext cx="0" cy="15741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" name="Line 26"/>
            <p:cNvSpPr/>
            <p:nvPr/>
          </p:nvSpPr>
          <p:spPr>
            <a:xfrm>
              <a:off x="2154600" y="2820960"/>
              <a:ext cx="0" cy="15741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" name="Line 27"/>
            <p:cNvSpPr/>
            <p:nvPr/>
          </p:nvSpPr>
          <p:spPr>
            <a:xfrm flipH="1">
              <a:off x="1924200" y="3019320"/>
              <a:ext cx="113299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" name="Line 28"/>
            <p:cNvSpPr/>
            <p:nvPr/>
          </p:nvSpPr>
          <p:spPr>
            <a:xfrm flipH="1">
              <a:off x="1930680" y="3127320"/>
              <a:ext cx="113234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" name="Line 29"/>
            <p:cNvSpPr/>
            <p:nvPr/>
          </p:nvSpPr>
          <p:spPr>
            <a:xfrm flipH="1">
              <a:off x="1918080" y="10685160"/>
              <a:ext cx="113360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" name="Line 30"/>
            <p:cNvSpPr/>
            <p:nvPr/>
          </p:nvSpPr>
          <p:spPr>
            <a:xfrm flipH="1">
              <a:off x="1930680" y="18249840"/>
              <a:ext cx="113234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" name="Line 31"/>
            <p:cNvSpPr/>
            <p:nvPr/>
          </p:nvSpPr>
          <p:spPr>
            <a:xfrm flipH="1">
              <a:off x="1930680" y="18354600"/>
              <a:ext cx="113234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" name="Rectangle 32"/>
            <p:cNvSpPr/>
            <p:nvPr/>
          </p:nvSpPr>
          <p:spPr>
            <a:xfrm rot="5400000">
              <a:off x="50040" y="5337720"/>
              <a:ext cx="15106680" cy="107013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" name="AutoShape 98"/>
          <p:cNvSpPr/>
          <p:nvPr/>
        </p:nvSpPr>
        <p:spPr>
          <a:xfrm>
            <a:off x="7478640" y="1865484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AutoShape 99"/>
          <p:cNvSpPr/>
          <p:nvPr/>
        </p:nvSpPr>
        <p:spPr>
          <a:xfrm>
            <a:off x="7493040" y="248292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AutoShape 100"/>
          <p:cNvSpPr/>
          <p:nvPr/>
        </p:nvSpPr>
        <p:spPr>
          <a:xfrm>
            <a:off x="13246200" y="5715000"/>
            <a:ext cx="1028520" cy="72072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正方形/長方形 24"/>
          <p:cNvSpPr/>
          <p:nvPr/>
        </p:nvSpPr>
        <p:spPr>
          <a:xfrm rot="5400000">
            <a:off x="-64080" y="5236200"/>
            <a:ext cx="15334920" cy="1091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Rectangle 57"/>
          <p:cNvSpPr/>
          <p:nvPr/>
        </p:nvSpPr>
        <p:spPr>
          <a:xfrm rot="5400000">
            <a:off x="151560" y="5443920"/>
            <a:ext cx="14903280" cy="1046952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Rectangle 52"/>
          <p:cNvSpPr/>
          <p:nvPr/>
        </p:nvSpPr>
        <p:spPr>
          <a:xfrm rot="5400000">
            <a:off x="52920" y="5331240"/>
            <a:ext cx="15106680" cy="1069812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AutoShape 96"/>
          <p:cNvSpPr/>
          <p:nvPr/>
        </p:nvSpPr>
        <p:spPr>
          <a:xfrm>
            <a:off x="930240" y="6850080"/>
            <a:ext cx="1028880" cy="70308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AutoShape 97"/>
          <p:cNvSpPr/>
          <p:nvPr/>
        </p:nvSpPr>
        <p:spPr>
          <a:xfrm>
            <a:off x="901800" y="5504040"/>
            <a:ext cx="1028520" cy="57132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" name="グラフィックス 29" descr=""/>
          <p:cNvPicPr/>
          <p:nvPr/>
        </p:nvPicPr>
        <p:blipFill>
          <a:blip r:embed="rId3"/>
          <a:stretch/>
        </p:blipFill>
        <p:spPr>
          <a:xfrm>
            <a:off x="6859440" y="1550880"/>
            <a:ext cx="1417680" cy="289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7" name="Picture 95" descr=""/>
          <p:cNvPicPr/>
          <p:nvPr/>
        </p:nvPicPr>
        <p:blipFill>
          <a:blip r:embed="rId2"/>
          <a:stretch/>
        </p:blipFill>
        <p:spPr>
          <a:xfrm>
            <a:off x="13173120" y="11949120"/>
            <a:ext cx="1212840" cy="1525680"/>
          </a:xfrm>
          <a:prstGeom prst="rect">
            <a:avLst/>
          </a:prstGeom>
          <a:ln w="0">
            <a:noFill/>
          </a:ln>
        </p:spPr>
      </p:pic>
      <p:sp>
        <p:nvSpPr>
          <p:cNvPr id="558" name="Text Box 101"/>
          <p:cNvSpPr/>
          <p:nvPr/>
        </p:nvSpPr>
        <p:spPr>
          <a:xfrm>
            <a:off x="5276880" y="1944540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9" name="Group 83"/>
          <p:cNvGrpSpPr/>
          <p:nvPr/>
        </p:nvGrpSpPr>
        <p:grpSpPr>
          <a:xfrm>
            <a:off x="1918080" y="2820960"/>
            <a:ext cx="11336040" cy="15741720"/>
            <a:chOff x="1918080" y="2820960"/>
            <a:chExt cx="11336040" cy="15741720"/>
          </a:xfrm>
        </p:grpSpPr>
        <p:sp>
          <p:nvSpPr>
            <p:cNvPr id="560" name="Line 22"/>
            <p:cNvSpPr/>
            <p:nvPr/>
          </p:nvSpPr>
          <p:spPr>
            <a:xfrm>
              <a:off x="13065480" y="2820960"/>
              <a:ext cx="0" cy="15741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1" name="Line 23"/>
            <p:cNvSpPr/>
            <p:nvPr/>
          </p:nvSpPr>
          <p:spPr>
            <a:xfrm>
              <a:off x="12957480" y="2820960"/>
              <a:ext cx="0" cy="15741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2" name="Line 24"/>
            <p:cNvSpPr/>
            <p:nvPr/>
          </p:nvSpPr>
          <p:spPr>
            <a:xfrm>
              <a:off x="7617240" y="2820960"/>
              <a:ext cx="0" cy="15741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3" name="Line 25"/>
            <p:cNvSpPr/>
            <p:nvPr/>
          </p:nvSpPr>
          <p:spPr>
            <a:xfrm>
              <a:off x="2262600" y="2820960"/>
              <a:ext cx="0" cy="15741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4" name="Line 26"/>
            <p:cNvSpPr/>
            <p:nvPr/>
          </p:nvSpPr>
          <p:spPr>
            <a:xfrm>
              <a:off x="2154600" y="2820960"/>
              <a:ext cx="0" cy="15741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5" name="Line 27"/>
            <p:cNvSpPr/>
            <p:nvPr/>
          </p:nvSpPr>
          <p:spPr>
            <a:xfrm flipH="1">
              <a:off x="1924200" y="3019320"/>
              <a:ext cx="113299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6" name="Line 28"/>
            <p:cNvSpPr/>
            <p:nvPr/>
          </p:nvSpPr>
          <p:spPr>
            <a:xfrm flipH="1">
              <a:off x="1930680" y="3127320"/>
              <a:ext cx="113234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7" name="Line 29"/>
            <p:cNvSpPr/>
            <p:nvPr/>
          </p:nvSpPr>
          <p:spPr>
            <a:xfrm flipH="1">
              <a:off x="1918080" y="10685160"/>
              <a:ext cx="113360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8" name="Line 30"/>
            <p:cNvSpPr/>
            <p:nvPr/>
          </p:nvSpPr>
          <p:spPr>
            <a:xfrm flipH="1">
              <a:off x="1930680" y="18249840"/>
              <a:ext cx="113234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9" name="Line 31"/>
            <p:cNvSpPr/>
            <p:nvPr/>
          </p:nvSpPr>
          <p:spPr>
            <a:xfrm flipH="1">
              <a:off x="1930680" y="18354600"/>
              <a:ext cx="113234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0" name="Rectangle 32"/>
            <p:cNvSpPr/>
            <p:nvPr/>
          </p:nvSpPr>
          <p:spPr>
            <a:xfrm rot="5400000">
              <a:off x="50040" y="5337720"/>
              <a:ext cx="15106680" cy="107013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1" name="AutoShape 98"/>
          <p:cNvSpPr/>
          <p:nvPr/>
        </p:nvSpPr>
        <p:spPr>
          <a:xfrm>
            <a:off x="7478640" y="1865484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AutoShape 99"/>
          <p:cNvSpPr/>
          <p:nvPr/>
        </p:nvSpPr>
        <p:spPr>
          <a:xfrm>
            <a:off x="7493040" y="248292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AutoShape 100"/>
          <p:cNvSpPr/>
          <p:nvPr/>
        </p:nvSpPr>
        <p:spPr>
          <a:xfrm>
            <a:off x="13246200" y="5715000"/>
            <a:ext cx="1028520" cy="72072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正方形/長方形 24"/>
          <p:cNvSpPr/>
          <p:nvPr/>
        </p:nvSpPr>
        <p:spPr>
          <a:xfrm rot="5400000">
            <a:off x="-64080" y="5236200"/>
            <a:ext cx="15334920" cy="1091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Rectangle 57"/>
          <p:cNvSpPr/>
          <p:nvPr/>
        </p:nvSpPr>
        <p:spPr>
          <a:xfrm rot="5400000">
            <a:off x="151560" y="5443920"/>
            <a:ext cx="14903280" cy="1046952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Rectangle 52"/>
          <p:cNvSpPr/>
          <p:nvPr/>
        </p:nvSpPr>
        <p:spPr>
          <a:xfrm rot="5400000">
            <a:off x="52920" y="5331240"/>
            <a:ext cx="15106680" cy="1069812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AutoShape 96"/>
          <p:cNvSpPr/>
          <p:nvPr/>
        </p:nvSpPr>
        <p:spPr>
          <a:xfrm>
            <a:off x="930240" y="6850080"/>
            <a:ext cx="1028880" cy="70308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AutoShape 97"/>
          <p:cNvSpPr/>
          <p:nvPr/>
        </p:nvSpPr>
        <p:spPr>
          <a:xfrm>
            <a:off x="901800" y="5504040"/>
            <a:ext cx="1028520" cy="57132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9" name="グラフィックス 29" descr=""/>
          <p:cNvPicPr/>
          <p:nvPr/>
        </p:nvPicPr>
        <p:blipFill>
          <a:blip r:embed="rId3"/>
          <a:stretch/>
        </p:blipFill>
        <p:spPr>
          <a:xfrm>
            <a:off x="6859440" y="1550880"/>
            <a:ext cx="1417680" cy="289080"/>
          </a:xfrm>
          <a:prstGeom prst="rect">
            <a:avLst/>
          </a:prstGeom>
          <a:ln w="0">
            <a:noFill/>
          </a:ln>
        </p:spPr>
      </p:pic>
      <p:sp>
        <p:nvSpPr>
          <p:cNvPr id="580" name="PlaceHolder 1"/>
          <p:cNvSpPr>
            <a:spLocks noGrp="1"/>
          </p:cNvSpPr>
          <p:nvPr>
            <p:ph type="dt" idx="25"/>
          </p:nvPr>
        </p:nvSpPr>
        <p:spPr>
          <a:xfrm>
            <a:off x="1039680" y="19819800"/>
            <a:ext cx="340200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 type="ftr" idx="26"/>
          </p:nvPr>
        </p:nvSpPr>
        <p:spPr>
          <a:xfrm>
            <a:off x="5008320" y="19819800"/>
            <a:ext cx="510228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 type="sldNum" idx="27"/>
          </p:nvPr>
        </p:nvSpPr>
        <p:spPr>
          <a:xfrm>
            <a:off x="10677600" y="19819800"/>
            <a:ext cx="340200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1647A1B-3BC7-4288-A731-D54E913A2F1A}" type="slidenum"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9" name="Picture 95" descr=""/>
          <p:cNvPicPr/>
          <p:nvPr/>
        </p:nvPicPr>
        <p:blipFill>
          <a:blip r:embed="rId2"/>
          <a:stretch/>
        </p:blipFill>
        <p:spPr>
          <a:xfrm>
            <a:off x="13173120" y="11949120"/>
            <a:ext cx="1212840" cy="1525680"/>
          </a:xfrm>
          <a:prstGeom prst="rect">
            <a:avLst/>
          </a:prstGeom>
          <a:ln w="0">
            <a:noFill/>
          </a:ln>
        </p:spPr>
      </p:pic>
      <p:sp>
        <p:nvSpPr>
          <p:cNvPr id="620" name="Text Box 101"/>
          <p:cNvSpPr/>
          <p:nvPr/>
        </p:nvSpPr>
        <p:spPr>
          <a:xfrm>
            <a:off x="5276880" y="1944540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21" name="Group 83"/>
          <p:cNvGrpSpPr/>
          <p:nvPr/>
        </p:nvGrpSpPr>
        <p:grpSpPr>
          <a:xfrm>
            <a:off x="1918080" y="2820960"/>
            <a:ext cx="11336040" cy="15741720"/>
            <a:chOff x="1918080" y="2820960"/>
            <a:chExt cx="11336040" cy="15741720"/>
          </a:xfrm>
        </p:grpSpPr>
        <p:sp>
          <p:nvSpPr>
            <p:cNvPr id="622" name="Line 22"/>
            <p:cNvSpPr/>
            <p:nvPr/>
          </p:nvSpPr>
          <p:spPr>
            <a:xfrm>
              <a:off x="13065480" y="2820960"/>
              <a:ext cx="0" cy="15741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3" name="Line 23"/>
            <p:cNvSpPr/>
            <p:nvPr/>
          </p:nvSpPr>
          <p:spPr>
            <a:xfrm>
              <a:off x="12957480" y="2820960"/>
              <a:ext cx="0" cy="15741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4" name="Line 24"/>
            <p:cNvSpPr/>
            <p:nvPr/>
          </p:nvSpPr>
          <p:spPr>
            <a:xfrm>
              <a:off x="7617240" y="2820960"/>
              <a:ext cx="0" cy="15741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5" name="Line 25"/>
            <p:cNvSpPr/>
            <p:nvPr/>
          </p:nvSpPr>
          <p:spPr>
            <a:xfrm>
              <a:off x="2262600" y="2820960"/>
              <a:ext cx="0" cy="15741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6" name="Line 26"/>
            <p:cNvSpPr/>
            <p:nvPr/>
          </p:nvSpPr>
          <p:spPr>
            <a:xfrm>
              <a:off x="2154600" y="2820960"/>
              <a:ext cx="0" cy="15741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7" name="Line 27"/>
            <p:cNvSpPr/>
            <p:nvPr/>
          </p:nvSpPr>
          <p:spPr>
            <a:xfrm flipH="1">
              <a:off x="1924200" y="3019320"/>
              <a:ext cx="113299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8" name="Line 28"/>
            <p:cNvSpPr/>
            <p:nvPr/>
          </p:nvSpPr>
          <p:spPr>
            <a:xfrm flipH="1">
              <a:off x="1930680" y="3127320"/>
              <a:ext cx="113234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9" name="Line 29"/>
            <p:cNvSpPr/>
            <p:nvPr/>
          </p:nvSpPr>
          <p:spPr>
            <a:xfrm flipH="1">
              <a:off x="1918080" y="10685160"/>
              <a:ext cx="113360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0" name="Line 30"/>
            <p:cNvSpPr/>
            <p:nvPr/>
          </p:nvSpPr>
          <p:spPr>
            <a:xfrm flipH="1">
              <a:off x="1930680" y="18249840"/>
              <a:ext cx="113234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1" name="Line 31"/>
            <p:cNvSpPr/>
            <p:nvPr/>
          </p:nvSpPr>
          <p:spPr>
            <a:xfrm flipH="1">
              <a:off x="1930680" y="18354600"/>
              <a:ext cx="113234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2" name="Rectangle 32"/>
            <p:cNvSpPr/>
            <p:nvPr/>
          </p:nvSpPr>
          <p:spPr>
            <a:xfrm rot="5400000">
              <a:off x="50040" y="5337720"/>
              <a:ext cx="15106680" cy="107013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33" name="AutoShape 98"/>
          <p:cNvSpPr/>
          <p:nvPr/>
        </p:nvSpPr>
        <p:spPr>
          <a:xfrm>
            <a:off x="7478640" y="1865484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AutoShape 99"/>
          <p:cNvSpPr/>
          <p:nvPr/>
        </p:nvSpPr>
        <p:spPr>
          <a:xfrm>
            <a:off x="7493040" y="248292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AutoShape 100"/>
          <p:cNvSpPr/>
          <p:nvPr/>
        </p:nvSpPr>
        <p:spPr>
          <a:xfrm>
            <a:off x="13246200" y="5715000"/>
            <a:ext cx="1028520" cy="72072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正方形/長方形 24"/>
          <p:cNvSpPr/>
          <p:nvPr/>
        </p:nvSpPr>
        <p:spPr>
          <a:xfrm rot="5400000">
            <a:off x="-64080" y="5236200"/>
            <a:ext cx="15334920" cy="1091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Rectangle 57"/>
          <p:cNvSpPr/>
          <p:nvPr/>
        </p:nvSpPr>
        <p:spPr>
          <a:xfrm rot="5400000">
            <a:off x="151560" y="5443920"/>
            <a:ext cx="14903280" cy="1046952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Rectangle 52"/>
          <p:cNvSpPr/>
          <p:nvPr/>
        </p:nvSpPr>
        <p:spPr>
          <a:xfrm rot="5400000">
            <a:off x="52920" y="5331240"/>
            <a:ext cx="15106680" cy="1069812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AutoShape 96"/>
          <p:cNvSpPr/>
          <p:nvPr/>
        </p:nvSpPr>
        <p:spPr>
          <a:xfrm>
            <a:off x="930240" y="6850080"/>
            <a:ext cx="1028880" cy="70308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AutoShape 97"/>
          <p:cNvSpPr/>
          <p:nvPr/>
        </p:nvSpPr>
        <p:spPr>
          <a:xfrm>
            <a:off x="901800" y="5504040"/>
            <a:ext cx="1028520" cy="57132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1" name="グラフィックス 29" descr=""/>
          <p:cNvPicPr/>
          <p:nvPr/>
        </p:nvPicPr>
        <p:blipFill>
          <a:blip r:embed="rId3"/>
          <a:stretch/>
        </p:blipFill>
        <p:spPr>
          <a:xfrm>
            <a:off x="6859440" y="1550880"/>
            <a:ext cx="1417680" cy="289080"/>
          </a:xfrm>
          <a:prstGeom prst="rect">
            <a:avLst/>
          </a:prstGeom>
          <a:ln w="0">
            <a:noFill/>
          </a:ln>
        </p:spPr>
      </p:pic>
      <p:sp>
        <p:nvSpPr>
          <p:cNvPr id="642" name="PlaceHolder 1"/>
          <p:cNvSpPr>
            <a:spLocks noGrp="1"/>
          </p:cNvSpPr>
          <p:nvPr>
            <p:ph type="dt" idx="28"/>
          </p:nvPr>
        </p:nvSpPr>
        <p:spPr>
          <a:xfrm>
            <a:off x="1039680" y="19819800"/>
            <a:ext cx="340200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 type="ftr" idx="29"/>
          </p:nvPr>
        </p:nvSpPr>
        <p:spPr>
          <a:xfrm>
            <a:off x="5008320" y="19819800"/>
            <a:ext cx="510228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 type="sldNum" idx="30"/>
          </p:nvPr>
        </p:nvSpPr>
        <p:spPr>
          <a:xfrm>
            <a:off x="10677600" y="19819800"/>
            <a:ext cx="340200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DB1D91-AE49-4C26-9E75-D8B84C86300F}" type="slidenum"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1" name="Picture 95" descr=""/>
          <p:cNvPicPr/>
          <p:nvPr/>
        </p:nvPicPr>
        <p:blipFill>
          <a:blip r:embed="rId2"/>
          <a:stretch/>
        </p:blipFill>
        <p:spPr>
          <a:xfrm>
            <a:off x="13173120" y="11949120"/>
            <a:ext cx="1212840" cy="1525680"/>
          </a:xfrm>
          <a:prstGeom prst="rect">
            <a:avLst/>
          </a:prstGeom>
          <a:ln w="0">
            <a:noFill/>
          </a:ln>
        </p:spPr>
      </p:pic>
      <p:sp>
        <p:nvSpPr>
          <p:cNvPr id="682" name="Text Box 101"/>
          <p:cNvSpPr/>
          <p:nvPr/>
        </p:nvSpPr>
        <p:spPr>
          <a:xfrm>
            <a:off x="5276880" y="1944540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83" name="Group 83"/>
          <p:cNvGrpSpPr/>
          <p:nvPr/>
        </p:nvGrpSpPr>
        <p:grpSpPr>
          <a:xfrm>
            <a:off x="1918080" y="2820960"/>
            <a:ext cx="11336040" cy="15741720"/>
            <a:chOff x="1918080" y="2820960"/>
            <a:chExt cx="11336040" cy="15741720"/>
          </a:xfrm>
        </p:grpSpPr>
        <p:sp>
          <p:nvSpPr>
            <p:cNvPr id="684" name="Line 22"/>
            <p:cNvSpPr/>
            <p:nvPr/>
          </p:nvSpPr>
          <p:spPr>
            <a:xfrm>
              <a:off x="13065480" y="2820960"/>
              <a:ext cx="0" cy="15741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5" name="Line 23"/>
            <p:cNvSpPr/>
            <p:nvPr/>
          </p:nvSpPr>
          <p:spPr>
            <a:xfrm>
              <a:off x="12957480" y="2820960"/>
              <a:ext cx="0" cy="15741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6" name="Line 24"/>
            <p:cNvSpPr/>
            <p:nvPr/>
          </p:nvSpPr>
          <p:spPr>
            <a:xfrm>
              <a:off x="7617240" y="2820960"/>
              <a:ext cx="0" cy="15741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7" name="Line 25"/>
            <p:cNvSpPr/>
            <p:nvPr/>
          </p:nvSpPr>
          <p:spPr>
            <a:xfrm>
              <a:off x="2262600" y="2820960"/>
              <a:ext cx="0" cy="15741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8" name="Line 26"/>
            <p:cNvSpPr/>
            <p:nvPr/>
          </p:nvSpPr>
          <p:spPr>
            <a:xfrm>
              <a:off x="2154600" y="2820960"/>
              <a:ext cx="0" cy="15741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9" name="Line 27"/>
            <p:cNvSpPr/>
            <p:nvPr/>
          </p:nvSpPr>
          <p:spPr>
            <a:xfrm flipH="1">
              <a:off x="1924200" y="3019320"/>
              <a:ext cx="113299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0" name="Line 28"/>
            <p:cNvSpPr/>
            <p:nvPr/>
          </p:nvSpPr>
          <p:spPr>
            <a:xfrm flipH="1">
              <a:off x="1930680" y="3127320"/>
              <a:ext cx="113234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1" name="Line 29"/>
            <p:cNvSpPr/>
            <p:nvPr/>
          </p:nvSpPr>
          <p:spPr>
            <a:xfrm flipH="1">
              <a:off x="1918080" y="10685160"/>
              <a:ext cx="113360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2" name="Line 30"/>
            <p:cNvSpPr/>
            <p:nvPr/>
          </p:nvSpPr>
          <p:spPr>
            <a:xfrm flipH="1">
              <a:off x="1930680" y="18249840"/>
              <a:ext cx="113234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3" name="Line 31"/>
            <p:cNvSpPr/>
            <p:nvPr/>
          </p:nvSpPr>
          <p:spPr>
            <a:xfrm flipH="1">
              <a:off x="1930680" y="18354600"/>
              <a:ext cx="113234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4" name="Rectangle 32"/>
            <p:cNvSpPr/>
            <p:nvPr/>
          </p:nvSpPr>
          <p:spPr>
            <a:xfrm rot="5400000">
              <a:off x="50040" y="5337720"/>
              <a:ext cx="15106680" cy="107013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95" name="AutoShape 98"/>
          <p:cNvSpPr/>
          <p:nvPr/>
        </p:nvSpPr>
        <p:spPr>
          <a:xfrm>
            <a:off x="7478640" y="1865484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AutoShape 99"/>
          <p:cNvSpPr/>
          <p:nvPr/>
        </p:nvSpPr>
        <p:spPr>
          <a:xfrm>
            <a:off x="7493040" y="248292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AutoShape 100"/>
          <p:cNvSpPr/>
          <p:nvPr/>
        </p:nvSpPr>
        <p:spPr>
          <a:xfrm>
            <a:off x="13246200" y="5715000"/>
            <a:ext cx="1028520" cy="72072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正方形/長方形 24"/>
          <p:cNvSpPr/>
          <p:nvPr/>
        </p:nvSpPr>
        <p:spPr>
          <a:xfrm rot="5400000">
            <a:off x="-64080" y="5236200"/>
            <a:ext cx="15334920" cy="1091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Rectangle 57"/>
          <p:cNvSpPr/>
          <p:nvPr/>
        </p:nvSpPr>
        <p:spPr>
          <a:xfrm rot="5400000">
            <a:off x="151560" y="5443920"/>
            <a:ext cx="14903280" cy="1046952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Rectangle 52"/>
          <p:cNvSpPr/>
          <p:nvPr/>
        </p:nvSpPr>
        <p:spPr>
          <a:xfrm rot="5400000">
            <a:off x="52920" y="5331240"/>
            <a:ext cx="15106680" cy="1069812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AutoShape 96"/>
          <p:cNvSpPr/>
          <p:nvPr/>
        </p:nvSpPr>
        <p:spPr>
          <a:xfrm>
            <a:off x="930240" y="6850080"/>
            <a:ext cx="1028880" cy="70308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AutoShape 97"/>
          <p:cNvSpPr/>
          <p:nvPr/>
        </p:nvSpPr>
        <p:spPr>
          <a:xfrm>
            <a:off x="901800" y="5504040"/>
            <a:ext cx="1028520" cy="57132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3" name="グラフィックス 29" descr=""/>
          <p:cNvPicPr/>
          <p:nvPr/>
        </p:nvPicPr>
        <p:blipFill>
          <a:blip r:embed="rId3"/>
          <a:stretch/>
        </p:blipFill>
        <p:spPr>
          <a:xfrm>
            <a:off x="6859440" y="1550880"/>
            <a:ext cx="1417680" cy="289080"/>
          </a:xfrm>
          <a:prstGeom prst="rect">
            <a:avLst/>
          </a:prstGeom>
          <a:ln w="0">
            <a:noFill/>
          </a:ln>
        </p:spPr>
      </p:pic>
      <p:sp>
        <p:nvSpPr>
          <p:cNvPr id="704" name="PlaceHolder 1"/>
          <p:cNvSpPr>
            <a:spLocks noGrp="1"/>
          </p:cNvSpPr>
          <p:nvPr>
            <p:ph type="dt" idx="31"/>
          </p:nvPr>
        </p:nvSpPr>
        <p:spPr>
          <a:xfrm>
            <a:off x="1039680" y="19819800"/>
            <a:ext cx="340200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 type="ftr" idx="32"/>
          </p:nvPr>
        </p:nvSpPr>
        <p:spPr>
          <a:xfrm>
            <a:off x="5008320" y="19819800"/>
            <a:ext cx="510228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 type="sldNum" idx="33"/>
          </p:nvPr>
        </p:nvSpPr>
        <p:spPr>
          <a:xfrm>
            <a:off x="10677600" y="19819800"/>
            <a:ext cx="340200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B9E0A6-77A4-4311-834A-947E17B2294E}" type="slidenum"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95" descr=""/>
          <p:cNvPicPr/>
          <p:nvPr/>
        </p:nvPicPr>
        <p:blipFill>
          <a:blip r:embed="rId2"/>
          <a:stretch/>
        </p:blipFill>
        <p:spPr>
          <a:xfrm>
            <a:off x="13173120" y="11949120"/>
            <a:ext cx="1212840" cy="1525680"/>
          </a:xfrm>
          <a:prstGeom prst="rect">
            <a:avLst/>
          </a:prstGeom>
          <a:ln w="0">
            <a:noFill/>
          </a:ln>
        </p:spPr>
      </p:pic>
      <p:sp>
        <p:nvSpPr>
          <p:cNvPr id="60" name="Text Box 101"/>
          <p:cNvSpPr/>
          <p:nvPr/>
        </p:nvSpPr>
        <p:spPr>
          <a:xfrm>
            <a:off x="5276880" y="1944540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1" name="Group 83"/>
          <p:cNvGrpSpPr/>
          <p:nvPr/>
        </p:nvGrpSpPr>
        <p:grpSpPr>
          <a:xfrm>
            <a:off x="1918080" y="2820960"/>
            <a:ext cx="11336040" cy="15741720"/>
            <a:chOff x="1918080" y="2820960"/>
            <a:chExt cx="11336040" cy="15741720"/>
          </a:xfrm>
        </p:grpSpPr>
        <p:sp>
          <p:nvSpPr>
            <p:cNvPr id="62" name="Line 22"/>
            <p:cNvSpPr/>
            <p:nvPr/>
          </p:nvSpPr>
          <p:spPr>
            <a:xfrm>
              <a:off x="13065480" y="2820960"/>
              <a:ext cx="0" cy="15741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Line 23"/>
            <p:cNvSpPr/>
            <p:nvPr/>
          </p:nvSpPr>
          <p:spPr>
            <a:xfrm>
              <a:off x="12957480" y="2820960"/>
              <a:ext cx="0" cy="15741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Line 24"/>
            <p:cNvSpPr/>
            <p:nvPr/>
          </p:nvSpPr>
          <p:spPr>
            <a:xfrm>
              <a:off x="7617240" y="2820960"/>
              <a:ext cx="0" cy="15741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Line 25"/>
            <p:cNvSpPr/>
            <p:nvPr/>
          </p:nvSpPr>
          <p:spPr>
            <a:xfrm>
              <a:off x="2262600" y="2820960"/>
              <a:ext cx="0" cy="15741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" name="Line 26"/>
            <p:cNvSpPr/>
            <p:nvPr/>
          </p:nvSpPr>
          <p:spPr>
            <a:xfrm>
              <a:off x="2154600" y="2820960"/>
              <a:ext cx="0" cy="15741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" name="Line 27"/>
            <p:cNvSpPr/>
            <p:nvPr/>
          </p:nvSpPr>
          <p:spPr>
            <a:xfrm flipH="1">
              <a:off x="1924200" y="3019320"/>
              <a:ext cx="113299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" name="Line 28"/>
            <p:cNvSpPr/>
            <p:nvPr/>
          </p:nvSpPr>
          <p:spPr>
            <a:xfrm flipH="1">
              <a:off x="1930680" y="3127320"/>
              <a:ext cx="113234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" name="Line 29"/>
            <p:cNvSpPr/>
            <p:nvPr/>
          </p:nvSpPr>
          <p:spPr>
            <a:xfrm flipH="1">
              <a:off x="1918080" y="10685160"/>
              <a:ext cx="113360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" name="Line 30"/>
            <p:cNvSpPr/>
            <p:nvPr/>
          </p:nvSpPr>
          <p:spPr>
            <a:xfrm flipH="1">
              <a:off x="1930680" y="18249840"/>
              <a:ext cx="113234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" name="Line 31"/>
            <p:cNvSpPr/>
            <p:nvPr/>
          </p:nvSpPr>
          <p:spPr>
            <a:xfrm flipH="1">
              <a:off x="1930680" y="18354600"/>
              <a:ext cx="113234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" name="Rectangle 32"/>
            <p:cNvSpPr/>
            <p:nvPr/>
          </p:nvSpPr>
          <p:spPr>
            <a:xfrm rot="5400000">
              <a:off x="50040" y="5337720"/>
              <a:ext cx="15106680" cy="107013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3" name="AutoShape 98"/>
          <p:cNvSpPr/>
          <p:nvPr/>
        </p:nvSpPr>
        <p:spPr>
          <a:xfrm>
            <a:off x="7478640" y="1865484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AutoShape 99"/>
          <p:cNvSpPr/>
          <p:nvPr/>
        </p:nvSpPr>
        <p:spPr>
          <a:xfrm>
            <a:off x="7493040" y="248292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AutoShape 100"/>
          <p:cNvSpPr/>
          <p:nvPr/>
        </p:nvSpPr>
        <p:spPr>
          <a:xfrm>
            <a:off x="13246200" y="5715000"/>
            <a:ext cx="1028520" cy="72072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正方形/長方形 24"/>
          <p:cNvSpPr/>
          <p:nvPr/>
        </p:nvSpPr>
        <p:spPr>
          <a:xfrm rot="5400000">
            <a:off x="-64080" y="5236200"/>
            <a:ext cx="15334920" cy="1091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Rectangle 57"/>
          <p:cNvSpPr/>
          <p:nvPr/>
        </p:nvSpPr>
        <p:spPr>
          <a:xfrm rot="5400000">
            <a:off x="151560" y="5443920"/>
            <a:ext cx="14903280" cy="1046952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Rectangle 52"/>
          <p:cNvSpPr/>
          <p:nvPr/>
        </p:nvSpPr>
        <p:spPr>
          <a:xfrm rot="5400000">
            <a:off x="52920" y="5331240"/>
            <a:ext cx="15106680" cy="1069812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AutoShape 96"/>
          <p:cNvSpPr/>
          <p:nvPr/>
        </p:nvSpPr>
        <p:spPr>
          <a:xfrm>
            <a:off x="930240" y="6850080"/>
            <a:ext cx="1028880" cy="70308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AutoShape 97"/>
          <p:cNvSpPr/>
          <p:nvPr/>
        </p:nvSpPr>
        <p:spPr>
          <a:xfrm>
            <a:off x="901800" y="5504040"/>
            <a:ext cx="1028520" cy="57132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グラフィックス 29" descr=""/>
          <p:cNvPicPr/>
          <p:nvPr/>
        </p:nvPicPr>
        <p:blipFill>
          <a:blip r:embed="rId3"/>
          <a:stretch/>
        </p:blipFill>
        <p:spPr>
          <a:xfrm>
            <a:off x="6859440" y="1550880"/>
            <a:ext cx="1417680" cy="28908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dt" idx="1"/>
          </p:nvPr>
        </p:nvSpPr>
        <p:spPr>
          <a:xfrm>
            <a:off x="1039680" y="19819800"/>
            <a:ext cx="340200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ftr" idx="2"/>
          </p:nvPr>
        </p:nvSpPr>
        <p:spPr>
          <a:xfrm>
            <a:off x="5008320" y="19819800"/>
            <a:ext cx="510228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3"/>
          </p:nvPr>
        </p:nvSpPr>
        <p:spPr>
          <a:xfrm>
            <a:off x="10677600" y="19819800"/>
            <a:ext cx="340200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C69C68D-8C6E-4F68-A3B2-3E4F80ECD19F}" type="slidenum"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title"/>
          </p:nvPr>
        </p:nvSpPr>
        <p:spPr>
          <a:xfrm>
            <a:off x="756000" y="853200"/>
            <a:ext cx="13607640" cy="35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7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756000" y="5003640"/>
            <a:ext cx="13607640" cy="1240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8000" indent="-378000">
              <a:lnSpc>
                <a:spcPct val="90000"/>
              </a:lnSpc>
              <a:spcBef>
                <a:spcPts val="1650"/>
              </a:spcBef>
              <a:buClr>
                <a:srgbClr val="000000"/>
              </a:buClr>
              <a:buFont typeface="Arial"/>
              <a:buChar char="•"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  <a:p>
            <a:pPr lvl="1" marL="1133640" indent="-3780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1511280"/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  <a:p>
            <a:pPr lvl="2" marL="1889280" indent="-3780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lvl="3" marL="2644920" indent="-3780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3022560"/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3400560" indent="-3780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4533840"/>
                <a:tab algn="l" pos="6045120"/>
                <a:tab algn="l" pos="7556400"/>
                <a:tab algn="l" pos="9067680"/>
                <a:tab algn="l" pos="105789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3400560" indent="-37800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3400560" indent="-37800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95" descr=""/>
          <p:cNvPicPr/>
          <p:nvPr/>
        </p:nvPicPr>
        <p:blipFill>
          <a:blip r:embed="rId2"/>
          <a:stretch/>
        </p:blipFill>
        <p:spPr>
          <a:xfrm>
            <a:off x="13173120" y="11949120"/>
            <a:ext cx="1212840" cy="152568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101"/>
          <p:cNvSpPr/>
          <p:nvPr/>
        </p:nvSpPr>
        <p:spPr>
          <a:xfrm>
            <a:off x="5276880" y="1944540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5" name="Group 83"/>
          <p:cNvGrpSpPr/>
          <p:nvPr/>
        </p:nvGrpSpPr>
        <p:grpSpPr>
          <a:xfrm>
            <a:off x="1918080" y="2820960"/>
            <a:ext cx="11336040" cy="15741720"/>
            <a:chOff x="1918080" y="2820960"/>
            <a:chExt cx="11336040" cy="15741720"/>
          </a:xfrm>
        </p:grpSpPr>
        <p:sp>
          <p:nvSpPr>
            <p:cNvPr id="126" name="Line 22"/>
            <p:cNvSpPr/>
            <p:nvPr/>
          </p:nvSpPr>
          <p:spPr>
            <a:xfrm>
              <a:off x="13065480" y="2820960"/>
              <a:ext cx="0" cy="15741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" name="Line 23"/>
            <p:cNvSpPr/>
            <p:nvPr/>
          </p:nvSpPr>
          <p:spPr>
            <a:xfrm>
              <a:off x="12957480" y="2820960"/>
              <a:ext cx="0" cy="15741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" name="Line 24"/>
            <p:cNvSpPr/>
            <p:nvPr/>
          </p:nvSpPr>
          <p:spPr>
            <a:xfrm>
              <a:off x="7617240" y="2820960"/>
              <a:ext cx="0" cy="15741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" name="Line 25"/>
            <p:cNvSpPr/>
            <p:nvPr/>
          </p:nvSpPr>
          <p:spPr>
            <a:xfrm>
              <a:off x="2262600" y="2820960"/>
              <a:ext cx="0" cy="15741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" name="Line 26"/>
            <p:cNvSpPr/>
            <p:nvPr/>
          </p:nvSpPr>
          <p:spPr>
            <a:xfrm>
              <a:off x="2154600" y="2820960"/>
              <a:ext cx="0" cy="15741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" name="Line 27"/>
            <p:cNvSpPr/>
            <p:nvPr/>
          </p:nvSpPr>
          <p:spPr>
            <a:xfrm flipH="1">
              <a:off x="1924200" y="3019320"/>
              <a:ext cx="113299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" name="Line 28"/>
            <p:cNvSpPr/>
            <p:nvPr/>
          </p:nvSpPr>
          <p:spPr>
            <a:xfrm flipH="1">
              <a:off x="1930680" y="3127320"/>
              <a:ext cx="113234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" name="Line 29"/>
            <p:cNvSpPr/>
            <p:nvPr/>
          </p:nvSpPr>
          <p:spPr>
            <a:xfrm flipH="1">
              <a:off x="1918080" y="10685160"/>
              <a:ext cx="113360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" name="Line 30"/>
            <p:cNvSpPr/>
            <p:nvPr/>
          </p:nvSpPr>
          <p:spPr>
            <a:xfrm flipH="1">
              <a:off x="1930680" y="18249840"/>
              <a:ext cx="113234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Line 31"/>
            <p:cNvSpPr/>
            <p:nvPr/>
          </p:nvSpPr>
          <p:spPr>
            <a:xfrm flipH="1">
              <a:off x="1930680" y="18354600"/>
              <a:ext cx="113234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Rectangle 32"/>
            <p:cNvSpPr/>
            <p:nvPr/>
          </p:nvSpPr>
          <p:spPr>
            <a:xfrm rot="5400000">
              <a:off x="50040" y="5337720"/>
              <a:ext cx="15106680" cy="107013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7" name="AutoShape 98"/>
          <p:cNvSpPr/>
          <p:nvPr/>
        </p:nvSpPr>
        <p:spPr>
          <a:xfrm>
            <a:off x="7478640" y="1865484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AutoShape 99"/>
          <p:cNvSpPr/>
          <p:nvPr/>
        </p:nvSpPr>
        <p:spPr>
          <a:xfrm>
            <a:off x="7493040" y="248292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AutoShape 100"/>
          <p:cNvSpPr/>
          <p:nvPr/>
        </p:nvSpPr>
        <p:spPr>
          <a:xfrm>
            <a:off x="13246200" y="5715000"/>
            <a:ext cx="1028520" cy="72072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正方形/長方形 24"/>
          <p:cNvSpPr/>
          <p:nvPr/>
        </p:nvSpPr>
        <p:spPr>
          <a:xfrm rot="5400000">
            <a:off x="-64080" y="5236200"/>
            <a:ext cx="15334920" cy="1091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Rectangle 57"/>
          <p:cNvSpPr/>
          <p:nvPr/>
        </p:nvSpPr>
        <p:spPr>
          <a:xfrm rot="5400000">
            <a:off x="151560" y="5443920"/>
            <a:ext cx="14903280" cy="1046952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Rectangle 52"/>
          <p:cNvSpPr/>
          <p:nvPr/>
        </p:nvSpPr>
        <p:spPr>
          <a:xfrm rot="5400000">
            <a:off x="52920" y="5331240"/>
            <a:ext cx="15106680" cy="1069812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AutoShape 96"/>
          <p:cNvSpPr/>
          <p:nvPr/>
        </p:nvSpPr>
        <p:spPr>
          <a:xfrm>
            <a:off x="930240" y="6850080"/>
            <a:ext cx="1028880" cy="70308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AutoShape 97"/>
          <p:cNvSpPr/>
          <p:nvPr/>
        </p:nvSpPr>
        <p:spPr>
          <a:xfrm>
            <a:off x="901800" y="5504040"/>
            <a:ext cx="1028520" cy="57132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" name="グラフィックス 29" descr=""/>
          <p:cNvPicPr/>
          <p:nvPr/>
        </p:nvPicPr>
        <p:blipFill>
          <a:blip r:embed="rId3"/>
          <a:stretch/>
        </p:blipFill>
        <p:spPr>
          <a:xfrm>
            <a:off x="6859440" y="1550880"/>
            <a:ext cx="1417680" cy="28908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dt" idx="4"/>
          </p:nvPr>
        </p:nvSpPr>
        <p:spPr>
          <a:xfrm>
            <a:off x="1039680" y="19819800"/>
            <a:ext cx="340200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ftr" idx="5"/>
          </p:nvPr>
        </p:nvSpPr>
        <p:spPr>
          <a:xfrm>
            <a:off x="5008320" y="19819800"/>
            <a:ext cx="510228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sldNum" idx="6"/>
          </p:nvPr>
        </p:nvSpPr>
        <p:spPr>
          <a:xfrm>
            <a:off x="10677600" y="19819800"/>
            <a:ext cx="340200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ABFCB6-AE14-44EF-B63A-5E9D060DF85F}" type="slidenum"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95" descr=""/>
          <p:cNvPicPr/>
          <p:nvPr/>
        </p:nvPicPr>
        <p:blipFill>
          <a:blip r:embed="rId2"/>
          <a:stretch/>
        </p:blipFill>
        <p:spPr>
          <a:xfrm>
            <a:off x="13173120" y="11949120"/>
            <a:ext cx="1212840" cy="152568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101"/>
          <p:cNvSpPr/>
          <p:nvPr/>
        </p:nvSpPr>
        <p:spPr>
          <a:xfrm>
            <a:off x="5276880" y="1944540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7" name="Group 83"/>
          <p:cNvGrpSpPr/>
          <p:nvPr/>
        </p:nvGrpSpPr>
        <p:grpSpPr>
          <a:xfrm>
            <a:off x="1918080" y="2820960"/>
            <a:ext cx="11336040" cy="15741720"/>
            <a:chOff x="1918080" y="2820960"/>
            <a:chExt cx="11336040" cy="15741720"/>
          </a:xfrm>
        </p:grpSpPr>
        <p:sp>
          <p:nvSpPr>
            <p:cNvPr id="188" name="Line 22"/>
            <p:cNvSpPr/>
            <p:nvPr/>
          </p:nvSpPr>
          <p:spPr>
            <a:xfrm>
              <a:off x="13065480" y="2820960"/>
              <a:ext cx="0" cy="15741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" name="Line 23"/>
            <p:cNvSpPr/>
            <p:nvPr/>
          </p:nvSpPr>
          <p:spPr>
            <a:xfrm>
              <a:off x="12957480" y="2820960"/>
              <a:ext cx="0" cy="15741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0" name="Line 24"/>
            <p:cNvSpPr/>
            <p:nvPr/>
          </p:nvSpPr>
          <p:spPr>
            <a:xfrm>
              <a:off x="7617240" y="2820960"/>
              <a:ext cx="0" cy="15741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" name="Line 25"/>
            <p:cNvSpPr/>
            <p:nvPr/>
          </p:nvSpPr>
          <p:spPr>
            <a:xfrm>
              <a:off x="2262600" y="2820960"/>
              <a:ext cx="0" cy="15741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2" name="Line 26"/>
            <p:cNvSpPr/>
            <p:nvPr/>
          </p:nvSpPr>
          <p:spPr>
            <a:xfrm>
              <a:off x="2154600" y="2820960"/>
              <a:ext cx="0" cy="15741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3" name="Line 27"/>
            <p:cNvSpPr/>
            <p:nvPr/>
          </p:nvSpPr>
          <p:spPr>
            <a:xfrm flipH="1">
              <a:off x="1924200" y="3019320"/>
              <a:ext cx="113299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" name="Line 28"/>
            <p:cNvSpPr/>
            <p:nvPr/>
          </p:nvSpPr>
          <p:spPr>
            <a:xfrm flipH="1">
              <a:off x="1930680" y="3127320"/>
              <a:ext cx="113234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" name="Line 29"/>
            <p:cNvSpPr/>
            <p:nvPr/>
          </p:nvSpPr>
          <p:spPr>
            <a:xfrm flipH="1">
              <a:off x="1918080" y="10685160"/>
              <a:ext cx="113360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6" name="Line 30"/>
            <p:cNvSpPr/>
            <p:nvPr/>
          </p:nvSpPr>
          <p:spPr>
            <a:xfrm flipH="1">
              <a:off x="1930680" y="18249840"/>
              <a:ext cx="113234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7" name="Line 31"/>
            <p:cNvSpPr/>
            <p:nvPr/>
          </p:nvSpPr>
          <p:spPr>
            <a:xfrm flipH="1">
              <a:off x="1930680" y="18354600"/>
              <a:ext cx="113234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8" name="Rectangle 32"/>
            <p:cNvSpPr/>
            <p:nvPr/>
          </p:nvSpPr>
          <p:spPr>
            <a:xfrm rot="5400000">
              <a:off x="50040" y="5337720"/>
              <a:ext cx="15106680" cy="107013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9" name="AutoShape 98"/>
          <p:cNvSpPr/>
          <p:nvPr/>
        </p:nvSpPr>
        <p:spPr>
          <a:xfrm>
            <a:off x="7478640" y="1865484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AutoShape 99"/>
          <p:cNvSpPr/>
          <p:nvPr/>
        </p:nvSpPr>
        <p:spPr>
          <a:xfrm>
            <a:off x="7493040" y="248292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AutoShape 100"/>
          <p:cNvSpPr/>
          <p:nvPr/>
        </p:nvSpPr>
        <p:spPr>
          <a:xfrm>
            <a:off x="13246200" y="5715000"/>
            <a:ext cx="1028520" cy="72072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正方形/長方形 24"/>
          <p:cNvSpPr/>
          <p:nvPr/>
        </p:nvSpPr>
        <p:spPr>
          <a:xfrm rot="5400000">
            <a:off x="-64080" y="5236200"/>
            <a:ext cx="15334920" cy="1091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Rectangle 57"/>
          <p:cNvSpPr/>
          <p:nvPr/>
        </p:nvSpPr>
        <p:spPr>
          <a:xfrm rot="5400000">
            <a:off x="151560" y="5443920"/>
            <a:ext cx="14903280" cy="1046952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Rectangle 52"/>
          <p:cNvSpPr/>
          <p:nvPr/>
        </p:nvSpPr>
        <p:spPr>
          <a:xfrm rot="5400000">
            <a:off x="52920" y="5331240"/>
            <a:ext cx="15106680" cy="1069812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AutoShape 96"/>
          <p:cNvSpPr/>
          <p:nvPr/>
        </p:nvSpPr>
        <p:spPr>
          <a:xfrm>
            <a:off x="930240" y="6850080"/>
            <a:ext cx="1028880" cy="70308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AutoShape 97"/>
          <p:cNvSpPr/>
          <p:nvPr/>
        </p:nvSpPr>
        <p:spPr>
          <a:xfrm>
            <a:off x="901800" y="5504040"/>
            <a:ext cx="1028520" cy="57132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7" name="グラフィックス 29" descr=""/>
          <p:cNvPicPr/>
          <p:nvPr/>
        </p:nvPicPr>
        <p:blipFill>
          <a:blip r:embed="rId3"/>
          <a:stretch/>
        </p:blipFill>
        <p:spPr>
          <a:xfrm>
            <a:off x="6859440" y="1550880"/>
            <a:ext cx="1417680" cy="289080"/>
          </a:xfrm>
          <a:prstGeom prst="rect">
            <a:avLst/>
          </a:prstGeom>
          <a:ln w="0">
            <a:noFill/>
          </a:ln>
        </p:spPr>
      </p:pic>
      <p:sp>
        <p:nvSpPr>
          <p:cNvPr id="208" name="PlaceHolder 1"/>
          <p:cNvSpPr>
            <a:spLocks noGrp="1"/>
          </p:cNvSpPr>
          <p:nvPr>
            <p:ph type="dt" idx="7"/>
          </p:nvPr>
        </p:nvSpPr>
        <p:spPr>
          <a:xfrm>
            <a:off x="1039680" y="19819800"/>
            <a:ext cx="340200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ftr" idx="8"/>
          </p:nvPr>
        </p:nvSpPr>
        <p:spPr>
          <a:xfrm>
            <a:off x="5008320" y="19819800"/>
            <a:ext cx="510228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sldNum" idx="9"/>
          </p:nvPr>
        </p:nvSpPr>
        <p:spPr>
          <a:xfrm>
            <a:off x="10677600" y="19819800"/>
            <a:ext cx="340200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5574ECA-0EFF-4C6A-9852-2D9E72117D81}" type="slidenum"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95" descr=""/>
          <p:cNvPicPr/>
          <p:nvPr/>
        </p:nvPicPr>
        <p:blipFill>
          <a:blip r:embed="rId2"/>
          <a:stretch/>
        </p:blipFill>
        <p:spPr>
          <a:xfrm>
            <a:off x="13173120" y="11949120"/>
            <a:ext cx="1212840" cy="1525680"/>
          </a:xfrm>
          <a:prstGeom prst="rect">
            <a:avLst/>
          </a:prstGeom>
          <a:ln w="0">
            <a:noFill/>
          </a:ln>
        </p:spPr>
      </p:pic>
      <p:sp>
        <p:nvSpPr>
          <p:cNvPr id="248" name="Text Box 101"/>
          <p:cNvSpPr/>
          <p:nvPr/>
        </p:nvSpPr>
        <p:spPr>
          <a:xfrm>
            <a:off x="5276880" y="1944540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49" name="Group 83"/>
          <p:cNvGrpSpPr/>
          <p:nvPr/>
        </p:nvGrpSpPr>
        <p:grpSpPr>
          <a:xfrm>
            <a:off x="1918080" y="2820960"/>
            <a:ext cx="11336040" cy="15741720"/>
            <a:chOff x="1918080" y="2820960"/>
            <a:chExt cx="11336040" cy="15741720"/>
          </a:xfrm>
        </p:grpSpPr>
        <p:sp>
          <p:nvSpPr>
            <p:cNvPr id="250" name="Line 22"/>
            <p:cNvSpPr/>
            <p:nvPr/>
          </p:nvSpPr>
          <p:spPr>
            <a:xfrm>
              <a:off x="13065480" y="2820960"/>
              <a:ext cx="0" cy="15741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1" name="Line 23"/>
            <p:cNvSpPr/>
            <p:nvPr/>
          </p:nvSpPr>
          <p:spPr>
            <a:xfrm>
              <a:off x="12957480" y="2820960"/>
              <a:ext cx="0" cy="15741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2" name="Line 24"/>
            <p:cNvSpPr/>
            <p:nvPr/>
          </p:nvSpPr>
          <p:spPr>
            <a:xfrm>
              <a:off x="7617240" y="2820960"/>
              <a:ext cx="0" cy="15741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3" name="Line 25"/>
            <p:cNvSpPr/>
            <p:nvPr/>
          </p:nvSpPr>
          <p:spPr>
            <a:xfrm>
              <a:off x="2262600" y="2820960"/>
              <a:ext cx="0" cy="15741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4" name="Line 26"/>
            <p:cNvSpPr/>
            <p:nvPr/>
          </p:nvSpPr>
          <p:spPr>
            <a:xfrm>
              <a:off x="2154600" y="2820960"/>
              <a:ext cx="0" cy="15741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5" name="Line 27"/>
            <p:cNvSpPr/>
            <p:nvPr/>
          </p:nvSpPr>
          <p:spPr>
            <a:xfrm flipH="1">
              <a:off x="1924200" y="3019320"/>
              <a:ext cx="113299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6" name="Line 28"/>
            <p:cNvSpPr/>
            <p:nvPr/>
          </p:nvSpPr>
          <p:spPr>
            <a:xfrm flipH="1">
              <a:off x="1930680" y="3127320"/>
              <a:ext cx="113234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7" name="Line 29"/>
            <p:cNvSpPr/>
            <p:nvPr/>
          </p:nvSpPr>
          <p:spPr>
            <a:xfrm flipH="1">
              <a:off x="1918080" y="10685160"/>
              <a:ext cx="113360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8" name="Line 30"/>
            <p:cNvSpPr/>
            <p:nvPr/>
          </p:nvSpPr>
          <p:spPr>
            <a:xfrm flipH="1">
              <a:off x="1930680" y="18249840"/>
              <a:ext cx="113234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9" name="Line 31"/>
            <p:cNvSpPr/>
            <p:nvPr/>
          </p:nvSpPr>
          <p:spPr>
            <a:xfrm flipH="1">
              <a:off x="1930680" y="18354600"/>
              <a:ext cx="113234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0" name="Rectangle 32"/>
            <p:cNvSpPr/>
            <p:nvPr/>
          </p:nvSpPr>
          <p:spPr>
            <a:xfrm rot="5400000">
              <a:off x="50040" y="5337720"/>
              <a:ext cx="15106680" cy="107013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61" name="AutoShape 98"/>
          <p:cNvSpPr/>
          <p:nvPr/>
        </p:nvSpPr>
        <p:spPr>
          <a:xfrm>
            <a:off x="7478640" y="1865484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AutoShape 99"/>
          <p:cNvSpPr/>
          <p:nvPr/>
        </p:nvSpPr>
        <p:spPr>
          <a:xfrm>
            <a:off x="7493040" y="248292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AutoShape 100"/>
          <p:cNvSpPr/>
          <p:nvPr/>
        </p:nvSpPr>
        <p:spPr>
          <a:xfrm>
            <a:off x="13246200" y="5715000"/>
            <a:ext cx="1028520" cy="72072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正方形/長方形 24"/>
          <p:cNvSpPr/>
          <p:nvPr/>
        </p:nvSpPr>
        <p:spPr>
          <a:xfrm rot="5400000">
            <a:off x="-64080" y="5236200"/>
            <a:ext cx="15334920" cy="1091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Rectangle 57"/>
          <p:cNvSpPr/>
          <p:nvPr/>
        </p:nvSpPr>
        <p:spPr>
          <a:xfrm rot="5400000">
            <a:off x="151560" y="5443920"/>
            <a:ext cx="14903280" cy="1046952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Rectangle 52"/>
          <p:cNvSpPr/>
          <p:nvPr/>
        </p:nvSpPr>
        <p:spPr>
          <a:xfrm rot="5400000">
            <a:off x="52920" y="5331240"/>
            <a:ext cx="15106680" cy="1069812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AutoShape 96"/>
          <p:cNvSpPr/>
          <p:nvPr/>
        </p:nvSpPr>
        <p:spPr>
          <a:xfrm>
            <a:off x="930240" y="6850080"/>
            <a:ext cx="1028880" cy="70308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AutoShape 97"/>
          <p:cNvSpPr/>
          <p:nvPr/>
        </p:nvSpPr>
        <p:spPr>
          <a:xfrm>
            <a:off x="901800" y="5504040"/>
            <a:ext cx="1028520" cy="57132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9" name="グラフィックス 29" descr=""/>
          <p:cNvPicPr/>
          <p:nvPr/>
        </p:nvPicPr>
        <p:blipFill>
          <a:blip r:embed="rId3"/>
          <a:stretch/>
        </p:blipFill>
        <p:spPr>
          <a:xfrm>
            <a:off x="6859440" y="1550880"/>
            <a:ext cx="1417680" cy="289080"/>
          </a:xfrm>
          <a:prstGeom prst="rect">
            <a:avLst/>
          </a:prstGeom>
          <a:ln w="0">
            <a:noFill/>
          </a:ln>
        </p:spPr>
      </p:pic>
      <p:sp>
        <p:nvSpPr>
          <p:cNvPr id="270" name="PlaceHolder 1"/>
          <p:cNvSpPr>
            <a:spLocks noGrp="1"/>
          </p:cNvSpPr>
          <p:nvPr>
            <p:ph type="dt" idx="10"/>
          </p:nvPr>
        </p:nvSpPr>
        <p:spPr>
          <a:xfrm>
            <a:off x="1039680" y="19819800"/>
            <a:ext cx="340200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ftr" idx="11"/>
          </p:nvPr>
        </p:nvSpPr>
        <p:spPr>
          <a:xfrm>
            <a:off x="5008320" y="19819800"/>
            <a:ext cx="510228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sldNum" idx="12"/>
          </p:nvPr>
        </p:nvSpPr>
        <p:spPr>
          <a:xfrm>
            <a:off x="10677600" y="19819800"/>
            <a:ext cx="340200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5CAB1B9-F035-48EE-A0AA-988F6327BF64}" type="slidenum"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Picture 95" descr=""/>
          <p:cNvPicPr/>
          <p:nvPr/>
        </p:nvPicPr>
        <p:blipFill>
          <a:blip r:embed="rId2"/>
          <a:stretch/>
        </p:blipFill>
        <p:spPr>
          <a:xfrm>
            <a:off x="13173120" y="11949120"/>
            <a:ext cx="1212840" cy="1525680"/>
          </a:xfrm>
          <a:prstGeom prst="rect">
            <a:avLst/>
          </a:prstGeom>
          <a:ln w="0">
            <a:noFill/>
          </a:ln>
        </p:spPr>
      </p:pic>
      <p:sp>
        <p:nvSpPr>
          <p:cNvPr id="310" name="Text Box 101"/>
          <p:cNvSpPr/>
          <p:nvPr/>
        </p:nvSpPr>
        <p:spPr>
          <a:xfrm>
            <a:off x="5276880" y="1944540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11" name="Group 83"/>
          <p:cNvGrpSpPr/>
          <p:nvPr/>
        </p:nvGrpSpPr>
        <p:grpSpPr>
          <a:xfrm>
            <a:off x="1918080" y="2820960"/>
            <a:ext cx="11336040" cy="15741720"/>
            <a:chOff x="1918080" y="2820960"/>
            <a:chExt cx="11336040" cy="15741720"/>
          </a:xfrm>
        </p:grpSpPr>
        <p:sp>
          <p:nvSpPr>
            <p:cNvPr id="312" name="Line 22"/>
            <p:cNvSpPr/>
            <p:nvPr/>
          </p:nvSpPr>
          <p:spPr>
            <a:xfrm>
              <a:off x="13065480" y="2820960"/>
              <a:ext cx="0" cy="15741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3" name="Line 23"/>
            <p:cNvSpPr/>
            <p:nvPr/>
          </p:nvSpPr>
          <p:spPr>
            <a:xfrm>
              <a:off x="12957480" y="2820960"/>
              <a:ext cx="0" cy="15741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4" name="Line 24"/>
            <p:cNvSpPr/>
            <p:nvPr/>
          </p:nvSpPr>
          <p:spPr>
            <a:xfrm>
              <a:off x="7617240" y="2820960"/>
              <a:ext cx="0" cy="15741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5" name="Line 25"/>
            <p:cNvSpPr/>
            <p:nvPr/>
          </p:nvSpPr>
          <p:spPr>
            <a:xfrm>
              <a:off x="2262600" y="2820960"/>
              <a:ext cx="0" cy="15741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6" name="Line 26"/>
            <p:cNvSpPr/>
            <p:nvPr/>
          </p:nvSpPr>
          <p:spPr>
            <a:xfrm>
              <a:off x="2154600" y="2820960"/>
              <a:ext cx="0" cy="15741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7" name="Line 27"/>
            <p:cNvSpPr/>
            <p:nvPr/>
          </p:nvSpPr>
          <p:spPr>
            <a:xfrm flipH="1">
              <a:off x="1924200" y="3019320"/>
              <a:ext cx="113299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8" name="Line 28"/>
            <p:cNvSpPr/>
            <p:nvPr/>
          </p:nvSpPr>
          <p:spPr>
            <a:xfrm flipH="1">
              <a:off x="1930680" y="3127320"/>
              <a:ext cx="113234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9" name="Line 29"/>
            <p:cNvSpPr/>
            <p:nvPr/>
          </p:nvSpPr>
          <p:spPr>
            <a:xfrm flipH="1">
              <a:off x="1918080" y="10685160"/>
              <a:ext cx="113360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0" name="Line 30"/>
            <p:cNvSpPr/>
            <p:nvPr/>
          </p:nvSpPr>
          <p:spPr>
            <a:xfrm flipH="1">
              <a:off x="1930680" y="18249840"/>
              <a:ext cx="113234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1" name="Line 31"/>
            <p:cNvSpPr/>
            <p:nvPr/>
          </p:nvSpPr>
          <p:spPr>
            <a:xfrm flipH="1">
              <a:off x="1930680" y="18354600"/>
              <a:ext cx="113234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2" name="Rectangle 32"/>
            <p:cNvSpPr/>
            <p:nvPr/>
          </p:nvSpPr>
          <p:spPr>
            <a:xfrm rot="5400000">
              <a:off x="50040" y="5337720"/>
              <a:ext cx="15106680" cy="107013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23" name="AutoShape 98"/>
          <p:cNvSpPr/>
          <p:nvPr/>
        </p:nvSpPr>
        <p:spPr>
          <a:xfrm>
            <a:off x="7478640" y="1865484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AutoShape 99"/>
          <p:cNvSpPr/>
          <p:nvPr/>
        </p:nvSpPr>
        <p:spPr>
          <a:xfrm>
            <a:off x="7493040" y="248292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AutoShape 100"/>
          <p:cNvSpPr/>
          <p:nvPr/>
        </p:nvSpPr>
        <p:spPr>
          <a:xfrm>
            <a:off x="13246200" y="5715000"/>
            <a:ext cx="1028520" cy="72072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正方形/長方形 24"/>
          <p:cNvSpPr/>
          <p:nvPr/>
        </p:nvSpPr>
        <p:spPr>
          <a:xfrm rot="5400000">
            <a:off x="-64080" y="5236200"/>
            <a:ext cx="15334920" cy="1091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Rectangle 57"/>
          <p:cNvSpPr/>
          <p:nvPr/>
        </p:nvSpPr>
        <p:spPr>
          <a:xfrm rot="5400000">
            <a:off x="151560" y="5443920"/>
            <a:ext cx="14903280" cy="1046952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Rectangle 52"/>
          <p:cNvSpPr/>
          <p:nvPr/>
        </p:nvSpPr>
        <p:spPr>
          <a:xfrm rot="5400000">
            <a:off x="52920" y="5331240"/>
            <a:ext cx="15106680" cy="1069812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AutoShape 96"/>
          <p:cNvSpPr/>
          <p:nvPr/>
        </p:nvSpPr>
        <p:spPr>
          <a:xfrm>
            <a:off x="930240" y="6850080"/>
            <a:ext cx="1028880" cy="70308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AutoShape 97"/>
          <p:cNvSpPr/>
          <p:nvPr/>
        </p:nvSpPr>
        <p:spPr>
          <a:xfrm>
            <a:off x="901800" y="5504040"/>
            <a:ext cx="1028520" cy="57132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1" name="グラフィックス 29" descr=""/>
          <p:cNvPicPr/>
          <p:nvPr/>
        </p:nvPicPr>
        <p:blipFill>
          <a:blip r:embed="rId3"/>
          <a:stretch/>
        </p:blipFill>
        <p:spPr>
          <a:xfrm>
            <a:off x="6859440" y="1550880"/>
            <a:ext cx="1417680" cy="289080"/>
          </a:xfrm>
          <a:prstGeom prst="rect">
            <a:avLst/>
          </a:prstGeom>
          <a:ln w="0">
            <a:noFill/>
          </a:ln>
        </p:spPr>
      </p:pic>
      <p:sp>
        <p:nvSpPr>
          <p:cNvPr id="332" name="PlaceHolder 1"/>
          <p:cNvSpPr>
            <a:spLocks noGrp="1"/>
          </p:cNvSpPr>
          <p:nvPr>
            <p:ph type="dt" idx="13"/>
          </p:nvPr>
        </p:nvSpPr>
        <p:spPr>
          <a:xfrm>
            <a:off x="1039680" y="19819800"/>
            <a:ext cx="340200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ftr" idx="14"/>
          </p:nvPr>
        </p:nvSpPr>
        <p:spPr>
          <a:xfrm>
            <a:off x="5008320" y="19819800"/>
            <a:ext cx="510228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 type="sldNum" idx="15"/>
          </p:nvPr>
        </p:nvSpPr>
        <p:spPr>
          <a:xfrm>
            <a:off x="10677600" y="19819800"/>
            <a:ext cx="340200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95CE4D-9923-4967-90F2-5247CF2907FD}" type="slidenum"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Picture 95" descr=""/>
          <p:cNvPicPr/>
          <p:nvPr/>
        </p:nvPicPr>
        <p:blipFill>
          <a:blip r:embed="rId2"/>
          <a:stretch/>
        </p:blipFill>
        <p:spPr>
          <a:xfrm>
            <a:off x="13173120" y="11949120"/>
            <a:ext cx="1212840" cy="1525680"/>
          </a:xfrm>
          <a:prstGeom prst="rect">
            <a:avLst/>
          </a:prstGeom>
          <a:ln w="0">
            <a:noFill/>
          </a:ln>
        </p:spPr>
      </p:pic>
      <p:sp>
        <p:nvSpPr>
          <p:cNvPr id="372" name="Text Box 101"/>
          <p:cNvSpPr/>
          <p:nvPr/>
        </p:nvSpPr>
        <p:spPr>
          <a:xfrm>
            <a:off x="5276880" y="1944540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73" name="Group 83"/>
          <p:cNvGrpSpPr/>
          <p:nvPr/>
        </p:nvGrpSpPr>
        <p:grpSpPr>
          <a:xfrm>
            <a:off x="1918080" y="2820960"/>
            <a:ext cx="11336040" cy="15741720"/>
            <a:chOff x="1918080" y="2820960"/>
            <a:chExt cx="11336040" cy="15741720"/>
          </a:xfrm>
        </p:grpSpPr>
        <p:sp>
          <p:nvSpPr>
            <p:cNvPr id="374" name="Line 22"/>
            <p:cNvSpPr/>
            <p:nvPr/>
          </p:nvSpPr>
          <p:spPr>
            <a:xfrm>
              <a:off x="13065480" y="2820960"/>
              <a:ext cx="0" cy="15741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5" name="Line 23"/>
            <p:cNvSpPr/>
            <p:nvPr/>
          </p:nvSpPr>
          <p:spPr>
            <a:xfrm>
              <a:off x="12957480" y="2820960"/>
              <a:ext cx="0" cy="15741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6" name="Line 24"/>
            <p:cNvSpPr/>
            <p:nvPr/>
          </p:nvSpPr>
          <p:spPr>
            <a:xfrm>
              <a:off x="7617240" y="2820960"/>
              <a:ext cx="0" cy="15741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7" name="Line 25"/>
            <p:cNvSpPr/>
            <p:nvPr/>
          </p:nvSpPr>
          <p:spPr>
            <a:xfrm>
              <a:off x="2262600" y="2820960"/>
              <a:ext cx="0" cy="15741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8" name="Line 26"/>
            <p:cNvSpPr/>
            <p:nvPr/>
          </p:nvSpPr>
          <p:spPr>
            <a:xfrm>
              <a:off x="2154600" y="2820960"/>
              <a:ext cx="0" cy="15741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9" name="Line 27"/>
            <p:cNvSpPr/>
            <p:nvPr/>
          </p:nvSpPr>
          <p:spPr>
            <a:xfrm flipH="1">
              <a:off x="1924200" y="3019320"/>
              <a:ext cx="113299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0" name="Line 28"/>
            <p:cNvSpPr/>
            <p:nvPr/>
          </p:nvSpPr>
          <p:spPr>
            <a:xfrm flipH="1">
              <a:off x="1930680" y="3127320"/>
              <a:ext cx="113234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1" name="Line 29"/>
            <p:cNvSpPr/>
            <p:nvPr/>
          </p:nvSpPr>
          <p:spPr>
            <a:xfrm flipH="1">
              <a:off x="1918080" y="10685160"/>
              <a:ext cx="113360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2" name="Line 30"/>
            <p:cNvSpPr/>
            <p:nvPr/>
          </p:nvSpPr>
          <p:spPr>
            <a:xfrm flipH="1">
              <a:off x="1930680" y="18249840"/>
              <a:ext cx="113234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3" name="Line 31"/>
            <p:cNvSpPr/>
            <p:nvPr/>
          </p:nvSpPr>
          <p:spPr>
            <a:xfrm flipH="1">
              <a:off x="1930680" y="18354600"/>
              <a:ext cx="113234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4" name="Rectangle 32"/>
            <p:cNvSpPr/>
            <p:nvPr/>
          </p:nvSpPr>
          <p:spPr>
            <a:xfrm rot="5400000">
              <a:off x="50040" y="5337720"/>
              <a:ext cx="15106680" cy="107013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85" name="AutoShape 98"/>
          <p:cNvSpPr/>
          <p:nvPr/>
        </p:nvSpPr>
        <p:spPr>
          <a:xfrm>
            <a:off x="7478640" y="1865484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AutoShape 99"/>
          <p:cNvSpPr/>
          <p:nvPr/>
        </p:nvSpPr>
        <p:spPr>
          <a:xfrm>
            <a:off x="7493040" y="248292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AutoShape 100"/>
          <p:cNvSpPr/>
          <p:nvPr/>
        </p:nvSpPr>
        <p:spPr>
          <a:xfrm>
            <a:off x="13246200" y="5715000"/>
            <a:ext cx="1028520" cy="72072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正方形/長方形 24"/>
          <p:cNvSpPr/>
          <p:nvPr/>
        </p:nvSpPr>
        <p:spPr>
          <a:xfrm rot="5400000">
            <a:off x="-64080" y="5236200"/>
            <a:ext cx="15334920" cy="1091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Rectangle 57"/>
          <p:cNvSpPr/>
          <p:nvPr/>
        </p:nvSpPr>
        <p:spPr>
          <a:xfrm rot="5400000">
            <a:off x="151560" y="5443920"/>
            <a:ext cx="14903280" cy="1046952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Rectangle 52"/>
          <p:cNvSpPr/>
          <p:nvPr/>
        </p:nvSpPr>
        <p:spPr>
          <a:xfrm rot="5400000">
            <a:off x="52920" y="5331240"/>
            <a:ext cx="15106680" cy="1069812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AutoShape 96"/>
          <p:cNvSpPr/>
          <p:nvPr/>
        </p:nvSpPr>
        <p:spPr>
          <a:xfrm>
            <a:off x="930240" y="6850080"/>
            <a:ext cx="1028880" cy="70308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AutoShape 97"/>
          <p:cNvSpPr/>
          <p:nvPr/>
        </p:nvSpPr>
        <p:spPr>
          <a:xfrm>
            <a:off x="901800" y="5504040"/>
            <a:ext cx="1028520" cy="57132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3" name="グラフィックス 29" descr=""/>
          <p:cNvPicPr/>
          <p:nvPr/>
        </p:nvPicPr>
        <p:blipFill>
          <a:blip r:embed="rId3"/>
          <a:stretch/>
        </p:blipFill>
        <p:spPr>
          <a:xfrm>
            <a:off x="6859440" y="1550880"/>
            <a:ext cx="1417680" cy="289080"/>
          </a:xfrm>
          <a:prstGeom prst="rect">
            <a:avLst/>
          </a:prstGeom>
          <a:ln w="0">
            <a:noFill/>
          </a:ln>
        </p:spPr>
      </p:pic>
      <p:sp>
        <p:nvSpPr>
          <p:cNvPr id="394" name="PlaceHolder 1"/>
          <p:cNvSpPr>
            <a:spLocks noGrp="1"/>
          </p:cNvSpPr>
          <p:nvPr>
            <p:ph type="dt" idx="16"/>
          </p:nvPr>
        </p:nvSpPr>
        <p:spPr>
          <a:xfrm>
            <a:off x="1039680" y="19819800"/>
            <a:ext cx="340200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ftr" idx="17"/>
          </p:nvPr>
        </p:nvSpPr>
        <p:spPr>
          <a:xfrm>
            <a:off x="5008320" y="19819800"/>
            <a:ext cx="510228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 type="sldNum" idx="18"/>
          </p:nvPr>
        </p:nvSpPr>
        <p:spPr>
          <a:xfrm>
            <a:off x="10677600" y="19819800"/>
            <a:ext cx="340200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2C6398-8931-4932-9E27-E64FF50A00C6}" type="slidenum"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Picture 95" descr=""/>
          <p:cNvPicPr/>
          <p:nvPr/>
        </p:nvPicPr>
        <p:blipFill>
          <a:blip r:embed="rId2"/>
          <a:stretch/>
        </p:blipFill>
        <p:spPr>
          <a:xfrm>
            <a:off x="13173120" y="11949120"/>
            <a:ext cx="1212840" cy="1525680"/>
          </a:xfrm>
          <a:prstGeom prst="rect">
            <a:avLst/>
          </a:prstGeom>
          <a:ln w="0">
            <a:noFill/>
          </a:ln>
        </p:spPr>
      </p:pic>
      <p:sp>
        <p:nvSpPr>
          <p:cNvPr id="434" name="Text Box 101"/>
          <p:cNvSpPr/>
          <p:nvPr/>
        </p:nvSpPr>
        <p:spPr>
          <a:xfrm>
            <a:off x="5276880" y="1944540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35" name="Group 83"/>
          <p:cNvGrpSpPr/>
          <p:nvPr/>
        </p:nvGrpSpPr>
        <p:grpSpPr>
          <a:xfrm>
            <a:off x="1918080" y="2820960"/>
            <a:ext cx="11336040" cy="15741720"/>
            <a:chOff x="1918080" y="2820960"/>
            <a:chExt cx="11336040" cy="15741720"/>
          </a:xfrm>
        </p:grpSpPr>
        <p:sp>
          <p:nvSpPr>
            <p:cNvPr id="436" name="Line 22"/>
            <p:cNvSpPr/>
            <p:nvPr/>
          </p:nvSpPr>
          <p:spPr>
            <a:xfrm>
              <a:off x="13065480" y="2820960"/>
              <a:ext cx="0" cy="15741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7" name="Line 23"/>
            <p:cNvSpPr/>
            <p:nvPr/>
          </p:nvSpPr>
          <p:spPr>
            <a:xfrm>
              <a:off x="12957480" y="2820960"/>
              <a:ext cx="0" cy="15741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8" name="Line 24"/>
            <p:cNvSpPr/>
            <p:nvPr/>
          </p:nvSpPr>
          <p:spPr>
            <a:xfrm>
              <a:off x="7617240" y="2820960"/>
              <a:ext cx="0" cy="15741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9" name="Line 25"/>
            <p:cNvSpPr/>
            <p:nvPr/>
          </p:nvSpPr>
          <p:spPr>
            <a:xfrm>
              <a:off x="2262600" y="2820960"/>
              <a:ext cx="0" cy="15741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0" name="Line 26"/>
            <p:cNvSpPr/>
            <p:nvPr/>
          </p:nvSpPr>
          <p:spPr>
            <a:xfrm>
              <a:off x="2154600" y="2820960"/>
              <a:ext cx="0" cy="15741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1" name="Line 27"/>
            <p:cNvSpPr/>
            <p:nvPr/>
          </p:nvSpPr>
          <p:spPr>
            <a:xfrm flipH="1">
              <a:off x="1924200" y="3019320"/>
              <a:ext cx="113299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2" name="Line 28"/>
            <p:cNvSpPr/>
            <p:nvPr/>
          </p:nvSpPr>
          <p:spPr>
            <a:xfrm flipH="1">
              <a:off x="1930680" y="3127320"/>
              <a:ext cx="113234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3" name="Line 29"/>
            <p:cNvSpPr/>
            <p:nvPr/>
          </p:nvSpPr>
          <p:spPr>
            <a:xfrm flipH="1">
              <a:off x="1918080" y="10685160"/>
              <a:ext cx="113360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4" name="Line 30"/>
            <p:cNvSpPr/>
            <p:nvPr/>
          </p:nvSpPr>
          <p:spPr>
            <a:xfrm flipH="1">
              <a:off x="1930680" y="18249840"/>
              <a:ext cx="113234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5" name="Line 31"/>
            <p:cNvSpPr/>
            <p:nvPr/>
          </p:nvSpPr>
          <p:spPr>
            <a:xfrm flipH="1">
              <a:off x="1930680" y="18354600"/>
              <a:ext cx="113234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6" name="Rectangle 32"/>
            <p:cNvSpPr/>
            <p:nvPr/>
          </p:nvSpPr>
          <p:spPr>
            <a:xfrm rot="5400000">
              <a:off x="50040" y="5337720"/>
              <a:ext cx="15106680" cy="107013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47" name="AutoShape 98"/>
          <p:cNvSpPr/>
          <p:nvPr/>
        </p:nvSpPr>
        <p:spPr>
          <a:xfrm>
            <a:off x="7478640" y="1865484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AutoShape 99"/>
          <p:cNvSpPr/>
          <p:nvPr/>
        </p:nvSpPr>
        <p:spPr>
          <a:xfrm>
            <a:off x="7493040" y="248292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AutoShape 100"/>
          <p:cNvSpPr/>
          <p:nvPr/>
        </p:nvSpPr>
        <p:spPr>
          <a:xfrm>
            <a:off x="13246200" y="5715000"/>
            <a:ext cx="1028520" cy="72072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正方形/長方形 24"/>
          <p:cNvSpPr/>
          <p:nvPr/>
        </p:nvSpPr>
        <p:spPr>
          <a:xfrm rot="5400000">
            <a:off x="-64080" y="5236200"/>
            <a:ext cx="15334920" cy="1091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Rectangle 57"/>
          <p:cNvSpPr/>
          <p:nvPr/>
        </p:nvSpPr>
        <p:spPr>
          <a:xfrm rot="5400000">
            <a:off x="151560" y="5443920"/>
            <a:ext cx="14903280" cy="1046952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Rectangle 52"/>
          <p:cNvSpPr/>
          <p:nvPr/>
        </p:nvSpPr>
        <p:spPr>
          <a:xfrm rot="5400000">
            <a:off x="52920" y="5331240"/>
            <a:ext cx="15106680" cy="1069812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AutoShape 96"/>
          <p:cNvSpPr/>
          <p:nvPr/>
        </p:nvSpPr>
        <p:spPr>
          <a:xfrm>
            <a:off x="930240" y="6850080"/>
            <a:ext cx="1028880" cy="70308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AutoShape 97"/>
          <p:cNvSpPr/>
          <p:nvPr/>
        </p:nvSpPr>
        <p:spPr>
          <a:xfrm>
            <a:off x="901800" y="5504040"/>
            <a:ext cx="1028520" cy="57132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5" name="グラフィックス 29" descr=""/>
          <p:cNvPicPr/>
          <p:nvPr/>
        </p:nvPicPr>
        <p:blipFill>
          <a:blip r:embed="rId3"/>
          <a:stretch/>
        </p:blipFill>
        <p:spPr>
          <a:xfrm>
            <a:off x="6859440" y="1550880"/>
            <a:ext cx="1417680" cy="289080"/>
          </a:xfrm>
          <a:prstGeom prst="rect">
            <a:avLst/>
          </a:prstGeom>
          <a:ln w="0">
            <a:noFill/>
          </a:ln>
        </p:spPr>
      </p:pic>
      <p:sp>
        <p:nvSpPr>
          <p:cNvPr id="456" name="PlaceHolder 1"/>
          <p:cNvSpPr>
            <a:spLocks noGrp="1"/>
          </p:cNvSpPr>
          <p:nvPr>
            <p:ph type="dt" idx="19"/>
          </p:nvPr>
        </p:nvSpPr>
        <p:spPr>
          <a:xfrm>
            <a:off x="1039680" y="19819800"/>
            <a:ext cx="340200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ftr" idx="20"/>
          </p:nvPr>
        </p:nvSpPr>
        <p:spPr>
          <a:xfrm>
            <a:off x="5008320" y="19819800"/>
            <a:ext cx="510228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 type="sldNum" idx="21"/>
          </p:nvPr>
        </p:nvSpPr>
        <p:spPr>
          <a:xfrm>
            <a:off x="10677600" y="19819800"/>
            <a:ext cx="340200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C92D55-C3E3-4379-AF5F-B24D093B3E8D}" type="slidenum"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Picture 95" descr=""/>
          <p:cNvPicPr/>
          <p:nvPr/>
        </p:nvPicPr>
        <p:blipFill>
          <a:blip r:embed="rId2"/>
          <a:stretch/>
        </p:blipFill>
        <p:spPr>
          <a:xfrm>
            <a:off x="13173120" y="11949120"/>
            <a:ext cx="1212840" cy="1525680"/>
          </a:xfrm>
          <a:prstGeom prst="rect">
            <a:avLst/>
          </a:prstGeom>
          <a:ln w="0">
            <a:noFill/>
          </a:ln>
        </p:spPr>
      </p:pic>
      <p:sp>
        <p:nvSpPr>
          <p:cNvPr id="496" name="Text Box 101"/>
          <p:cNvSpPr/>
          <p:nvPr/>
        </p:nvSpPr>
        <p:spPr>
          <a:xfrm>
            <a:off x="5276880" y="1944540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97" name="Group 83"/>
          <p:cNvGrpSpPr/>
          <p:nvPr/>
        </p:nvGrpSpPr>
        <p:grpSpPr>
          <a:xfrm>
            <a:off x="1918080" y="2820960"/>
            <a:ext cx="11336040" cy="15741720"/>
            <a:chOff x="1918080" y="2820960"/>
            <a:chExt cx="11336040" cy="15741720"/>
          </a:xfrm>
        </p:grpSpPr>
        <p:sp>
          <p:nvSpPr>
            <p:cNvPr id="498" name="Line 22"/>
            <p:cNvSpPr/>
            <p:nvPr/>
          </p:nvSpPr>
          <p:spPr>
            <a:xfrm>
              <a:off x="13065480" y="2820960"/>
              <a:ext cx="0" cy="15741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9" name="Line 23"/>
            <p:cNvSpPr/>
            <p:nvPr/>
          </p:nvSpPr>
          <p:spPr>
            <a:xfrm>
              <a:off x="12957480" y="2820960"/>
              <a:ext cx="0" cy="15741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0" name="Line 24"/>
            <p:cNvSpPr/>
            <p:nvPr/>
          </p:nvSpPr>
          <p:spPr>
            <a:xfrm>
              <a:off x="7617240" y="2820960"/>
              <a:ext cx="0" cy="15741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1" name="Line 25"/>
            <p:cNvSpPr/>
            <p:nvPr/>
          </p:nvSpPr>
          <p:spPr>
            <a:xfrm>
              <a:off x="2262600" y="2820960"/>
              <a:ext cx="0" cy="15741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2" name="Line 26"/>
            <p:cNvSpPr/>
            <p:nvPr/>
          </p:nvSpPr>
          <p:spPr>
            <a:xfrm>
              <a:off x="2154600" y="2820960"/>
              <a:ext cx="0" cy="15741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3" name="Line 27"/>
            <p:cNvSpPr/>
            <p:nvPr/>
          </p:nvSpPr>
          <p:spPr>
            <a:xfrm flipH="1">
              <a:off x="1924200" y="3019320"/>
              <a:ext cx="113299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4" name="Line 28"/>
            <p:cNvSpPr/>
            <p:nvPr/>
          </p:nvSpPr>
          <p:spPr>
            <a:xfrm flipH="1">
              <a:off x="1930680" y="3127320"/>
              <a:ext cx="113234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5" name="Line 29"/>
            <p:cNvSpPr/>
            <p:nvPr/>
          </p:nvSpPr>
          <p:spPr>
            <a:xfrm flipH="1">
              <a:off x="1918080" y="10685160"/>
              <a:ext cx="113360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6" name="Line 30"/>
            <p:cNvSpPr/>
            <p:nvPr/>
          </p:nvSpPr>
          <p:spPr>
            <a:xfrm flipH="1">
              <a:off x="1930680" y="18249840"/>
              <a:ext cx="113234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7" name="Line 31"/>
            <p:cNvSpPr/>
            <p:nvPr/>
          </p:nvSpPr>
          <p:spPr>
            <a:xfrm flipH="1">
              <a:off x="1930680" y="18354600"/>
              <a:ext cx="113234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8" name="Rectangle 32"/>
            <p:cNvSpPr/>
            <p:nvPr/>
          </p:nvSpPr>
          <p:spPr>
            <a:xfrm rot="5400000">
              <a:off x="50040" y="5337720"/>
              <a:ext cx="15106680" cy="107013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09" name="AutoShape 98"/>
          <p:cNvSpPr/>
          <p:nvPr/>
        </p:nvSpPr>
        <p:spPr>
          <a:xfrm>
            <a:off x="7478640" y="1865484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AutoShape 99"/>
          <p:cNvSpPr/>
          <p:nvPr/>
        </p:nvSpPr>
        <p:spPr>
          <a:xfrm>
            <a:off x="7493040" y="248292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AutoShape 100"/>
          <p:cNvSpPr/>
          <p:nvPr/>
        </p:nvSpPr>
        <p:spPr>
          <a:xfrm>
            <a:off x="13246200" y="5715000"/>
            <a:ext cx="1028520" cy="72072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正方形/長方形 24"/>
          <p:cNvSpPr/>
          <p:nvPr/>
        </p:nvSpPr>
        <p:spPr>
          <a:xfrm rot="5400000">
            <a:off x="-64080" y="5236200"/>
            <a:ext cx="15334920" cy="1091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Rectangle 57"/>
          <p:cNvSpPr/>
          <p:nvPr/>
        </p:nvSpPr>
        <p:spPr>
          <a:xfrm rot="5400000">
            <a:off x="151560" y="5443920"/>
            <a:ext cx="14903280" cy="1046952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Rectangle 52"/>
          <p:cNvSpPr/>
          <p:nvPr/>
        </p:nvSpPr>
        <p:spPr>
          <a:xfrm rot="5400000">
            <a:off x="52920" y="5331240"/>
            <a:ext cx="15106680" cy="1069812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AutoShape 96"/>
          <p:cNvSpPr/>
          <p:nvPr/>
        </p:nvSpPr>
        <p:spPr>
          <a:xfrm>
            <a:off x="930240" y="6850080"/>
            <a:ext cx="1028880" cy="70308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AutoShape 97"/>
          <p:cNvSpPr/>
          <p:nvPr/>
        </p:nvSpPr>
        <p:spPr>
          <a:xfrm>
            <a:off x="901800" y="5504040"/>
            <a:ext cx="1028520" cy="57132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7" name="グラフィックス 29" descr=""/>
          <p:cNvPicPr/>
          <p:nvPr/>
        </p:nvPicPr>
        <p:blipFill>
          <a:blip r:embed="rId3"/>
          <a:stretch/>
        </p:blipFill>
        <p:spPr>
          <a:xfrm>
            <a:off x="6859440" y="1550880"/>
            <a:ext cx="1417680" cy="289080"/>
          </a:xfrm>
          <a:prstGeom prst="rect">
            <a:avLst/>
          </a:prstGeom>
          <a:ln w="0">
            <a:noFill/>
          </a:ln>
        </p:spPr>
      </p:pic>
      <p:sp>
        <p:nvSpPr>
          <p:cNvPr id="518" name="PlaceHolder 1"/>
          <p:cNvSpPr>
            <a:spLocks noGrp="1"/>
          </p:cNvSpPr>
          <p:nvPr>
            <p:ph type="dt" idx="22"/>
          </p:nvPr>
        </p:nvSpPr>
        <p:spPr>
          <a:xfrm>
            <a:off x="1039680" y="19819800"/>
            <a:ext cx="340200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ftr" idx="23"/>
          </p:nvPr>
        </p:nvSpPr>
        <p:spPr>
          <a:xfrm>
            <a:off x="5008320" y="19819800"/>
            <a:ext cx="510228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 type="sldNum" idx="24"/>
          </p:nvPr>
        </p:nvSpPr>
        <p:spPr>
          <a:xfrm>
            <a:off x="10677600" y="19819800"/>
            <a:ext cx="340200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CB04E3-A534-4519-A82D-B16FAC59A02A}" type="slidenum"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1-29T09:45:29Z</dcterms:created>
  <dc:creator>柴田宏</dc:creator>
  <dc:description/>
  <dc:language>en-US</dc:language>
  <cp:lastModifiedBy>宏 柴田</cp:lastModifiedBy>
  <dcterms:modified xsi:type="dcterms:W3CDTF">2021-02-05T06:34:37Z</dcterms:modified>
  <cp:revision>1</cp:revision>
  <dc:subject/>
  <dc:title>PowerPoint プレゼンテーション</dc:title>
</cp:coreProperties>
</file>