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8540413" cy="131032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E1DE-74B2-4171-B9BB-563500D5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86FAB-41AC-4DB5-AD05-6B638F71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54B88-951B-416E-A64B-C3DFEE58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07A88-E997-464F-B80B-2CB7BCD8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4E4DC-E096-4FDE-8861-8A9DDC14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3D5F6-9D8D-46C6-ACAE-91C3DB2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71CE8-2D1E-4C1F-828B-7BEB67C6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DF4B5-14E3-48BF-BA95-91D49C050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06794-403F-47CF-9F5A-FFBB9D53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D8DCB-925D-40F6-A870-79D7BB126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20567-60A1-4253-8663-A1CD0405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6BA36-B2F8-4D8E-8AE8-502490AD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BBF12-5E4E-4532-A2D4-03689E9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FA8E6-0A19-45F6-9E5E-EB994904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E7A77F-6445-46B2-8A83-9D79B07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A7EB-3CA4-40C2-8E4C-3C8C2394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81BC1-5E7A-4185-B9F6-7E64CA40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B89FB-154B-4E0B-AA11-A375A85F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E81F7-4F90-4CCF-82EF-E177F51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BF21B-F908-4B0C-9FAD-629FDBD1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99976-653B-4E22-9845-E185F963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CF583-2CC4-42B7-AE3F-B3B9B9C2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30E5A-663C-42BB-A527-5BFC5747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C0FA2-F89A-4F47-8F7C-AC01669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1052F-4D7C-46B8-A970-D1059FC5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F5E336-0049-4E34-98E4-B24C284B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E9C89-9534-4948-ACEF-6831A29F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FC07E-A282-410E-A4BA-6BFF4773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49E3D-3C7A-4A5B-893E-69E7368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BD0C8-49A4-450A-A3C9-354D746E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033B-25F2-4417-97A3-B4F73112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8A6DF-DD6F-4ACC-A14D-70F6EC85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C135B-DDC5-48BB-85EB-1CAA2DB67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CD056-AA20-4D81-B521-D6358CDFC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F30D1-A8A4-4E33-B678-16462716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6D58F-B6E3-4EA8-8296-B4AAF7A0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80E3D-51F3-4FD7-B839-E3F701B1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47D0C-DEA5-49D5-90C2-2F59160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A0B27-6102-493C-9EE6-41F173AB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0F892-2D5E-4BB5-842E-5FBBE72B6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36E68-A89C-4382-A178-DE66D55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D44-EF3A-44EE-99FF-AFB3E48E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F1A84B-EDA5-4AB1-BDBB-1DD1497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0163A-B01F-415B-AA69-CE01A699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9F818-2605-4378-8269-53D811B4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106D7-6050-4F1A-AB75-7F1AEF40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D5F3F-5EE8-4EA1-8D7E-58EDEBD8D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6031-60EE-42BA-AEF1-44F1FA4A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4A32-1462-47A1-8205-8B9AC7FC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50B8-B16A-4FDD-A6C4-D13CDA5D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479-E90E-4794-AD69-964CC644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7799-B26C-458A-A17C-9D65DB1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766-8ABC-467A-8126-6ACD48BE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971-5934-4BE0-BD8A-A432648C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BD7-1A3A-4AFB-A42C-C51008D3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8D9-3653-4120-8C2B-E611A972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15E-6634-47C9-B4C7-B8C2771F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DE14-3802-4813-8984-81BCAC0A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713-6B11-42E2-BB71-DB1CD43A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FC32-49F8-4D92-995B-954E0FE9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98E6-7A10-41DD-9BCF-B4006876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D95F-47E0-4E4C-9C12-D1515B9F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46CC-6F92-4D83-9B35-6E419C7E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4F0C-0491-4FBD-ACD9-CD44EC8C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2E09F-830B-4B8C-9A20-E278E698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7224-84ED-4967-9BDD-818BA656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CBB6-29AF-4AC6-A321-A3F27D35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194-60D7-45C8-ADB7-2796ABB4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5364-76A7-45FD-853D-62F25DA7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FDC4E-1E94-4DE5-8968-D3BE090D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64726-CED8-43C8-B80C-AAF1D3C2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63554-583E-4D6B-A0C1-AC6C9AF8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264E-3899-4497-962E-5143BC00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E783B-11F6-43E0-B408-E007A96A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B1531-FA10-420D-B775-90F726FBC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54FD-F14D-4484-96FA-6561B28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A62F0-34BB-4F37-B2EA-5ABBAF8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EB70F-BFA2-4C76-B82A-BF868212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25B17-891A-4C87-A60D-712B774D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F86B-8E1C-4267-B1B5-460B6BBF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C6B16-F8D7-4E29-9909-B6B0AFAC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A9FC-E3BC-4B52-8D1B-E7963882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B2F0B-41FF-43DD-8963-373FC9C8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00F84-F5A0-423A-B7F3-B9AD5109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AC16C-580B-4B4F-A741-EF16199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1CDB3-9A23-45A5-82A0-68E3D6A5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318A0-3C0E-46A1-BBE9-2AB487CB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69201-37CF-4F03-999E-4A0C8492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B7DDC-54BB-45D8-87A5-E1CB1CB9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85CC-6E8D-4808-ACAD-A7B57AD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B9A6D-92D7-418B-BBEC-E73237AC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DA48-7FF3-4389-8864-547F3609D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10F71-886E-43AC-BE7B-578AD69D7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FFAF3-EB88-4FCF-B811-6F1F06DD2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8DCDD-7930-407B-B84A-76CDFCB58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97D8-116F-4F57-92D1-32124EB2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FA55E-3133-49D2-A6BB-904CD391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CC336-E2F5-4D7B-B185-4E303AA7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1A32-4DAD-43AD-8684-DFD1D4D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16A00-0890-467E-B9F3-41B630B0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9A3A-5CBE-4D46-A6D9-CB5E7505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B4B2C-9EB7-41AE-BCAC-1BC5E134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5B9C7-E117-44AD-A66C-F8232C61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C65E1-6241-490F-9E63-E458A6129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466B-4635-42E9-AEDB-61BFF849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B121D-239E-4DD8-A939-13E83F4C3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71AD-D234-4500-9065-C780ED1F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F8559-513C-4E25-9924-FE8481A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69246-182D-45BF-B29D-D0AF41CA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559ED-8CFB-4290-A8F8-96AF5EC4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AAC30-5A72-4890-BC16-D6094E52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E408-9188-477F-A327-A17743B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C6A25-2265-49B1-8297-09D0475B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94ECA-C5C9-4BFE-BAC1-E8ED82AD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0CE42-4765-408A-BD21-78925551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1B1F7-405E-466B-B980-B8C57BF8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8E478-5A42-42F6-AC70-A8ECAC33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233B-9E35-4BAF-A609-0579EE52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31147-0FFD-4032-8DD6-E6EE6384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D96E4-B77F-4573-83EE-FD4C46C1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050AA-3EAB-4793-B0CB-98F5E507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1EF2-B123-4EE2-8B2C-628E31C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4E433-62C0-42E3-9A40-F10CC63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74A01-5813-4430-A579-7AE63E0A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BAB6B-4BBE-48C2-9B34-900C0B1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318C9-108C-4E23-8E7C-8F66033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61A5E-60DE-4F44-822A-B9A36A9F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7248-503A-438F-8246-908DE771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158BC-B09D-4A55-BAD9-13AAC83C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1A2F-CF17-430B-A561-B880CB856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D85E4-A1BB-45AC-A2EB-1D757588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FA3B-F652-4FCE-A31B-5D399219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560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9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4BA5C-ED13-485D-AEFA-5E16239D346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2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CAC26-9409-45B8-A562-BBAFFC1CA24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84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3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F4873-EE59-4660-BDD4-A569DDA0318F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F615CB-7388-4C32-A7D0-DD1BA2F3F47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6680" indent="-436680">
              <a:lnSpc>
                <a:spcPct val="90000"/>
              </a:lnSpc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130968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21826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305604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39304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126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02111-1ADC-4CE6-B785-DEE728519F9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188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4C5D9B-33C3-40FA-AE2B-9D5E74C5CD5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250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D636AA-8DE2-4347-9BB4-9F53874C77D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1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08790-B05C-40D6-9881-C4BDFF2062DA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74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E7E02C-BD2F-44D1-B6AD-E617FAA4FD43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436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24575-650A-4C2D-BBBB-305A1C5B5DC1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498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1828800" y="1300320"/>
            <a:ext cx="14905080" cy="10467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グラフィックス 1" descr=""/>
          <p:cNvPicPr/>
          <p:nvPr/>
        </p:nvPicPr>
        <p:blipFill>
          <a:blip r:embed="rId3"/>
          <a:stretch/>
        </p:blipFill>
        <p:spPr>
          <a:xfrm>
            <a:off x="8561520" y="206280"/>
            <a:ext cx="1417680" cy="28908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A4E31-827B-496D-900A-61ED90F677CE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9:00:50Z</dcterms:created>
  <dc:creator>柴田宏</dc:creator>
  <dc:description/>
  <dc:language>en-US</dc:language>
  <cp:lastModifiedBy>宏 柴田</cp:lastModifiedBy>
  <dcterms:modified xsi:type="dcterms:W3CDTF">2021-02-05T06:34:45Z</dcterms:modified>
  <cp:revision>8</cp:revision>
  <dc:subject/>
  <dc:title>PowerPoint プレゼンテーション</dc:title>
</cp:coreProperties>
</file>