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5119350" cy="21383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B8ACB-495E-4E30-8975-F1895EE3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167785-7182-401C-8F39-5B8A650A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76EA5-4B67-4B42-88F2-596131E2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89EAF-62BD-46B1-BE84-DD038C09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08C0E9-48DB-46BE-86AD-8CE8E5A2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30CAF-991F-46D0-AAF2-FE83C87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23C7A-2759-4C92-A4F4-E72A1240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AA185-2991-4015-836D-80679AA1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CEEFF-B7C2-4023-86DD-C7F10473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269EE-1B3B-42D4-BC8E-72A3BF0C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C8A77-603E-4DD9-9C66-B7934B3C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91A67-53FE-454E-BD81-4594ADF4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D9C86B-C579-40E9-BA11-9D707BD1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330C6-740F-4EF0-9C8F-3C3FDAE0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9113A-6A40-4B2E-93E2-C9F9387F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45F20-A205-4305-955B-0160EF6E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EFE48-D4A3-471D-8623-1CA51B41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B2738-1C13-4A09-B7D4-E8725D9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A54B8-84A2-4DB6-A154-1EBE5D49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0CCB2-71F1-4120-A939-773EEF66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99EFD-5612-41DC-8BD2-C96416A4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ADE02-F181-421D-A3DB-DC2FA2DC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AA420-A241-4F35-B3A3-578D6D4A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2D3F7-F148-4C47-BA5F-7696C15E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39BB-8515-465F-8459-FC05572C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0D845-C94C-4CC0-9FC3-738C27B5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27533-31A6-4417-8526-451094A24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CB2594-A0FD-48D6-9D80-DD8A3D24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EEA31-C715-4AB8-8CD5-9ADDEA9D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E7A3A-9A7D-416C-8ACB-EC0A3F66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69F-1840-4D7D-8901-CA50881A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E2095-31E2-499F-AB7C-B687C8FE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F3BC1-4B7B-444A-848D-525047A7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CE911-89EC-4F2A-AC37-5938133F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8CEC7-46AA-4CA7-BCEF-375EF263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03A8D-8789-4508-BA4B-813A8D6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A36AE-4881-42D0-8C9C-A4B1CA2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83B75-9DF2-4438-B626-ABF2D433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B5A60-FB7F-4AF3-B0EC-088BCB19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9441E-8B7C-480C-A978-911C5502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582D-DC65-4CFE-AEAA-98E7F34C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29B0-DD9E-4570-BFEE-A4176287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14FB1-EB50-4850-A63B-DFAC964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F4FA-FA6A-44AE-B50A-55024B9E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50B63-824E-4731-BCDC-AD03B1FD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36070-99C7-46D2-91CC-00DD644FB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6795D-C87B-4CAA-A617-F5E684BE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BD7-92A2-4195-B0E8-F6A6944C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816A-1E79-4CBA-A523-8FA07495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B0F1-7489-416C-A41B-6B3DDC33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80B-5D21-49F1-B3CA-0119EFFC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EB5-7040-46BA-854A-04167FFA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1E5-5954-44EF-98DF-707B3A22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CA8-05E8-4EB2-9DAE-273A256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07D-432E-4729-B298-D25A6BFD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74E-3C91-4508-BB12-881C5E66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C48-535D-4D30-B24A-06BFFF6F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B8A0-6524-48AB-8C72-E4303839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D407-0BEC-44C6-AE90-9C8B0AD5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A7A1-857D-45B6-AC53-55E91364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19F2-4033-445F-9600-902CD129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9DD9-6520-40C8-B586-3B9BF945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D211-B8BD-40CC-954B-4BBBF1B0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4C03-61ED-476C-A9CC-3AEAC4B6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F975-F7CE-4488-BE16-69D81B1A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C1CF-583F-43B8-8B67-3A8BBA07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B519-4599-40D4-9662-F0BDFF06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A92F-D103-4DB0-9CBF-6913841C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F7E4-D9AC-4D57-BF6A-2DEBCC680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D64F0-C89E-4574-B463-C7D2CB4F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FDA39-9FB3-430F-8246-A5E9F356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3B4F-CF9B-450D-92AA-E6248395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1F61-4101-4139-AFC1-E4F3D37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420FF-EB16-43E9-BAC1-8A876E57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96433-29BE-4720-B49C-2C2CB267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8007E-2CD4-4AE5-AF09-B46C9801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F6650-C129-40F2-A400-9F5AB53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7799-101E-477C-8479-A1D7134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8C07B-FF12-493E-803B-96407F04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3778A-599B-470C-852F-57F488A43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5F810-1DD3-4B3B-8ACB-4FAB429C9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9B732-0D2A-4292-B0E9-199CCAC0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2E5AB-E4D3-4853-8104-21D3C234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0A3A7-18EE-455F-B1D3-DCB71C15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5B650-7365-4690-BEF5-42CAF882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B44F-484B-43C5-A459-EA2F0F50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904D7-0498-4399-8753-671609F8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302A-A6B8-4602-9A55-DFE5123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01190-925D-4AC1-8AF4-AB0CA406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FF3BD-FB9D-4DBB-A704-F37F84EB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A11A1-52F3-4612-A7FC-EB0FFB76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54D9-7A5C-4661-B500-EED29900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0DC01-A5E4-4725-958B-474B8AFF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C0A82-E502-49C5-BBAD-8974E449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D937-5951-4AC1-94E6-0D1ADB2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2097-A597-4E8B-B116-3BD7E7A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E3BC2-3E1B-4E58-A8E7-2E953D0C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E1148-F784-4525-8C9D-8105BA1A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DB3B8-DBD8-4C2F-9B3E-7F6495C7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439AE-5817-4DF6-9854-A0F3531F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25570-7FBB-409D-917B-EFD8B22D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50EA0-18D9-403B-928D-C388ED5B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04BF4-4563-4DCB-BAFD-4510DB27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67541-8BE0-4F22-A774-D84C70C9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AD44A-EA03-4003-B937-7AA7C5EA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CDEC-B2C0-4CB4-8DCD-E39FC85E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C76DD-6156-4626-9DD2-303D5809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9F13-6799-46CB-B53F-27948336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2FA70-9838-449E-B8B3-DA1DAC6B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831DC-3825-49D7-9CAD-E8A6804C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FE42-CC02-4528-837C-8535F8E4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1BA92-7E6F-419C-BF8E-9442A526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19C08-5041-4482-949C-E540F17D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3C13-6284-4EEA-B9A4-42176280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3B4A0-AEF0-49B3-B6F0-34B805F1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CACD5-28E2-4304-A604-BE7810C2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712DE-03E2-4419-A38F-6634D0841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27FFF-1F2C-4867-9486-7BB71A66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2CD09-0EEA-4E11-8FB3-6B7D228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73291-4941-472B-990B-5FB394C4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0AED-9BDC-45DC-AAA6-611BAA64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CD6B8-169A-43EE-A38C-3D215B37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A0C71-2886-4E8C-BB94-7CD5ADC0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3FBA1-9F4D-4D35-A163-7C951F4E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2C9DC-CB4A-4C8D-A56E-D779860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02BB6-C838-4C96-BA00-D74BDF1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9E145-7A1F-4288-8780-164C21F6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445C0-9C5B-40BD-B4E2-3A39FB68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48E2-B0F9-4630-B85D-94BDC650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67CBA-9E06-4E99-B4F7-05FA860F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3A551-F4A5-4ACA-A838-86AFD1E0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1606B-B31C-40A4-941D-E68BB1C9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3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560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1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523BE-3B51-44A4-89AD-8CBDE61CE40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622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3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9F299-2A91-478B-83D3-F645E66D994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684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5B33D8-0988-412F-86A0-D34E6D62B16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62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A2152E-B8D8-4C7E-A370-031EEE50B09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13364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88928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64492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0056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00560" indent="-3780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00560" indent="-3780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126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2B305-B31A-4B54-9A88-4DE56D7732B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188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2FAA2-2E91-4D4B-89C6-2F4EF990D31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250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50691-F462-4C4F-9B09-BB19F2AC9ED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312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F267E-D3F3-47BF-B377-3E540A6D313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374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73786-BFF9-4F5C-B493-39FBA54E70E9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436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5C065-9A4A-4FB2-971F-ED3BE1245BE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498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1" descr=""/>
          <p:cNvPicPr/>
          <p:nvPr/>
        </p:nvPicPr>
        <p:blipFill>
          <a:blip r:embed="rId3"/>
          <a:stretch/>
        </p:blipFill>
        <p:spPr>
          <a:xfrm>
            <a:off x="6859440" y="160164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EF915-07ED-4420-8CD2-0E6FCA2141A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9:45:29Z</dcterms:created>
  <dc:creator>柴田宏</dc:creator>
  <dc:description/>
  <dc:language>en-US</dc:language>
  <cp:lastModifiedBy>宏 柴田</cp:lastModifiedBy>
  <dcterms:modified xsi:type="dcterms:W3CDTF">2021-02-05T06:35:00Z</dcterms:modified>
  <cp:revision>2</cp:revision>
  <dc:subject/>
  <dc:title>PowerPoint プレゼンテーション</dc:title>
</cp:coreProperties>
</file>