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119813" cy="10260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6000" y="409320"/>
            <a:ext cx="5507640" cy="17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6000" y="2400840"/>
            <a:ext cx="550764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6000" y="5509080"/>
            <a:ext cx="550764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6000" y="409320"/>
            <a:ext cx="5507640" cy="17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6000" y="2400840"/>
            <a:ext cx="268740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28040" y="2400840"/>
            <a:ext cx="268740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6000" y="5509080"/>
            <a:ext cx="268740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128040" y="5509080"/>
            <a:ext cx="268740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6000" y="409320"/>
            <a:ext cx="5507640" cy="17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6000" y="2400840"/>
            <a:ext cx="177336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2168280" y="2400840"/>
            <a:ext cx="177336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030920" y="2400840"/>
            <a:ext cx="177336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6000" y="5509080"/>
            <a:ext cx="177336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2168280" y="5509080"/>
            <a:ext cx="177336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4030920" y="5509080"/>
            <a:ext cx="177336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6000" y="409320"/>
            <a:ext cx="5507640" cy="17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6000" y="2400840"/>
            <a:ext cx="5507640" cy="595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6000" y="409320"/>
            <a:ext cx="5507640" cy="17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6000" y="2400840"/>
            <a:ext cx="5507640" cy="595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6000" y="409320"/>
            <a:ext cx="5507640" cy="17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6000" y="2400840"/>
            <a:ext cx="2687400" cy="595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3128040" y="2400840"/>
            <a:ext cx="2687400" cy="595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6000" y="409320"/>
            <a:ext cx="5507640" cy="17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06000" y="409320"/>
            <a:ext cx="5507640" cy="794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24"/>
              </a:spcBef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6000" y="409320"/>
            <a:ext cx="5507640" cy="17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6000" y="2400840"/>
            <a:ext cx="268740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128040" y="2400840"/>
            <a:ext cx="2687400" cy="595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6000" y="5509080"/>
            <a:ext cx="268740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6000" y="409320"/>
            <a:ext cx="5507640" cy="17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6000" y="2400840"/>
            <a:ext cx="2687400" cy="595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128040" y="2400840"/>
            <a:ext cx="268740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28040" y="5509080"/>
            <a:ext cx="268740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6000" y="409320"/>
            <a:ext cx="5507640" cy="17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6000" y="2400840"/>
            <a:ext cx="268740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28040" y="2400840"/>
            <a:ext cx="268740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6000" y="5509080"/>
            <a:ext cx="550764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Group 143" descr=""/>
          <p:cNvPicPr/>
          <p:nvPr/>
        </p:nvPicPr>
        <p:blipFill>
          <a:blip r:embed="rId2"/>
          <a:stretch/>
        </p:blipFill>
        <p:spPr>
          <a:xfrm>
            <a:off x="1079640" y="785880"/>
            <a:ext cx="3968640" cy="8400960"/>
          </a:xfrm>
          <a:prstGeom prst="rect">
            <a:avLst/>
          </a:prstGeom>
          <a:ln w="0">
            <a:noFill/>
          </a:ln>
        </p:spPr>
      </p:pic>
      <p:sp>
        <p:nvSpPr>
          <p:cNvPr id="1" name="Text Box 152"/>
          <p:cNvSpPr/>
          <p:nvPr/>
        </p:nvSpPr>
        <p:spPr>
          <a:xfrm>
            <a:off x="108000" y="9283680"/>
            <a:ext cx="59022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全てのオブジェクトをピンクの破線内におさめてください。封筒の周囲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10mm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とベロ（フタ）部分には印刷することができません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製袋された封筒に印刷するため、貼り合わせ部分の段差（下図の灰色の破線）にかかるベタなどのデザインはかすれる可能性があり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データは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1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色で作成してください。色の掛け合わせはできません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グループ化 4"/>
          <p:cNvGrpSpPr/>
          <p:nvPr/>
        </p:nvGrpSpPr>
        <p:grpSpPr>
          <a:xfrm>
            <a:off x="98280" y="1430280"/>
            <a:ext cx="4591080" cy="7400880"/>
            <a:chOff x="98280" y="1430280"/>
            <a:chExt cx="4591080" cy="7400880"/>
          </a:xfrm>
        </p:grpSpPr>
        <p:pic>
          <p:nvPicPr>
            <p:cNvPr id="3" name="Picture 10" descr=""/>
            <p:cNvPicPr/>
            <p:nvPr/>
          </p:nvPicPr>
          <p:blipFill>
            <a:blip r:embed="rId3"/>
            <a:stretch/>
          </p:blipFill>
          <p:spPr>
            <a:xfrm>
              <a:off x="1431720" y="1430280"/>
              <a:ext cx="3257640" cy="740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Rectangle 102"/>
            <p:cNvSpPr/>
            <p:nvPr/>
          </p:nvSpPr>
          <p:spPr>
            <a:xfrm>
              <a:off x="1439640" y="1441080"/>
              <a:ext cx="3240360" cy="7378920"/>
            </a:xfrm>
            <a:prstGeom prst="rect">
              <a:avLst/>
            </a:pr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AutoShape 150"/>
            <p:cNvSpPr/>
            <p:nvPr/>
          </p:nvSpPr>
          <p:spPr>
            <a:xfrm>
              <a:off x="98280" y="3571560"/>
              <a:ext cx="1028520" cy="838080"/>
            </a:xfrm>
            <a:prstGeom prst="wedgeRoundRectCallout">
              <a:avLst>
                <a:gd name="adj1" fmla="val 112810"/>
                <a:gd name="adj2" fmla="val -62500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全てのオブジェクトをピンクの破線内におさめてください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AutoShape 151"/>
            <p:cNvSpPr/>
            <p:nvPr/>
          </p:nvSpPr>
          <p:spPr>
            <a:xfrm>
              <a:off x="98280" y="2085840"/>
              <a:ext cx="1028520" cy="571320"/>
            </a:xfrm>
            <a:prstGeom prst="wedgeRoundRectCallout">
              <a:avLst>
                <a:gd name="adj1" fmla="val 79476"/>
                <a:gd name="adj2" fmla="val -41388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青い破線が仕上がり位置となります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102"/>
            <p:cNvSpPr/>
            <p:nvPr/>
          </p:nvSpPr>
          <p:spPr>
            <a:xfrm>
              <a:off x="1793520" y="1782720"/>
              <a:ext cx="2519280" cy="6661080"/>
            </a:xfrm>
            <a:prstGeom prst="rect">
              <a:avLst/>
            </a:prstGeom>
            <a:noFill/>
            <a:ln w="64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" name="グラフィックス 5" descr=""/>
          <p:cNvPicPr/>
          <p:nvPr/>
        </p:nvPicPr>
        <p:blipFill>
          <a:blip r:embed="rId4"/>
          <a:stretch/>
        </p:blipFill>
        <p:spPr>
          <a:xfrm>
            <a:off x="1330200" y="17640"/>
            <a:ext cx="3530880" cy="452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/>
  <dc:description/>
  <dc:language>en-US</dc:language>
  <cp:lastModifiedBy>柴田 宏</cp:lastModifiedBy>
  <dcterms:modified xsi:type="dcterms:W3CDTF">2025-02-13T03:10:23Z</dcterms:modified>
  <cp:revision>32</cp:revision>
  <dc:subject/>
  <dc:title>PowerPoint プレゼンテーション</dc:title>
</cp:coreProperties>
</file>