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2FABE-40C1-4C81-9508-2B071504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EE3EA-1D90-404A-96BB-FCA8D3B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5860F-5F16-4337-B7E2-92A83E5E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EA632-2F02-4F38-8B69-37E7ECEC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5444-74BA-4400-AF18-9AE11C16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9EC2D-AE4B-4923-B80F-AD1A0BED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837A0-D8EA-4ED0-B368-11626D7D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46B37-AD5D-4987-9714-681A2F9A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7DF6E-7BB5-47E2-9053-395C1254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FD562-FFF4-4916-B6A6-C7A2778E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6A73D-5338-49F6-94C7-73BF1295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BEA3F-8ACF-47B4-B249-10022886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D0B18-980C-4441-9992-BA27BF58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83EEC-16C3-404C-9E1F-072FE9D3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88D58-6BA6-4A10-AF9F-17898664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4B57D-7900-4EEA-B24C-E7D65024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5068A-1909-4372-AD3B-2777FF84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CA3DB-B49D-45CA-85A2-92F1FFFD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9F9D8-174F-4190-A5C9-A2B777AB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A563C-7D80-431C-A181-F117AFD5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3EA05-FB31-4C86-BA45-8B9B470C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C668E-29AC-447F-A08F-8CFA87F26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9CB4E-3372-4787-A5ED-7EEBCED3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A30DD-D667-455F-89FB-58CE0094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6AF77-321C-425A-B1EA-E9919181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0890F-DCA7-426C-89B8-276ADAA0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36AD4-246D-43E9-AFE6-A68579E8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124C7-97DF-4ED3-B101-4BE129C1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95BC9-1FDB-4A87-AA2D-3FBF8377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EB519-FBD9-48B3-A8AD-963A1703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0674-5730-4C93-9629-51F9363E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E13F1-3D66-4540-9756-8AE24BC1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7655E-7242-447F-A7DA-018A5E8F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19162-6769-49E9-A3A3-25AA117E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91432-915C-48DC-94A8-49B964B7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18DD2-BC63-4700-A3FF-B6707CC3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E9B8C-A2B0-4E30-9191-782AD9D9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9A86F-2B72-4877-9862-261DD8C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3DA64-1426-4661-89D3-2B2F2F0D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74379-94E1-4E64-AA56-7656F385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8730D-B296-44C2-AB82-442000C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EED-E275-4B6A-9AC3-91AFFC6C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2291E-50DE-40EA-96DF-19881F11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5607E-CFFB-4ECA-936D-B6F576E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06D22-CBFD-49F8-A767-BFDDC2EB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73DD1-1C45-4928-9405-444ABE81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30521-800A-480D-B4A0-77442EF9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9AB-47FB-4B93-AFEF-C3A2620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CD0-FDBD-4BEE-931A-E982EEF7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F3B-90F5-41F3-BBB5-CF024B3B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2892-5DDF-4181-9BBB-D362D184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852-AAD5-435A-A141-6C202483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E733-D690-40A2-A9DB-C6BBA5DE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6223-A5AD-4428-AE92-1B3B9D7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222-A4BE-4C5A-9271-BF89B864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6C7-E2C8-4D44-87A2-C8E2B2DA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D08-0CEC-43AE-8392-7CC83A77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9F99-A32E-4764-AD99-E8FAD2660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E14A-259A-41F8-8C07-441128F6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ED29-BC4C-49B1-8AB3-F9780786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D3EB-DF15-438E-A506-C6B8DED3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2390-EB03-468E-AB9F-A387BDC1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9776-D1F1-4BE4-9373-06DAC7F9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76C6-BC5B-40C2-8331-F55BD265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1893-FF95-4D7A-9B3F-2921786E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C122-3395-41EF-B305-33F1C175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E4B4-E3B2-4553-BCE0-ACBE297D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C70B-B6FB-4D2C-B73F-5E9D305E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DCBB-D656-4114-8DAA-3006E5E1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3858-6CD4-4127-829E-BFE78AE0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4B6B-E3A9-4CC1-9043-5A7C432D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3749B-6A49-46FA-A08A-6830F61D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16FD1-1B61-40B4-ADFF-AA554CD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DD6E-4295-4D06-B2C9-21AA4FBD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9658-9C45-4711-B740-3A0F5B29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37FE8-070D-42D3-BE36-6F7E4460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768E-2974-442C-B57B-6B95E347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0C16-E00F-44FA-9769-A1DD66CA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1C0CC-C692-4FBA-AF0F-42F70DD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3F0E-879D-4721-B38A-121E9F5D9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17E8-3849-4948-94A9-7E7C0698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AC192-27AB-4E62-AA08-F1D453F5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C20E-A1AC-4BE8-99A8-D10134DD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216F1-C82E-41D4-9529-AC096BF9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88A7D-6179-4D44-980C-B8A11729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B035-24C0-4AA6-B5EE-041276D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4E75-6A2D-47CF-91BC-E34BF943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AC35-5C51-4D1B-94D7-26677830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30177-377B-4F19-909F-5DC1EED3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9B647-0CAB-4C5C-B2E5-5E961789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49FF7-DEA5-4414-B73B-6BB9F026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3163-3B67-467E-866B-CD2BB157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DD08D-2492-4F72-9D49-389AA5D5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C6E0-4C70-4E64-BDBE-18B7DBAF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D3100-25FC-474D-A8C7-9B2404DD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DF767-E2C2-4A2E-BA1F-B46D04E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62CD2-B154-48B4-9F55-AE74A698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181A0-045A-4827-B2F0-1F3F2A47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A88C9-331C-478D-A740-E7CD29C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7896A-9B8A-4FDF-81E0-E426829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940CF-6D48-444E-AD1A-3E4C95E9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BB4E-CA10-4D75-B328-C18A0980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1E2FC-FE48-4E61-AF94-BBCFAD74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A548-B36F-4349-AE36-0D8831B7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B4D6-F7C3-41EA-BBD0-E2DF2B94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D5E0-6680-4685-88D9-92A3BC09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A721F-7380-483E-8724-944E07B0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16C1C-16CE-4DA9-8776-4538DFA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0E836-F2BF-46A9-8106-97BD09C9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0AA06-D222-4C15-8DB5-C04F2DB8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5448C-D84C-43DA-9C99-8BAC436B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962D7-09B4-4FF8-AE51-C3EECF1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AE43D-1D21-41B0-A9B1-3C073940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84436-1169-46D4-BE4B-A4BBDF28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0B407-4E1C-45CB-B816-580FA1BF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3DF96-14C3-441B-9F36-80DA25D5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3F795-8EDA-4A3A-8880-99B21F299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421F3-CEB9-47E5-BD17-03EC9D68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7D629-A627-462D-B30A-36BE8AC8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D061B-44F0-4179-9DB6-F8DBF0B4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D1102-A2FD-4393-8B8E-899D7638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913D2-3A7E-499E-8776-1DE1B74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BB1CC-F99D-4971-97F9-BF020D39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EBB2B-7723-4C6C-8971-1E143E2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F82E7-6028-4C18-829B-D063020E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31A1E-DF91-478F-A10A-4125511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3DC3A-B8AD-4E69-BFAF-8348304D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920DD-C465-45A0-8ADC-3A338DF3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120C0-6BF8-491B-98C4-80FBEE4A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1EA22-FB98-4DBA-9C54-ECC35AA7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6031A-D068-4A0F-AB69-8D8AE2C8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C6034-AE49-4703-8D52-0D597450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1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549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6E8363-9268-4BFF-BB64-952A6F173EC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610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FE808-DDC8-4293-A545-8F0E80EFD0B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671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4A522-D0C9-4116-9136-8F616900468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59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3BCA43-DAB4-495C-906E-6AD8153502B2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122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6198D-16E4-4561-8EC0-F4768340817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183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4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7E044-1E73-4888-9574-C594BC7180D0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244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C5754-9A25-4648-867F-695CE955C7D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305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706EA-1649-4A8D-849E-3C434ACEE79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366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7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238BC-30C8-4AEE-A573-9149B39D2C4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427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3E6D2-7554-4852-BF1C-4A5A32B1FF0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488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2" descr=""/>
          <p:cNvPicPr/>
          <p:nvPr/>
        </p:nvPicPr>
        <p:blipFill>
          <a:blip r:embed="rId3"/>
          <a:stretch/>
        </p:blipFill>
        <p:spPr>
          <a:xfrm>
            <a:off x="4545000" y="5014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9A4EF3-261B-4F39-AABF-38355FCBC1D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35:35Z</dcterms:modified>
  <cp:revision>4</cp:revision>
  <dc:subject/>
  <dc:title>PowerPoint プレゼンテーション</dc:title>
</cp:coreProperties>
</file>