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474AF-7F12-4883-884D-DC2D361B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67752-40FA-4BA6-B1DA-81B394D4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55828-D721-4775-99EF-FAF52BA1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CA87D-A9A6-446F-84B8-D625DD39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D733-401E-46BA-9DCF-AEF21C3E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0B5CF-6752-4872-B0EE-F3F4D653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74347-954C-4740-998A-C122086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F61C4-6B46-4D7B-9928-C6F22EE0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B29CB-D80C-43D9-9D8D-987DC60F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BC130-61DC-4064-8770-217F4E9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34406-A727-451D-BB90-2774A0B0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BE6FA-EF4D-47A5-8060-E6946D68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AB2ED-90CF-4F70-9AEB-0E4EBDD6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563DC-93E0-42B3-A3B4-E76E8B4C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9FED6-3EEB-46F7-BD6C-AECC3B97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CA33E-534B-4F7D-927F-D1B5AE7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71286-A2CE-41B3-8901-7496F62C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F74AE-CAC4-4B8F-9552-2C3D979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5419A-7AE2-4B90-A5E1-D590CEC2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59F16-0D34-4A4F-A784-2D67ABEA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357AC-6459-4554-946A-CB9C77F5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51A13-F1F6-4CCC-B5FC-FBAA4415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48A75-1579-4A90-9DA5-2334DD88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6F868-3022-4BF2-9C2E-B1FEDBC1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70544-AC14-488F-85B1-4041394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B6839-99ED-4958-A731-D45D3B5C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641A6-6C96-4926-9CD2-645BD09C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881D7-9791-4CB9-97E4-9887EDB2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50564-1842-467E-8853-DC024902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5115C-C272-4A63-A9D7-4A611C34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FFE-AFB4-4F9E-8F43-B8D63AFF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AA1CE-CE51-46F9-9386-FB9ED8B2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661A1-50BA-49D9-AD7D-5DECB235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48E22-EEB2-4C9A-8633-C8390C70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DE51E7-4A34-455D-977B-2342A2A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D02E-E715-42BB-9A45-980A76D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340A9-799A-464E-896E-997176DA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0547F-B518-4624-87A7-7329DFF5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664FA-9139-4B9F-AF97-00C2C606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FA1B4-DA93-48F1-90FC-6EA63918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6A7F-4D5B-4A98-9A61-FF04707D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D82-7568-4AD2-AEE9-A792A213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D029A-866E-4824-AE09-C2BE73BC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3803E-130A-4160-9EB3-63FFBB9A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8FC93-1182-42BE-B503-87FC6831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1D6A5-C915-4E8B-938F-19B9B25E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F7936-1465-4567-B6AE-DBC780C7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898-3115-4EBA-A27F-7550682F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5ED0-6E38-4D77-90D0-639D52A5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68D-12ED-4ABF-8A84-EBC56BC1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9712-6A99-4258-BC34-60CD8088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BFCE-FB2A-4E9D-9D66-5C00C9F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24B-D32D-4348-803C-28CA62E1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5225-322A-46DA-9230-0839245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6F4B-9DCA-4E31-84D7-78EEF6E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06E-DC97-4B8B-9CA4-F42FC3A4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9CF-D8EC-42B1-92E3-C8C12D55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0CF5-2CB4-42BA-B022-345FA0A0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60EC-EC07-4BA8-96EB-F5F65C9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EAA0-8628-4F3E-825A-B36DFF7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8483-9B62-4986-A595-B86D24FD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A374-6043-45F3-8189-7981A00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A693-C127-4D2E-9BD2-0799174C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6893-F6FD-40CF-A796-DAD7E574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3396-9CBE-40BD-BB56-C4125E2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111C-906A-45E3-B00F-9D86292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620D-A28B-421B-8DD5-31FD9256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5BBA-32A7-4CCB-8FF1-A6FEEB66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504A-D18A-45BB-BA98-E801B6C8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1C7F-B11F-406E-AD02-A4092A19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EEAB3-BF54-4A2D-9923-69C03E7C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DA1AA-A1A4-49E7-8E0A-1FAA818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FAC45-2D1E-4C50-8C50-9E2430F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0C08-4A66-4E9B-A7D3-B4FEAFA7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7135-68E7-45CE-A7B9-5DCA4FF0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C694B-CBF1-4995-AB48-9898D7A2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56EE-A14D-4066-AE61-4041EF3A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AEE5D-7BDE-4795-B84E-60FE816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B2128-0DBE-48E9-8F75-6E0E7739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06079-59F3-4A26-ABB1-12613D22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7918-3AD2-4FA9-89E4-E206BBCF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12261-0990-4C9B-991C-F9C96961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8F52E-C67C-452F-BAFD-33AEF32D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045B-E0D6-468B-9EC2-2F869C54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F6A44-1DEA-48E4-AA69-23C79BD1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809D-7998-4E05-BCBF-66792D3D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ED603-72F7-4C72-B6BB-646DB0F8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FC2FA-78AB-4736-987B-753620C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27B0-89D8-46C7-A7BC-66DB13EE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D037-C960-45B5-8438-B812134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7051-4C20-4FBE-BD58-B188815B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18E9-8593-428F-AD10-77B67F9B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20E1F-91AC-42C8-8D0F-3494FCA7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875E-D18C-461D-A0CA-2FDB95AC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84E66-6AD4-4DE7-9EF5-C77E4E57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AAB7-3D4F-4A4F-9316-90054C7D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68AC5-8527-4CA5-A4EB-28A4751B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EB5B1-0CAE-43B3-9A59-0868DCED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A9F5-EA74-4877-8FA7-AC877111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61E6-AB60-4554-B673-35E8AB5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BD73E-0D8B-4251-9532-18F4A944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6E8EF-F12A-4424-BE4A-98BD73A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6ABE5-9265-4903-B51F-CD2E1177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02676-FFBB-4EB2-922B-831A4077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AB632-7602-46C2-B5CD-DB728E34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C7D08-19A8-4026-BBCC-28FBEDCE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D985-FC09-4909-8A44-8017AFA7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6CA09-C599-4127-9F37-F201BD6F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B361F2-69A0-4329-A6AF-CEDE380B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C8A8-83E2-4A87-BD20-D6114A8C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23095-D170-44F2-99D9-6A88F8C3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E1F48-27F3-4CB0-8BE1-4864C647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22B9F-BF67-45D7-A4EC-FCEB405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1A0E4-F77F-472C-BE22-374FE2D6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6BF49-6835-42AA-A828-D4FCA76D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76546-3045-4A5D-9AEC-2E9C3EF4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75177-7883-4221-8E42-316F9F34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BCD8-5154-41E9-A779-A6EF3838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E8485-9FEF-463F-86E3-A1756086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6E5DD-450B-40A9-9EF4-6742AEF6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CD94B-FDBC-4E0E-8F1B-D728380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8018-B536-423C-A4A0-7787AB25A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09653-2673-4C2B-8AC1-A93C763C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092BB-AC55-497B-901F-AA9B40F1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07DE4-6B25-4A16-AAFD-CF024184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11110-CAAB-4D63-9B34-4586A33B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A942A-A26D-48AC-977B-472ACFDD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68F07-5062-4388-A016-CCACFAE5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56BEB-B91D-44FC-8D12-D9F89486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B90E2-D2DF-4B71-97AA-A6E05A2E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BC084-32CF-4EEA-8A6D-1A9EEC7D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BC17B-6CF4-4214-B142-A1DB5FD6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3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560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B0F67-3061-4640-8BE8-0F0E9BB3E46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622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2E31A-97E8-4802-8D48-C198F555F16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684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9147B-D1E7-4721-8519-BC0B75B65AC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62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32D4A-F55D-43A2-B2E3-8A87A0F2673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126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6D05E-56F1-4FE6-ABB1-47CFB0D7FCE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188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E9E01-1B13-4038-9FC2-5FB7E18A8F3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250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38DB4-6CAC-4C6F-8E8B-B1F958DFFC7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312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2B93E-5D72-4F3E-B56E-A182B471BC0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374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28868-267F-40E0-BAED-24AC9003908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436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32F86-1FBA-4141-A53E-9E3710736E7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498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1" descr=""/>
          <p:cNvPicPr/>
          <p:nvPr/>
        </p:nvPicPr>
        <p:blipFill>
          <a:blip r:embed="rId3"/>
          <a:stretch/>
        </p:blipFill>
        <p:spPr>
          <a:xfrm>
            <a:off x="4551480" y="5176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48F6A9-F020-4D4B-92A5-64E501324C1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5:48Z</dcterms:modified>
  <cp:revision>5</cp:revision>
  <dc:subject/>
  <dc:title>PowerPoint プレゼンテーション</dc:title>
</cp:coreProperties>
</file>