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E36C9-3659-4022-935C-EB1DB04E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6C8FE-DAC3-4E62-AEEA-2C620F8C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70FF8-2440-4C5E-9214-71E19565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CDBBE-D518-47C5-B079-67D145BC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A6967-3635-4BC9-89EB-C1FD4A2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C3327-7F1A-44BD-B256-D3DC8645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FFF40-4C37-4036-BB78-4095C751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4F346-B753-4F5A-BAF4-E55F7E4F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87CE3-DD45-4CE2-A553-DC6507C9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3AB48-BA2F-4B71-A48F-04A175E0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9B865-BED5-4631-B5C3-42DBEE53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396F7-65AA-4221-8FCB-7D460618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4F477-B41C-4A52-BDD5-1F9DA923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2EBFC-54FD-4ACA-942B-A651C6DA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2C453-BFDA-4E54-96F6-42768E60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699DD-6A99-45A7-A335-FA692D26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57385-D096-4720-8010-62E360B5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D8D24-1644-4D41-97FC-7CAF48A0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141AD-4FB8-4E19-BD18-21790226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13719-CF77-4C79-9943-90A3E486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C5221-7AAF-424C-AB41-5F180AE1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4B358-3566-495E-9972-E405BE5B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4E3A3-80D5-45BE-8BEF-5CC8CCC5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BD004-FD00-4452-9D18-B3052C34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D36A4-D78C-4134-BE91-F423682A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72CA0-B703-4104-8705-CBEDE05A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30525-D3C2-48BE-A7AF-12A86B52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6874A-CCA3-495B-BBBD-55CE60F6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405A9-F9D0-4668-AA4E-0F7DDC5E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F697A-80C0-465E-8AC5-3B953F66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0E3-5E84-4547-A85C-E5882FBD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8FDA0-E03A-432E-8C95-970C9376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B7E05-4827-4EC0-848D-3F32F4DD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CB06F-FB1E-4119-810C-84B35772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FEE2-90D6-4DF7-AA4B-D84A4EC7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1B543-CEEC-4A03-9D1D-1D02AD62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85CEB-020C-46BD-93A0-21204532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1C207-0450-4CDD-9F54-AB9DC1D5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3FC2A-BCEB-4DC9-B5E1-0B9F7FC6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3C960-AF32-442D-857F-A84A48B9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6136B-1D6D-43B0-B6D3-B240C57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183-414A-41A4-BA87-D10E8C4D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82D03-C3CF-4181-A2A6-F86F6B84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74503-320D-481E-AF8C-1AE1F24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96488-7533-44A6-B0AA-AC7646E7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4485F-AA10-47EE-A2FE-3CA3B1C5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9568B-7F2C-4E39-BDD5-0A9811F4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2E6-4C96-44A3-B0AF-38A9E925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782-A578-4F7B-81A9-E0772D5F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77F-5D4B-4780-A20D-ACFE0E89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1A3-AA34-4043-9B9C-F69CCBAF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DCF-9B5E-44C0-ABC9-86ADEF7B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9A5-9525-4768-8289-AB836EB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558-0ACD-48E4-BD2A-F0C7A3D3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B50-990A-45C2-B16E-012A435A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D47-495E-4468-AD66-FA2DF1D8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D6D-2A69-45BB-AB0A-5ECE771F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8D3C-C11B-4105-85D7-F307DAD5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69D6-B333-413E-BAF4-0E4AB959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8078-E573-4E84-BA43-603774FB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8EF7-F549-48B9-825E-6CE4D3E8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6741-6865-4C73-9871-08A24599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FEFA-9DF6-42CE-B7F0-97585700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5817-39C9-4826-9888-5D86D3BF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22AB-7C4E-405E-A46C-DAA6B3DD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3075-45A0-408B-92E7-9D1B4931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7D5D-F957-4621-A049-E6C8DE79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9234-8E96-427D-9BB6-DE484822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2F27-E5AA-4F61-A8ED-A81F82E0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F1B1-EFB2-4B1F-873A-B7348CC4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6706-DBC4-43C2-B952-3CBB72EA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AA3A-013C-4B45-BB80-9311E99D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9C97-B0B1-4433-BEA9-891E9303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E852-CCC3-480E-85C2-C2640E09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62D8-0F7E-407D-9610-8C66271B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5DE8-9EA5-4936-80BB-055A41C4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8458C-F626-47C3-824F-F61697DD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93DA-2E5A-4F7F-95CC-85520EDE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A9C7-0346-4561-8D32-A9B10401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FFE0-D6FE-4073-8986-536B6386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FFFA-22CB-4900-B70F-B8BEA162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4CA3-FEBE-482F-A3A2-A2124A30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594F4-CDDC-4D91-B51E-4FE6AEA5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7DF0-65F8-40D7-A83C-DF619CC9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92451-9496-43CC-830A-127FEDE2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8281-D679-45B8-A72A-DA4AD2FF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ED57-BA3D-4C12-89EB-784DF65B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8D152-217C-40E0-8AFA-39B9F1FD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E4634-368D-4162-AB07-D39541D4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7497-5791-462E-925A-BAEED799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4A8A-C898-41B3-B682-4CCE2576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5482A-E132-45BD-8E5E-0E500356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E8F0-B5F1-4DA8-BD1B-B72CEDAA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6B78-1437-4D22-887A-C180152C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8F22A-E6F8-40C8-9892-D674119A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0022-24A0-4938-8E3F-AC562C53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9157A-2B5F-4755-A649-CCF72F95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DD822-A2D2-4D85-ADD8-6A30A78E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A44C-C9DE-4AD0-BC8D-22355746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7E4C-6332-4913-9344-A44F2F2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04EA-F975-4B05-93BA-B876E671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76A05-DDCC-4077-BFBB-C4FDAC2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9DBFF-D1A8-47AA-84A6-719F8099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C2477-B862-49BA-83F7-723DEAC3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B5E2C-A6DF-485E-ACFC-671E4419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03372-2515-47B1-846B-D823F888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4B958-52DA-490E-8E91-24720EF5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A6A8D-E81F-464B-A6DC-4D033DE2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46924-B968-4385-B2BD-49E49587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D373B-EB75-4A4F-966C-3B16C5AD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80B3-4511-4E84-96EE-FC6325B1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1DC8-5ACE-4492-92FD-0C9137A2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00879-EE47-4652-B552-7B12C6DF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91355-EF6C-46FA-9EE7-06B1A911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53143-2386-4892-B745-09BB649D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08BE-1417-4C6F-AF6D-D006A53B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C8BC5-A64C-462A-971D-40FFDFCA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BD3C-7A59-4DC7-8979-63F58C14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CCDEC-3232-4BFB-ABEC-3CD34C3D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39486-E284-4747-8197-0E9F1D10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4591B-D911-44F4-A125-73056B48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89CBC-2E3B-468E-89BF-2C28AC91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32425-2E2C-4B52-90DC-B1BA11C4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148CA-FBDB-4AD4-A277-7BD66FCB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8BCD7-66EE-457D-98EB-EBBAA1C8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1DD5A-0815-43C8-8963-4AD7A055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9CBBF-AC32-487A-A59D-8E9E63D4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2360F-B06B-4DD1-BDD1-B47DFB77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381B6-C4DF-4213-8688-662E4943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BD41D-25FB-4E77-9028-6E916C39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32C89-01F7-4E59-A94C-51775E90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C7C72-F93C-41C4-9597-2AC6129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3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551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25045-43D1-4C2F-A11D-8CA4E0DBA89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612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5764D-2F24-4207-A2EE-A3D38A45AD9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673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A10A9-0C2A-4B73-95A7-7E3766E4F5D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61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43093-748E-4F85-B439-6FB8500E10C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124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23F6D-96D9-4C30-9FE5-208C39988DA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185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7F6D4-8086-4940-896F-E06E5AB1BD7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246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1E7CF-D83C-457F-A6DB-CB436ACCE58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307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C4FA8-530E-4453-B48E-55C18D9F45A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368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B66D7-645E-413B-BE45-A5E49387EBC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429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B76AB-2B02-4294-A317-1BF447A9222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8039160" y="362916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グループ化 20"/>
          <p:cNvGrpSpPr/>
          <p:nvPr/>
        </p:nvGrpSpPr>
        <p:grpSpPr>
          <a:xfrm>
            <a:off x="2498760" y="1509840"/>
            <a:ext cx="5486400" cy="4154400"/>
            <a:chOff x="2498760" y="1509840"/>
            <a:chExt cx="5486400" cy="4154400"/>
          </a:xfrm>
        </p:grpSpPr>
        <p:sp>
          <p:nvSpPr>
            <p:cNvPr id="490" name="Line 22"/>
            <p:cNvSpPr/>
            <p:nvPr/>
          </p:nvSpPr>
          <p:spPr>
            <a:xfrm>
              <a:off x="2498760" y="18403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2498760" y="195012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2498760" y="359424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2498760" y="5229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2498760" y="5337000"/>
              <a:ext cx="54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2835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>
              <a:off x="294336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5244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754812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7652880" y="1509840"/>
              <a:ext cx="0" cy="415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2835360" y="1840320"/>
              <a:ext cx="4817520" cy="349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>
            <a:off x="3048120" y="2048040"/>
            <a:ext cx="4390920" cy="3060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940120" y="1951200"/>
            <a:ext cx="4606920" cy="3274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1627200" y="381168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1595520" y="25448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19560" y="5783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108400" y="114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7846920" y="24289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3780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1A324-17BE-4E2A-A129-C29A08D1555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36:32Z</dcterms:modified>
  <cp:revision>6</cp:revision>
  <dc:subject/>
  <dc:title>PowerPoint プレゼンテーション</dc:title>
</cp:coreProperties>
</file>