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5EFFD-020E-4F90-B350-3A2F66AE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F2987-B427-4404-B0B3-F37DA1D0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9711C-B75D-4042-BD7A-2D4962EF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A0E92-F1BF-4115-8392-3C9A2856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27170-F6EF-4A47-8D1E-E23A201C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2D7A2-5199-450C-9085-C532FEBF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ADEF4-92B2-421D-8B1A-13E2C00B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9B120-33AF-4A2B-AA9B-0D16671C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F4671-6CDB-4FD8-B4AF-5DCE6BFE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A36A9-E5B1-4DA9-8E32-3F613CC3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06E3E-7791-42D7-BDA9-53887530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E080D-61E1-4E05-9E26-F36AF80E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D28B4-E676-470B-B6E5-2E3E07DC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E1F53-E8D0-41C3-BA73-36FCD002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4F049-647C-4CA2-89E3-30A9AAD4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3F92F-5784-4FFC-836E-C98DC9D7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CFC28-7E76-4757-B742-55CB37C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780E7-7353-4EEE-8F43-FA97801B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2FCD8-E95F-4EEA-99AF-4F75F562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E6595-6632-4731-85E2-9A286B1F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084AF-9DFB-4400-A21E-D9AD9F17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4E5BB-3DC2-410D-A9D3-3838802F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C6181-F279-4E0D-A4FB-F2C5D1B0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7939B-33BD-4713-9CF6-C601CC32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6B91A-821C-44EC-A70C-5DF6CC1B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7FAAA-0454-43BF-A4CA-B6B7AE67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46069-B475-47E3-AB9D-F5B37CD7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436DE-5534-42FD-BCA9-D30BD801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AF4C6-A810-4333-A29A-8349679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C3004-D9D3-4F3B-AB20-8BA3C23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F33-D599-4735-886B-E215D869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228F5-DB73-4DAE-A33A-2D952C36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271D9-6F50-42B6-9C96-C4C4E108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43AB6-79B4-4047-BED8-4DFD766D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0BEFA-9D6D-4074-B035-5A6D1BC8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2A56D-01E7-4088-A155-98337375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EB258-D1C1-40A7-A195-EBE9FFE0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6FF4B-7B51-4D9E-A0FF-99C8CFF4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9F236-8D69-4911-95E3-07526763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B6FC0-E55F-4D52-B984-7B5D5548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13D92-6955-4749-860E-205698B5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3F0-E87D-4289-B851-7C38443D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73403-8929-41A1-9646-870FE519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0E003-F831-48DA-8545-AD48872B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8D225-7D48-40B0-9385-22CFEDC9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866B1-9054-4E85-9B73-960AE615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02161-08E2-4C7C-B26D-C66B61E1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E17-03BC-4C45-BD0E-1F6E6A66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27B-6D99-4956-B585-5821F0F9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89E-BB2A-477C-91CA-B47082E6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D20-214F-4736-B16E-55719626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7DF-5E24-44EC-8709-90AD315D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BD4-6739-4FC3-8DCA-3A23A8D9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D81-31A4-44EB-98E6-72C16F1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6CA-B0F4-44AB-AD58-03164AD3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7F3-09CF-4927-A736-B208F4EF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5A5-4EA8-4A40-A047-A971B8F8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1B9D-1F32-4BE1-8773-7A79FFF1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EC14-970C-49CF-BAAC-16293CE8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B748-9464-4174-BB18-B77D4D65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9F8A-253C-46D8-93D5-D9C135CD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6286-1D5E-4AC8-8D75-A4CDBAAB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76EF-5BD3-4629-B239-3CC1171E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4F41-CE3E-43A7-9258-3B0182F7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649E-CF8F-45F6-A080-1458EDF3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18D5-9FE1-41D1-964D-CE66981E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930A-7436-4B8F-9650-AF0995DB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265B-1FB9-488C-89E6-8D2E447B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DF3C-FADF-4866-A233-724C322E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2B6AA-AEE2-454D-929B-E560B284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76A1B-F208-4660-B4B1-BC568329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1C6B4-B3BA-4E75-9BA0-B59F50EE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58856-2E96-40CA-9681-54487F58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E0E0-AEF6-4634-99B3-A1EB4F20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ECD3-50FF-4DFF-8A0A-87757B63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999B-8E76-453C-92BE-AD4C60FE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473B-7F26-45C7-9BDE-91B222B1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DCB4-1824-4D37-898B-901EF335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FF2E3-1BF4-460E-BB5D-286DE9BF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FE2E-7C4E-4B13-8533-113F7AAA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F8BE5-7F84-4A43-9FFE-4ABC8588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BA12B-6951-43CC-BAE8-ED5E1EA8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7533-B34D-4278-B49B-BEB2591B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2EDE8-DAEF-4999-83E3-818E8212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32E03-CCD6-4643-A08B-4691BAC4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9DDF-923A-461A-9EA3-B479D628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C0643-B8AF-4920-A898-AEA86983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8BC57-F797-4877-A112-5053306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75A4A-97D6-4F01-A43E-5D559DCD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E90C5-B3ED-47AE-8D77-FE17EA4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AA0C1-3D4E-4A11-948E-D00C3287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5399B-F134-4920-9043-F02660F5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B606E-6329-43E1-BEA2-801F9883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F98BF-2BD7-453A-8811-91D6598D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DF519-F0F4-4700-9322-01CB5434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BD1CD-298E-4192-A6C7-F113214E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F8FF3-188C-486F-8CBB-D17C2595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19B46-C786-4754-979C-B8472AA3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F8908-3AF4-4A46-A7C2-A34F619C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01B95-90D2-4BA8-9B4B-CC6F18A9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DAA61-B185-4423-A80C-CB0B2987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9C59F-2D08-4701-86F5-71A6909C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B5243-107F-4190-BB74-CFF1BBA8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85405-DDAD-42C0-B48E-85D67538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D0A3E-A20D-4BFA-B6FA-E3F559A3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5AD67-F0A6-4EB3-846C-2337E4DE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BCA9F-A361-4332-B743-32130E33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196AB-D585-46AC-9799-1AA3FB68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AE222-C998-4B38-82DD-1A2C9EED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E0694-EE8C-495C-B900-6BFFE235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3C262-435E-4B1D-B5F0-E7D28806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3AD54-1AFC-45AC-AD0A-BE2AFDB2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0EAE-DBB2-40C5-A0AD-A8592B61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57A17-59D3-45AB-A67B-04311F6B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D88AF-4D82-47D3-B5FF-E0E2757C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EDCA3-222C-4895-BFBF-6B3C99F8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F7452-B945-4237-B130-3EBFB833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90488-D3C2-4DEF-9BB7-2A41BB54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126C-92AC-4F6F-9D20-A0B0FAE3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51DDA-C354-4193-93C8-3F3E421D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F749F-2A16-4BF0-B744-4645E1F8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0FBF5-2179-4782-8E6E-CDAD366F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75228-8C9F-4B39-8C05-0695E12E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A6839-F739-43F0-A09D-7FE6A8FB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AA252-A93B-42A3-8A7C-E557F273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8C61C-F428-42A2-B98E-E426AAE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393A5-C9D9-42CC-B0C0-2BDB5DB5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89D3F-E70A-4932-B77B-A8ECED83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04204-AE4D-4D1D-B7AC-9783E4E7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94D27-8E15-48B4-8A11-D5814EAB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23E8C-1FEF-4F1D-8CE7-1F659658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B6ABB-FAE1-401C-9C39-E3CCB0CB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3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4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30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560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561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30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448B6-E6B6-4841-BEBC-2748A851EC2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622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623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30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FE7E1-E9A4-4AF0-8EAF-7200C52F95D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684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685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6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30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64DF1-4639-4F05-9DBC-F6B2FF81E7A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62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63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30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0528E-A005-41F3-AB68-C04D940454D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126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127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30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43762-3E99-4179-B04C-234F672712C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188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189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30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328AE-9BC0-4CA4-9045-BD6071F3940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250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251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30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01910-AC9E-4619-ABFD-3825B379C9A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312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313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30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03262-4ECD-41EC-81FD-43CACAD6360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374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375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30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D1325-65C5-4C5F-8151-057BFCE869B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436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437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30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93FAC-EB41-4CCD-9D4A-59ED703E23F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498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499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0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30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C7445-3896-4B6A-A97B-DD7960402DE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3T06:27:31Z</dcterms:created>
  <dc:creator>柴田宏</dc:creator>
  <dc:description/>
  <dc:language>en-US</dc:language>
  <cp:lastModifiedBy>宏 柴田</cp:lastModifiedBy>
  <dcterms:modified xsi:type="dcterms:W3CDTF">2021-02-05T06:36:39Z</dcterms:modified>
  <cp:revision>3</cp:revision>
  <dc:subject/>
  <dc:title>PowerPoint プレゼンテーション</dc:title>
</cp:coreProperties>
</file>