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98F9-8870-4CCF-B7A5-624FBAB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9741-7840-43C6-8EB7-9EAF723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218D1-C7F6-4DCA-9B0E-EF773DD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75AB-9A8E-418D-A819-0CBA99E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98EB9-1686-4B51-8FA0-5008C3B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51E6-638B-470F-BFCE-5792471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D4A4E-58DA-4382-99B3-1934944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CBBB-9017-406B-85AA-DEEB9F22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9855-019C-44E0-8CF4-71C2AA11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C49BC-00AA-46AC-AE57-1190B9AD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62518-EA34-4E7F-AAB7-85D3F994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FAA0E-9C4A-42E0-8D6B-ABB4DB31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A26B8-1CA2-45C9-90AD-150DDFD2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31343-5633-4AAD-B3AD-BE3D3A41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F6EA2-AFD6-46C2-94F0-709644D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42B0B-3351-4139-969F-A0F9A82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A2A53-671D-499D-B9F9-95A13CA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35381-681D-4D8A-AAD3-C0EDAA1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3EAA-F524-4786-B085-CEA05E17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F55BC-570B-4723-8DF1-780CCF4D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E1740-F92C-4027-9404-B5D3C9E7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00F06-F9B4-4353-BC76-D1BFB08C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E39F4-8D4A-422D-AFC6-8EDD987A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B39A4-80BF-4D0C-8489-C46A90A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28DDC-0EC4-4C2B-B497-8612E44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157F-F9F2-4FD4-BB68-762692C1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9B088-A34F-4DB3-8A41-9E0792D0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7A2E3-3B6A-4B74-A93C-4D785B6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D4306-A7DC-4F4B-A697-CFE3576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8633B-BB94-4917-BD68-2573698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CC8-DE77-4E5D-BD26-0DB0D3A9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A9F76-D0C7-4151-AC8F-E131BB8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E77FB-1C84-4D8D-9F9E-604D7AB8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92F0-9787-4CC0-94C6-4F8DB59C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71F96-986D-474B-BEA4-6D3EE55E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D6C4-AAA1-40A9-9FF6-04FF134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E26E3-4770-40C4-A1ED-D916C87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531EC-9FFF-4EE8-AEBD-DC80E6F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A1B1-F4CC-4A98-96FF-0EC3826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260A0-447C-4053-AA9A-6C44868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D1524-8285-4F92-98F8-485709F8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E6C-AB3C-45A3-8AD4-DF959881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40AA-E739-44A4-9E13-49242B9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ED98-CBFF-4C97-B6EF-DA72F01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7F9C7-2129-4F65-B6E5-763D060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B6914-E563-46FD-960F-31E420C5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D0C93-4A31-426A-8BD7-206FC0A9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BD3-4728-4770-B822-3502425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F66-A90E-4DD9-A1DC-C1AA14A0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5E0-C257-4031-9E1F-5FDD540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6C6-B0A8-42F5-9F57-A4568DB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184-1EC7-4567-B073-DEC2F3A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00F-737E-45F2-ABCC-FA8D2B3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84C-051B-497B-BE84-5710DD0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102-A44D-403E-9671-BB640DA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F07-122D-4B09-BD1E-DFE16A7A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1A9-C5C4-401C-9EEA-8F43B6D3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3096-FE3E-4E1A-BF42-0FF867C1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52B4-1639-4D1C-9E1A-18049B9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B00-52C1-4365-BDA0-0D053A0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7754-9253-46ED-8A1E-F121460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ADA-944B-4C88-8189-B59AB2D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9E7-44B5-4869-A3D0-40A32B49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669B-BA43-46D9-85F3-53579DF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0B40-8281-4593-9831-0AF84803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AD4-3A7A-428B-95DC-3C63EEB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392-5102-4B7C-8B9F-F675354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99A5-174C-4E71-B5B1-BFDD9B5A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BC02-8B06-4896-8C17-6CB98C93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A739-1C82-4DB0-BE56-99A8D6D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784B-B668-4678-8218-195D5A06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04D6-24B9-423B-9584-301E0B5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8DB6-59BB-4097-BAE8-533BDA0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0DF5-D34C-4F81-BAD8-08DE8F32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3181-6A7A-42E2-83A9-C098373E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76E7-B1B0-4741-9F7D-CEB5B60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6F8C-D13F-457F-AB51-91127AE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033B-36C2-449A-B7CC-AAD4220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0B7A-6746-44AF-86CB-E3F0C043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C121-B195-4B78-8612-E0AF3E96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2F1E-1863-4D17-BC30-E404A421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F720-4A1E-4057-A56D-8592392C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73E3-8130-4928-ABC0-68589974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972D-263B-4FBD-B724-029AAB8A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9356-B0F1-49E3-B8E6-AE238EA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C0B8-1A68-4878-B763-498F146C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8E22-55CC-4E74-A26F-DC4A1A8E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9CFE-5590-4C01-A79B-749921E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D930-A91F-41F6-9B04-291CFA25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90CA-074F-4333-8B95-43F81B5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C389-F127-4D88-A589-364719B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2605-4A02-4699-A6C0-0326886D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3B4C-2E60-4237-AF48-B2E02ACC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BBCC-79C8-4B53-B9DE-9C86E340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0DE7-4E43-427D-82EA-6FF238D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EA0C-9DD7-4BBE-93FE-291083A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5BF2E-C7CB-4F1E-B111-D3628B0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89A6-6FA1-4E8E-BDAA-5142247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1974-73FC-46A7-8F0F-ABED15B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4335-BB98-41D9-A722-F5E3A98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B366-4399-4779-89EC-BDA00BA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A5887-44DA-422D-A118-7A2D1A7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0F0D-390D-4046-AA9B-0D124DC8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D987-7687-4AC7-A55A-EF7AF6E0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C12A6-03BF-44BB-863E-59625DC4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FE70-3BF3-46C5-BC02-577B4755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37714-D67D-4548-A68D-F6F494E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6177-62AD-4D6E-BE11-6701201C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5AC86-22E7-4CB6-B3BE-129B783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F4D6-BFC1-4A38-ACC8-5C61BCF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0443-4C78-42E9-AC67-FAB784B6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EEBE1-9F5C-4188-982A-E7965D1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305E-299A-46B7-87C1-890BDA7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71E2-EF59-4B97-8FEF-AD53594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83227-6910-4229-A3EB-E9F5AC6C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93DA-923B-4631-A19A-F6ECA09D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EB07-EFB8-4A00-B2DB-667EEB7C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205F-9413-4C44-8F5C-4785C9A9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501B-D5CF-4212-ABB9-174534C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0975-148A-4AFF-9C74-2276B0D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0726-FF14-4E3E-8F20-5EDEC661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F290-A7ED-435D-9CC5-FD3203E6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0827-916A-4901-8CA0-5BD9BDC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E3E9-CDAC-4525-89D5-13D702C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3F83-B3C5-48B6-BEB0-064FC55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3625-5267-4F9A-B454-29C69E1E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32A7-6467-41A3-A765-A6403634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E75D7-8F0E-4385-95FB-21435462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C908-3706-4F59-94BB-7691BE81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5C9BB-6944-4B3B-9C07-83DAF1F3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7022-B55A-4E16-A09D-005F56D6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3763-3CDA-47EE-AB5B-31CE9EC7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3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551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7FB36-07AD-4032-8D30-13D4A0F0433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612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12DDD-2AA1-4EE1-A504-DC731EE8EC5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673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62402-C19B-4381-9DD2-60C653E844D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61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52373-73B9-44BD-8E69-B4B10782039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124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11636-3F6B-41D6-A580-BAC2E3B7EA5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185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C2B08-17E7-4728-824A-8333932CE47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246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C37A1-50CA-4CD9-B19B-45CDBECCF51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307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B3D0F-687D-40FF-B580-392E2E2DA2E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368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BD3A9-0B17-45C4-A81D-594810939F1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429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30D53-1F16-4528-B71C-C0F752EB0F6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490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3906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96A03-7BFE-401B-89F8-4FFFAFED202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6:25Z</dcterms:modified>
  <cp:revision>7</cp:revision>
  <dc:subject/>
  <dc:title>PowerPoint プレゼンテーション</dc:title>
</cp:coreProperties>
</file>