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97DC2-A16B-44E1-8618-7409520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0371-4253-4004-97A9-458AFA46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68F2-0781-4B9A-BFB8-57CC0DE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D70F-A78C-4EEE-A7C5-4338737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DEFF-EC96-4685-BC37-AFDCFA4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F23B9-9896-4ED5-A81C-63015DA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4617-3852-440D-89A2-4A10E20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4CED-8590-48E7-A61F-679A33D0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00A8-1726-496B-B3BD-37609AF4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9BE3-69A6-4582-A849-7A7E03C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01DF4-0753-46B1-B067-D945904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9470-03D5-4BBB-8A36-27B1FE71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7AE96-9F8A-4DD2-964D-2A48633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A1ABF-35C7-49EA-8198-7F4672C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4258E-BDC8-4548-AD7C-6883B36F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C744B-E85F-44BE-9D61-CB869AD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A5C88-5345-4082-A8C5-2D8AD1E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AF3E4-3FB0-48AB-9369-CABA580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4664F-7F26-49A4-90FC-ECAD5D4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518AA-ACE0-493C-A412-EC300591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F94B-40BB-4C6D-839C-41541662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1AB89-CE67-420F-AAA0-2D704DA7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57D8-8584-4FF4-8FA2-827EED81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C0DA4-A547-4881-A979-C0DD86B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323A2-ED4B-4134-9DBD-5256E1FB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F555F-6B77-4F77-9100-B4C8D8C3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D2744-FCAA-4EF3-9EA7-EF291E3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098E-B227-400D-9634-E3D3408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FE69-D1C6-401C-9B7C-6BD4A42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B87D-9B37-40AA-8314-9F967F9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DF3-B258-4117-801F-F1DCE615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C877-FB8C-4094-8D21-852C1A4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EF3F-6A39-403D-9A87-10CC2BC5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8F58F-5A95-4605-AF32-76C711F4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73BDA-A3F3-4DAA-94E4-A0EB0388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F679-71E6-449B-ADEA-F3E7ADD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0CB9A-9F9C-447C-83C8-333549D4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3311-C876-485C-97E7-67BFD59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F063-B23F-4C9C-8F1B-D3B8F1E0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1BDB4-2CF4-44D2-9530-58B3DB4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F2AE-61E0-4D27-88B0-610579B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1F2-33FE-4686-9457-B715003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C31B6-745A-435E-AD83-776F754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173DF-E968-4DAA-9591-CF958FF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D0EFF-D1A2-4C95-AF36-EF1D781E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51E6F-C85F-4671-8859-2DB22C9C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77583-9D17-4DFB-89BC-B86C42CA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9EA-85DE-480B-99A7-9255E7F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C7E-12E6-43F9-8419-922BCD5C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B95-D924-4A20-B35F-6C227C65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066-03C2-42DB-81E9-7A9EF3A2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319-C3F0-42EC-876B-FAE810E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56B-19E9-4E03-BDEC-9FC2393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E1D-8210-4268-98B0-49357A2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C42-6F9F-4F8C-91EF-EC5EC66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93B-BD36-418F-81F3-BE51033A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54B-C727-4656-903B-041DEE93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5210-FADF-497F-897A-90355793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2159-CACE-4E6F-843B-417B714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B541-601F-4BE1-814B-BE684A9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683-33B9-4C10-9083-975F5E4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9005-041C-41FD-9521-93DFCE5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3BD-E135-41ED-BA34-404272E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0B4-D52D-4572-B7EA-5202A79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EFBD-0D78-42C2-86EC-EACCD3B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699-3F34-46A7-BAB0-E87D246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A341-9D5E-4A82-8200-0300532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1CF-AA77-4A9D-81EB-72CA9D18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E3E4-8645-4566-93EE-3814BFA3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2F7D-86D1-408A-9A10-818B98BD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C0DE-C048-4D39-B127-C48BFDE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2F28-3AAC-42B3-A527-BE71CAC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54CF-565C-4CD1-B4B8-6087E90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277B-CB19-4CB7-9C01-E405643B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583E-77F0-4796-A084-004FAFF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A6AD-F9AB-4A0B-A192-5C3851E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AC26-EA24-442A-8CAB-E6A28DC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6D94-D23E-48C5-91ED-886B166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8DB9-DE0E-44FF-8CC9-7D1E310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4B25-6019-4A26-B95A-2E415CC0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B321-D7A5-427E-866C-B0D501F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E20D-4AE1-4E6B-A235-0877E28D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C700-3695-486C-B88A-9E8C5351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D591-E8B1-45D2-BD9E-CA8BB71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D606-0D6F-46ED-8D85-99725B7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182C-8C3A-40EC-85B4-20396E0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6DFD-58BB-472A-BAC5-E570FB8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9116-F6A3-4542-8CEC-A334010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8A70-0C5A-4ECF-98B9-5CFFC91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165D-E62B-4979-BB4F-55CC1DA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F9DB-B53E-40F1-BC2B-0D5C222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1818-F6C7-4A38-8634-E21E9FDB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5F00-E005-4866-B477-DFEA4035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CC0C-7316-4206-8915-29EF1D65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DECA-2311-462E-BD1E-A7FA3C64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0B8F-400C-4709-A599-F906012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30E1-A790-405B-B20B-E4DDB29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9F5F-754A-45DF-96D5-4ECA665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A1B4-7B23-46C9-9A63-7B6B72A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C302-054B-4D38-B9C3-F8DFA45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81E2-49D3-4F10-8ED6-B364E66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DCCF-35CF-44DA-9762-F6AEB1B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4376-3B5F-4186-A0EC-50EE9F0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65BBE-85EC-46A7-A1CD-9A7C1442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3F09-3F10-4BEB-AD9F-A22BAFD6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A4B6-EA0E-40A1-9BAC-577FAA79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55FC-18FC-484E-9A0C-9450AB0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2A93-C115-4459-BD6B-B393E59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C008-2AF0-4519-A259-78266CA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ABE3-B4AD-4F13-A91C-9EB4C41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458F3-BAE5-4BEA-9068-4C38495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06BC-56AD-438A-8E9D-E408C5A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599E-E305-406F-8D0D-B9D79B38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18AD-18B9-4F5C-B046-D667919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DBCC-4783-48B9-AEC7-BE042C5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F3C91-4767-4609-94A8-B002C12A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0D3C-1F36-47D0-810D-8C3E6830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51D64-1572-4ECA-B997-B00ADC3D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2517-18B0-4AFB-B760-1F5C8D95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6D4D-460A-4E10-A3B4-86281BF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91DA-84B9-42B8-8B7D-2F0CE86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311F-317D-4F13-98A5-A15D1A0C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8D1E-4E48-4D9B-BC9B-69D5446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6AED-4E7F-4A32-8B6B-45ED4D4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0E94-D7DD-4DAD-8AE0-9C036CD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FBE6-F94D-44E8-A056-F252F2D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9A72-62BF-4EC0-8740-CCD061A4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7341-A323-407D-A7D6-CF3228F8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7A66-7EAA-4E12-900B-C9E72441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7ACD9-EF7D-4CCB-A12B-732FEB0B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AF0A6-46B7-478E-94B4-B85E76B5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5F03-32DA-4DAA-A900-B0F5C53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560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290E5-3C8C-4BFC-8640-D7B79C1B621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2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0BC28-C71D-4C8D-B92B-3E52AF577B0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84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35F59-5571-4FB8-B93F-316F0DCE993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6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00910-8A19-40A0-8F3E-44E27659525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126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4233F-10B3-464B-9A30-DA32E372557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188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FA525-E1C3-4279-8662-A9CE8EF3F5F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250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BBE20-1155-4BFC-945E-6ABE959C1F3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12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B062E-8E4C-4348-BFC1-1FAD97636F2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374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B9F87-20B2-4966-8B67-2ACA1FB3F5E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436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87778-CBDF-412A-963D-192244A2D7B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5718240" y="5665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1419120" y="93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8"/>
          <p:cNvGrpSpPr/>
          <p:nvPr/>
        </p:nvGrpSpPr>
        <p:grpSpPr>
          <a:xfrm>
            <a:off x="1703160" y="2603520"/>
            <a:ext cx="4152600" cy="5484960"/>
            <a:chOff x="1703160" y="2603520"/>
            <a:chExt cx="4152600" cy="5484960"/>
          </a:xfrm>
        </p:grpSpPr>
        <p:grpSp>
          <p:nvGrpSpPr>
            <p:cNvPr id="498" name="グループ化 9"/>
            <p:cNvGrpSpPr/>
            <p:nvPr/>
          </p:nvGrpSpPr>
          <p:grpSpPr>
            <a:xfrm>
              <a:off x="1703160" y="2603520"/>
              <a:ext cx="4152600" cy="5484960"/>
              <a:chOff x="1703160" y="2603520"/>
              <a:chExt cx="4152600" cy="548496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552528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54158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37724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2138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2030040" y="2603520"/>
                <a:ext cx="0" cy="5484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1703160" y="294012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1703160" y="30477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1703160" y="534816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1703160" y="765144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1703160" y="7756200"/>
                <a:ext cx="4152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1369440" y="3600720"/>
                <a:ext cx="4816080" cy="3494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1593000" y="3818160"/>
              <a:ext cx="4390920" cy="30596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1474200" y="3710160"/>
              <a:ext cx="4606920" cy="3275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838080" y="43117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792000" y="34480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3656160" y="817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3645000" y="225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5718240" y="372276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29" descr=""/>
          <p:cNvPicPr/>
          <p:nvPr/>
        </p:nvPicPr>
        <p:blipFill>
          <a:blip r:embed="rId3"/>
          <a:stretch/>
        </p:blipFill>
        <p:spPr>
          <a:xfrm>
            <a:off x="3087720" y="533520"/>
            <a:ext cx="1413000" cy="287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BCF27-8512-4473-B5AF-428366D00CA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6:27:31Z</dcterms:created>
  <dc:creator>柴田宏</dc:creator>
  <dc:description/>
  <dc:language>en-US</dc:language>
  <cp:lastModifiedBy>宏 柴田</cp:lastModifiedBy>
  <dcterms:modified xsi:type="dcterms:W3CDTF">2021-02-05T06:36:16Z</dcterms:modified>
  <cp:revision>2</cp:revision>
  <dc:subject/>
  <dc:title>PowerPoint プレゼンテーション</dc:title>
</cp:coreProperties>
</file>