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1339513" cy="7199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01760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7468560" y="168480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670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01760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7468560" y="3866040"/>
            <a:ext cx="328608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102056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492920" y="5891040"/>
            <a:ext cx="847800" cy="28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417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796720" y="386604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492920" y="7167240"/>
            <a:ext cx="847800" cy="1101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700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796720" y="1684800"/>
            <a:ext cx="49802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67000" y="3866040"/>
            <a:ext cx="10205640" cy="199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roup 134" descr=""/>
          <p:cNvPicPr/>
          <p:nvPr/>
        </p:nvPicPr>
        <p:blipFill>
          <a:blip r:embed="rId2"/>
          <a:stretch/>
        </p:blipFill>
        <p:spPr>
          <a:xfrm>
            <a:off x="1079640" y="195120"/>
            <a:ext cx="9186840" cy="5931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492920" y="7200720"/>
            <a:ext cx="847800" cy="4284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10800" bIns="10800" anchor="ctr">
            <a:noAutofit/>
          </a:bodyPr>
          <a:p>
            <a:pPr indent="0" algn="ctr"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158"/>
          <p:cNvSpPr/>
          <p:nvPr/>
        </p:nvSpPr>
        <p:spPr>
          <a:xfrm>
            <a:off x="2717640" y="6192720"/>
            <a:ext cx="590256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全てのオブジェクトをピンクの破線内におさめてください。封筒の周囲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0mm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とベロ（フタ）部分には印刷することが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製袋された封筒に印刷するため、貼り合わせ部分の段差（下図の灰色の破線）にかかるベタなどのデザインはかすれる可能性があ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データは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色で作成してください。色の掛け合わせはできません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6" descr=""/>
          <p:cNvPicPr/>
          <p:nvPr/>
        </p:nvPicPr>
        <p:blipFill>
          <a:blip r:embed="rId3"/>
          <a:stretch/>
        </p:blipFill>
        <p:spPr>
          <a:xfrm>
            <a:off x="1432080" y="1433520"/>
            <a:ext cx="8476920" cy="4334040"/>
          </a:xfrm>
          <a:prstGeom prst="rect">
            <a:avLst/>
          </a:prstGeom>
          <a:ln w="0">
            <a:noFill/>
          </a:ln>
        </p:spPr>
      </p:pic>
      <p:grpSp>
        <p:nvGrpSpPr>
          <p:cNvPr id="4" name="グループ化 1"/>
          <p:cNvGrpSpPr/>
          <p:nvPr/>
        </p:nvGrpSpPr>
        <p:grpSpPr>
          <a:xfrm>
            <a:off x="98280" y="1440000"/>
            <a:ext cx="9801360" cy="4319280"/>
            <a:chOff x="98280" y="1440000"/>
            <a:chExt cx="9801360" cy="4319280"/>
          </a:xfrm>
        </p:grpSpPr>
        <p:sp>
          <p:nvSpPr>
            <p:cNvPr id="5" name="Rectangle 107"/>
            <p:cNvSpPr/>
            <p:nvPr/>
          </p:nvSpPr>
          <p:spPr>
            <a:xfrm>
              <a:off x="1439640" y="1440000"/>
              <a:ext cx="8460000" cy="4319280"/>
            </a:xfrm>
            <a:prstGeom prst="rect">
              <a:avLst/>
            </a:prstGeom>
            <a:noFill/>
            <a:ln w="64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108"/>
            <p:cNvSpPr/>
            <p:nvPr/>
          </p:nvSpPr>
          <p:spPr>
            <a:xfrm>
              <a:off x="1782360" y="1800360"/>
              <a:ext cx="7739280" cy="35985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48"/>
            <p:cNvSpPr/>
            <p:nvPr/>
          </p:nvSpPr>
          <p:spPr>
            <a:xfrm>
              <a:off x="8802720" y="3427560"/>
              <a:ext cx="718920" cy="19713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ff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1058760"/>
                  <a:tab algn="l" pos="2117880"/>
                  <a:tab algn="l" pos="3176640"/>
                  <a:tab algn="l" pos="4235400"/>
                  <a:tab algn="l" pos="5294160"/>
                  <a:tab algn="l" pos="6353280"/>
                  <a:tab algn="l" pos="7412040"/>
                  <a:tab algn="l" pos="8470800"/>
                  <a:tab algn="l" pos="9529920"/>
                  <a:tab algn="l" pos="10588680"/>
                </a:tabLst>
              </a:pPr>
              <a:r>
                <a:rPr b="1" lang="ja-JP" sz="800" spc="-1" strike="noStrike">
                  <a:solidFill>
                    <a:srgbClr val="808080"/>
                  </a:solidFill>
                  <a:latin typeface="Arial"/>
                </a:rPr>
                <a:t>郵便番号枠付き封筒をお選びの場合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1058760"/>
                  <a:tab algn="l" pos="2117880"/>
                  <a:tab algn="l" pos="3176640"/>
                  <a:tab algn="l" pos="4235400"/>
                  <a:tab algn="l" pos="5294160"/>
                  <a:tab algn="l" pos="6353280"/>
                  <a:tab algn="l" pos="7412040"/>
                  <a:tab algn="l" pos="8470800"/>
                  <a:tab algn="l" pos="9529920"/>
                  <a:tab algn="l" pos="10588680"/>
                </a:tabLst>
              </a:pPr>
              <a:r>
                <a:rPr b="1" lang="ja-JP" sz="800" spc="-1" strike="noStrike">
                  <a:solidFill>
                    <a:srgbClr val="808080"/>
                  </a:solidFill>
                  <a:latin typeface="Arial"/>
                </a:rPr>
                <a:t>この部分は避けてお作り下さい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AutoShape 159"/>
            <p:cNvSpPr/>
            <p:nvPr/>
          </p:nvSpPr>
          <p:spPr>
            <a:xfrm>
              <a:off x="98280" y="3571920"/>
              <a:ext cx="1028520" cy="841320"/>
            </a:xfrm>
            <a:prstGeom prst="wedgeRoundRectCallout">
              <a:avLst>
                <a:gd name="adj1" fmla="val 112810"/>
                <a:gd name="adj2" fmla="val -62500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全てのオブジェクトをピンクの破線内におさめてください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AutoShape 160"/>
            <p:cNvSpPr/>
            <p:nvPr/>
          </p:nvSpPr>
          <p:spPr>
            <a:xfrm>
              <a:off x="98280" y="2085840"/>
              <a:ext cx="1028520" cy="571320"/>
            </a:xfrm>
            <a:prstGeom prst="wedgeRoundRectCallout">
              <a:avLst>
                <a:gd name="adj1" fmla="val 79476"/>
                <a:gd name="adj2" fmla="val -41388"/>
                <a:gd name="adj3" fmla="val 16667"/>
              </a:avLst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9000" bIns="90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</a:rPr>
                <a:t>青い破線が仕上がり位置となります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34920"/>
                  <a:tab algn="l" pos="1870200"/>
                  <a:tab algn="l" pos="2805120"/>
                  <a:tab algn="l" pos="3740040"/>
                  <a:tab algn="l" pos="4675320"/>
                  <a:tab algn="l" pos="5610240"/>
                  <a:tab algn="l" pos="6545160"/>
                  <a:tab algn="l" pos="7480440"/>
                  <a:tab algn="l" pos="8415360"/>
                  <a:tab algn="l" pos="9350280"/>
                  <a:tab algn="l" pos="1028556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" name="グラフィックス 4" descr=""/>
          <p:cNvPicPr/>
          <p:nvPr/>
        </p:nvPicPr>
        <p:blipFill>
          <a:blip r:embed="rId4"/>
          <a:stretch/>
        </p:blipFill>
        <p:spPr>
          <a:xfrm>
            <a:off x="3751200" y="411120"/>
            <a:ext cx="3838680" cy="504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柴田 宏</cp:lastModifiedBy>
  <dcterms:modified xsi:type="dcterms:W3CDTF">2024-11-19T02:04:51Z</dcterms:modified>
  <cp:revision>24</cp:revision>
  <dc:subject/>
  <dc:title>PowerPoint プレゼンテーション</dc:title>
</cp:coreProperties>
</file>