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3103225" cy="925195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22193-175C-4443-8908-C0511548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73F3E-665F-4AF3-AE43-5F550CEE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F698E-D524-4524-BC96-821270C4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138D1-4B06-49F6-AE34-2FFF3498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2DD9A-8C97-417F-80F2-9576D318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744AD-74D2-4413-91F7-2B225C02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45C0E-BDCC-4350-A937-62AFD7CC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0DDB8-7B97-4157-B079-E4CF698F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FFF26-42AE-4C05-A72E-C864CBE0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FAEC8-164F-4FD7-B95A-2116936A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F034B-61B1-4D02-81A5-08BB76FE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3E0D4-368A-4B11-B388-272C1EF8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E8547-4448-4D63-9584-263EFA15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95A15-7EBD-4CCA-AFEC-4185011C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7EE80-A848-4CF7-A425-DF310502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C1593-B292-4E8A-A46F-E96BE7D5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716DC-14AF-4A58-9D58-92F11900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AC648-4C97-4441-A312-A6B31012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3A684-9C58-4092-BC22-75C208B5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0824C-22C7-4AED-9CFB-8F7BCB3D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0984D-6D20-449A-BB6D-2B7F6720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2757A-0E44-4BF5-81AA-C7F79EA3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EF202-0EF8-483C-B40D-B78D4486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06B6F-27A6-4F65-AB44-2AA0E559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534BB-AD13-4178-BE12-F2A88D30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8DDCF-EF05-4A61-B3A6-E4680DFF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A2265-3EFD-40BB-97F1-40C6C984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8A406-C148-493A-8A48-B0D653CF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5B6FD-84EC-4256-B84F-E201BE36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46A65-330E-40B0-AA38-DC63F543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E443-9B41-4D81-AFD1-39B9C826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D75A2-FE1F-47D3-BF93-B7BE7580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C6061-23B8-41F8-B147-28907115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EECBB-BCFA-4AE2-844E-5B58F252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C2244-F7F1-495F-A3E1-D1669CD0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02213-305B-486C-9036-873D96D6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C9D9F-CDCF-4D6E-B869-28E20DFF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FA7AF-65C5-4B23-80C6-0AA13205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C4E0C-4921-46FE-A683-9563A72C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56A12-C902-4F5E-B1EB-1B89203B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B5BDB-4267-4D65-A189-A8DF59A2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5FE0-8400-484E-862A-8278629C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63189-86E0-4DA3-A81C-487A22F9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AA815-5A53-4564-8466-F047D218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DBB1E-0F65-4CA1-9E1B-47428D6E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B6FAD-E142-464F-AA24-BA6FF914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40938-D820-4C8E-97C2-75B0F056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F0E-539D-408E-A363-2F0353ED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0227-B4FE-4F8A-BF81-4C4EC3D7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90E-7606-46E0-852A-75260B43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D4B3-254F-4876-84B8-491B14C5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EF2-4A12-44B3-ABF0-B6865090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23BC-1AD9-4219-B5D1-2D40808E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7CF-E871-4AD7-934F-02FC8C61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3FB-1130-4080-9B1C-0B14407A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498F-3900-4066-9B57-A4E81132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88E-6A08-4276-99F8-879B45D6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E505-257D-47A7-B08B-6D496A3C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1EF0-5C07-4199-B8C6-A5593FAF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0D99-AF83-4D37-A49F-D6162DAB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D1EA-18FB-4789-B616-FB252B56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1936-3D82-4160-9C93-8C71AAEF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2078-8E75-446C-9D60-7D9E25A6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6A91-80ED-4810-894E-D851D7D8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A1C4-8A1C-4DE7-8C67-8689BA84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594E-7C92-4E39-9762-20C63BB5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8D53-D730-43EE-8B5D-AD2E40FF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685E-421C-4DA9-A13E-F2FF0C5B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13CE-D151-4567-A914-756A772B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32FD6-BCAE-499C-B3A1-B06B1652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7ABA1-F5B5-4C9D-B879-FD1723C0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0D559-D6AC-40D3-9258-F53174AF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F700B-105F-42B2-A3EF-D23EA421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2477F-133F-43E9-BBFF-E45A412C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516C2-9DEF-4A28-9F31-178D665A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301E1-A225-4451-B6C9-913E0E22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676EB-DF8C-430F-A32B-FAF20036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884E3-19E7-4722-BB72-81C21C1A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261CF-5F59-45F9-89E0-911EA94F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279E7-3CE2-411C-8E0D-79E754A0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FCF16-8A51-46DC-9ED4-1BC93404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98274-E527-41F1-8BAA-F7BEB70C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FEDD0-3CF3-4F68-9049-918C756C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CAE63-D502-4263-BA92-B71420BF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0DC2F-0C34-4F08-9EF0-1800B16A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F9618-F19C-4782-82A8-505F4B36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C0EFC-761C-4958-AC1A-02BD2AE0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96603-3D1C-42D9-AB2A-9BBA5B82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34B34-D37F-4EDD-BC6C-1330852B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C4947-FD62-433F-A6AE-ACF149B1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40710-C531-4743-B40E-9D9365B1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15F08-D298-4D50-945E-777C37A9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ED4ED-0165-4856-9312-BB712F55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D76D0-6F0D-429D-88F5-277ADEC8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46687-EB4D-4171-8839-7E66B129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F0BDD-4CCD-41CE-9FD4-33636587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C7DEF-5614-4AFC-8A3F-37847DC7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23019-AFA5-474E-9D4C-851562C9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A7207-33BA-4DDC-B15D-F495BF01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B4AC6-93FC-400B-BBB8-7E15990A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5F584-75BF-4FCB-AC93-032EF0F9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7D952-B545-44E8-92FF-716C6BAC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2F5B1-EA81-4D6C-8B33-90C44557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D7DE0-A8E8-4053-9F79-97EBB302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6F23D-6219-4AD1-917A-44B50E8B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17078-81D4-43F0-B938-0D25B45D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63E3A-296E-4FAE-AEB0-A1ACA50A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5F7D2-6ECA-45EF-A415-DD9F3C78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C9AE9-752C-4D87-B352-ACA2C0AB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60EB5-644B-4791-A4B4-6F9D9462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2F041-B5E4-443D-ADD5-ED34AEC8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8DDA5-F0B6-4968-9D50-C4DAEB7E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3A396-E28A-462B-9B13-52FD86BE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51A88-04A8-4BC0-A18D-EFD796A8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D4CD0-A4E6-4873-9F30-41AC2579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0DFFC-3CBE-4B40-9E42-EBC2DF98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027C6-9DBE-45B5-BE94-6BCFDEBD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AEE93-F3AB-4056-ACD3-6331B367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E0C0D-50F2-4D3A-8B38-D67671D9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CB1D3-35AA-4533-BE42-D6A5E0B8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76575-84C3-4A8C-9D7D-C546721D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7BCC3-02D8-4609-A2D0-7C490967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BE27C-B414-43A1-88D8-DC1D6515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99DAE-86D9-4008-A5A7-6C47591C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7ECDB-70BC-400B-A298-D2079516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63852-F7A9-49F1-B86A-DEE73EDA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9F162-E116-4713-94D5-F8514C0D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60068-FBBC-4D3C-987F-1D9CE8EC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69C68-C54C-4733-8C21-E234EF2D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D77E2-743F-46D7-9FA6-3558B7AC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D4965-8EFD-4D0D-9022-BA0C2FF7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8AA9C-C10F-486D-AC9B-B6C90855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1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452520"/>
            <a:ext cx="1417680" cy="28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549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0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45252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56A98-5C16-4B13-960A-D35D5619F2D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610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1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45252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1BD03-EB5D-4630-A46E-E664037DC57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671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2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45252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08430-C9A3-4CB1-B5FF-A58518B91294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59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0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45252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A8ABC5-9E3D-4731-AEDA-9B4B133BC42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923760" indent="-30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541520" indent="-308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2157480" indent="-308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774880" indent="-30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774880" indent="-30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774880" indent="-30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122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45252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FA9445-E70C-4B3D-A95D-ECACFBBD8DAC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183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4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45252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4315D-2C37-4B86-A8D8-4A6E554101C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244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5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45252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BD350-BEBB-4069-9041-CC823A6A806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305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6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45252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B0A10-E121-4D76-99F3-A582B23938E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366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77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45252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AADE1F-1213-4322-8785-7FB8A927B184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427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8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45252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DA254-5288-4970-9A04-7D915164450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グループ化 5"/>
          <p:cNvGrpSpPr/>
          <p:nvPr/>
        </p:nvGrpSpPr>
        <p:grpSpPr>
          <a:xfrm>
            <a:off x="2593800" y="1779480"/>
            <a:ext cx="7693200" cy="5673960"/>
            <a:chOff x="2593800" y="1779480"/>
            <a:chExt cx="7693200" cy="5673960"/>
          </a:xfrm>
        </p:grpSpPr>
        <p:sp>
          <p:nvSpPr>
            <p:cNvPr id="488" name="Line 22"/>
            <p:cNvSpPr/>
            <p:nvPr/>
          </p:nvSpPr>
          <p:spPr>
            <a:xfrm>
              <a:off x="2593800" y="21967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Line 23"/>
            <p:cNvSpPr/>
            <p:nvPr/>
          </p:nvSpPr>
          <p:spPr>
            <a:xfrm>
              <a:off x="2593800" y="23065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Line 24"/>
            <p:cNvSpPr/>
            <p:nvPr/>
          </p:nvSpPr>
          <p:spPr>
            <a:xfrm>
              <a:off x="2593800" y="461196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5"/>
            <p:cNvSpPr/>
            <p:nvPr/>
          </p:nvSpPr>
          <p:spPr>
            <a:xfrm>
              <a:off x="2593800" y="6918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6"/>
            <p:cNvSpPr/>
            <p:nvPr/>
          </p:nvSpPr>
          <p:spPr>
            <a:xfrm>
              <a:off x="2593800" y="7026120"/>
              <a:ext cx="7693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7"/>
            <p:cNvSpPr/>
            <p:nvPr/>
          </p:nvSpPr>
          <p:spPr>
            <a:xfrm>
              <a:off x="305100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8"/>
            <p:cNvSpPr/>
            <p:nvPr/>
          </p:nvSpPr>
          <p:spPr>
            <a:xfrm>
              <a:off x="315864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9"/>
            <p:cNvSpPr/>
            <p:nvPr/>
          </p:nvSpPr>
          <p:spPr>
            <a:xfrm>
              <a:off x="644796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30"/>
            <p:cNvSpPr/>
            <p:nvPr/>
          </p:nvSpPr>
          <p:spPr>
            <a:xfrm>
              <a:off x="971532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31"/>
            <p:cNvSpPr/>
            <p:nvPr/>
          </p:nvSpPr>
          <p:spPr>
            <a:xfrm>
              <a:off x="9820080" y="1779480"/>
              <a:ext cx="0" cy="567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Rectangle 32"/>
            <p:cNvSpPr/>
            <p:nvPr/>
          </p:nvSpPr>
          <p:spPr>
            <a:xfrm>
              <a:off x="3049200" y="2196720"/>
              <a:ext cx="6770520" cy="4829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9" name="Picture 95" descr=""/>
          <p:cNvPicPr/>
          <p:nvPr/>
        </p:nvPicPr>
        <p:blipFill>
          <a:blip r:embed="rId2"/>
          <a:stretch/>
        </p:blipFill>
        <p:spPr>
          <a:xfrm>
            <a:off x="10012320" y="49482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101"/>
          <p:cNvSpPr/>
          <p:nvPr/>
        </p:nvSpPr>
        <p:spPr>
          <a:xfrm>
            <a:off x="4105440" y="811836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57"/>
          <p:cNvSpPr/>
          <p:nvPr/>
        </p:nvSpPr>
        <p:spPr>
          <a:xfrm>
            <a:off x="3270240" y="2417760"/>
            <a:ext cx="633744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>
            <a:off x="3159000" y="2309760"/>
            <a:ext cx="6559560" cy="4608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1843200" y="352728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1800360" y="26640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6340320" y="7561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6324480" y="1422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10012320" y="298944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1" descr=""/>
          <p:cNvPicPr/>
          <p:nvPr/>
        </p:nvPicPr>
        <p:blipFill>
          <a:blip r:embed="rId3"/>
          <a:stretch/>
        </p:blipFill>
        <p:spPr>
          <a:xfrm>
            <a:off x="5735520" y="45252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90000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4340160" y="8575200"/>
            <a:ext cx="44229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9253440" y="8575200"/>
            <a:ext cx="29498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4C0C6-B376-41DF-8741-924AFE5F9D2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8T03:26:41Z</dcterms:created>
  <dc:creator>柴田宏</dc:creator>
  <dc:description/>
  <dc:language>en-US</dc:language>
  <cp:lastModifiedBy>宏 柴田</cp:lastModifiedBy>
  <dcterms:modified xsi:type="dcterms:W3CDTF">2021-02-05T06:37:22Z</dcterms:modified>
  <cp:revision>6</cp:revision>
  <dc:subject/>
  <dc:title>PowerPoint プレゼンテーション</dc:title>
</cp:coreProperties>
</file>