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001E9-2FDB-43C2-B56A-8E920BE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97C3B-042A-4CB1-A23D-D7EC1FC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F1691-0DA0-4A7F-9255-79C634E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37C21-FDFA-458E-B3B7-BA83067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F65E-02FE-4147-8EEF-5CBA46E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6675-DEFF-4345-977E-F49BE26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D3A6-8223-4EF3-A14A-F54BABF1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5ACBF-D24A-4038-A197-622B5C2A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97F2-96DE-4F32-81F1-0EA1AF8F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11F7-B4D5-4952-8D7B-F664A2E9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F0CA9-6069-4EC3-9BB9-2222640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ABD24-94D6-4EBD-9C96-8EBD399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687C0-BA76-43CF-BAFA-0E7F064F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0DAD7-9847-426E-A913-F670FEE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273C0-2536-40BF-9362-B4529BB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AD742-C2A8-4A4A-8AA6-9C1C9C8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7882-BE6E-4CB6-9E9F-584CF13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6E28-CC77-4777-B0F4-F643786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1FE11-FB96-4025-8DDD-DEDE727B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04E64-D23E-4C1F-B123-59C7EB17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E0357-30B3-4277-9A48-65CE71C5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1C338-2CE5-4A3C-97B3-A0281C8D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CE25B-0BDD-401B-A83C-45EB55E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482E6-1F1F-422C-A9D5-1F164D2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11E6B-41C0-479F-B81C-29EACDEA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A851D-CDA9-4441-905F-937AC44A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FBBEA-65F9-493B-9600-9B1B63A9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686BA-A0CB-4071-8408-D83DC7BB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B0914-E27F-4C4E-A88F-D94C751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13EE9-1CAB-4FA0-860E-71BC0F21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808-CCFE-4F8E-8881-56DE1E8B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DD889-E81A-4BEE-B591-94126D4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E5EA4-E557-4ADC-95B4-5C71D110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9A2D7-F22E-4133-B488-02345E94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7E44-EAD2-4B9C-AE72-FD7285ED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D342B-630E-42BE-A09F-C4CD537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2E09-0785-433C-90D7-32DAEF1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5522-0B55-44F8-BFB0-7F3BA48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B5A2E-0ECC-46A1-B339-B889B84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77D2-1CE8-43E2-9A2E-A827E7C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C8DC9-75A5-4AFE-807D-2E9DB83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DC9-D1FA-475A-82C6-24EA46C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29916-FAB2-47D9-94E5-BFF8425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84FFE-76E2-4552-A750-D3853BB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67A97-94CB-4458-8267-FFABC652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7EFC7-7EB5-42C0-93A8-18644961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78B12-0F51-4E0F-AAA9-438D9B4C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E78-52F2-40F3-AEFD-A403A3AE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4BC-6E0E-4D35-93B7-0B20789A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C9C-52DC-4A8B-AD12-4015D5D8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5CA-43E7-4DEF-AE55-F339726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AD0-2CB8-4ECB-9A77-F498962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6E7-B591-46F6-B79C-BE67CB7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FB5-A4B7-4FE5-AF52-230F03D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8D1-A3A6-4CF6-AF3F-4A332EBE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04E-0DA2-434B-939F-7BB711AC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978-2025-4247-8C10-85EF8670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DCF5-3510-421C-BD31-353891AF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C55-BCDE-401D-887F-F6EFD73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994-3EA1-415F-9286-69812285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E87-5E62-462C-B96F-50F724C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7D6-8066-4270-B45B-3521F52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2F82-5F71-4E77-8435-17ED7ABE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36DF-F51D-4B8A-850C-FE9B98F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27B3-52A3-4522-912D-B5FFC804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0B55-B634-4DD3-90FC-85553B9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DF17-89CE-4D33-AB17-4A0A36A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D49E-0569-4997-BC41-0729F245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73B3-238F-4686-813C-25BCBDBB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5088-4FBB-42A3-B9B3-1CA31382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6956-E7BD-4932-8E05-4CBD16A7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FC78-C255-4B7D-9B44-B0D2A6E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2A8B-8080-432E-B815-B2136621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7B38C-EC75-4FAA-ACFE-DAB4EB3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F89D-3894-4891-B02D-27CAE4E6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3B9C-6855-4D9C-8B4A-4149257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E4BD-B1EB-45C7-B331-2043717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95B2-541D-48A7-B93A-DFEB617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792E-8EE1-458F-88A7-77F1CC2C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DE4C-17FC-4C77-9B85-9799CC9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A648-FFF4-4F47-AADD-10758623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65B6-EF3D-4B02-B6B1-A6AD9A4E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F486-D380-4E31-8CF6-60C7915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CCD8-B53C-414A-8A38-C72C68C0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5A6D-69D0-4BBC-A219-4B0DE9D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2697-D965-44A1-B314-EEC892E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A4FC-018D-45D2-AA23-9D165A99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CF7B-9B0F-4024-B037-54989DF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2D70-5C13-4DE8-ABBC-F67D3DA0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4067-B79B-4663-B6C5-0BA56D4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91B1-2BD7-4570-B713-6EF68AB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691A-8F8E-43BE-BC59-8CBC3F61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1B46-DB11-4BED-81BF-11F91F5D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17D7-DE57-4F0A-8721-393BF824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1F69-602F-417C-ADA4-467A473B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304D-8E1D-48A3-8B2D-4A4CE2A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DEB0-81B1-4ADE-B728-0A0D5C6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8203-26F6-4333-AC9D-9E1F676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92B3-3450-4394-9BB5-DF995C9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D934-2F9C-46E9-B99A-973621D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7A27-9E95-40D8-AE10-D171ABC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866F-695E-4E3C-A7C3-5B8E0CC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3E39-28A8-4A5E-84C9-FF21A53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F5AA-51BA-4655-A7E6-AEF1A57F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B3DC-A2F1-4FB4-B7FC-8E87D539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6E1B-80D9-402C-9CD6-E6AB4B91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1C00-7804-44AE-B3BF-0A90990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90B7-1C63-4A73-BD12-C5E2359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602E-156B-4D45-90F3-2ADA662E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ACBC-30FA-4154-9E7E-C792F70C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DAEC8-5314-4F15-8FE2-57ABE7EF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272E-ADEC-400A-96FC-F42F3D0C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11718-CA22-475C-A680-EF415D2F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E6EB2-BB89-455E-9542-83ABA91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3643D-6969-4006-A1DC-DBF4B2E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D96C5-084E-47BA-BFBB-77C22681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A14F3-7874-4E48-BE81-29711BF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FD7C-6199-4409-9446-A40F3394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EDF1-B35D-41D9-AF6D-35B96C3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33A72-6E91-4877-AE35-E0FE7C1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E584-3625-4CC3-9DF7-83FC9CBD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D93D-0881-4F9E-989B-90F2F79D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DBBE-B3C4-44DD-BE2E-4B8A1E6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015D-29CF-41A7-9DF4-FE321DC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EEC2C-8E52-4544-BBE7-A2B3311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DE38A-7796-45A2-B308-7B119A0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85C9-77DB-4CA7-9ED0-A0E25B4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1502-938D-40AC-8C14-CE80ECA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90BB8-DF46-4C0A-9AA8-A44B1AE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58BB5-3ACE-4BF3-A366-50FB192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C227-C159-4AC7-8AC3-AE37255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F0BC-A699-4791-8370-DBBD0A5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560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DE3DE-5E93-45B5-A653-7A4574C9E68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2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F252D-77CB-4C86-BFFC-DE71B42686E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84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2CF1C-ABE0-4F65-B1A3-CCCA02DA41F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6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114FE-26B4-4080-84E5-EB59B2B1403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126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DB9FE-1AFE-4172-B76A-DA01CE0F0C9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188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D734C-6B57-4851-9A54-2CB554F117C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250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BF8B5-4B0B-4527-83AE-7A4ECDF1694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12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8F835-E370-41B3-A253-C895E05F0CD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374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40F8B-CF26-4AA1-A38B-2EACADA425F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436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67ABF-827A-4EBF-9C7E-84E79DACD9D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6259680" y="59785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1446120" y="9685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8"/>
          <p:cNvGrpSpPr/>
          <p:nvPr/>
        </p:nvGrpSpPr>
        <p:grpSpPr>
          <a:xfrm>
            <a:off x="952560" y="1501920"/>
            <a:ext cx="5673600" cy="7693200"/>
            <a:chOff x="952560" y="1501920"/>
            <a:chExt cx="5673600" cy="7693200"/>
          </a:xfrm>
        </p:grpSpPr>
        <p:grpSp>
          <p:nvGrpSpPr>
            <p:cNvPr id="498" name="グループ化 6"/>
            <p:cNvGrpSpPr/>
            <p:nvPr/>
          </p:nvGrpSpPr>
          <p:grpSpPr>
            <a:xfrm>
              <a:off x="952560" y="1501920"/>
              <a:ext cx="5673600" cy="7693200"/>
              <a:chOff x="952560" y="1501920"/>
              <a:chExt cx="5673600" cy="769320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6208920" y="150192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609912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379404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1487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1379880" y="1502280"/>
                <a:ext cx="0" cy="7692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952560" y="1958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952560" y="206676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952560" y="5356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952560" y="862308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952560" y="8727840"/>
                <a:ext cx="56736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409320" y="2927880"/>
                <a:ext cx="6770160" cy="48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623160" y="3150720"/>
              <a:ext cx="6336000" cy="43912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511560" y="3042360"/>
              <a:ext cx="6559200" cy="4607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160200" y="373212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149400" y="2889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3681360" y="930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3665520" y="1149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6399360" y="27162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1" descr=""/>
          <p:cNvPicPr/>
          <p:nvPr/>
        </p:nvPicPr>
        <p:blipFill>
          <a:blip r:embed="rId3"/>
          <a:stretch/>
        </p:blipFill>
        <p:spPr>
          <a:xfrm>
            <a:off x="3076560" y="56340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51876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2503080" y="9909000"/>
            <a:ext cx="255276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5338440" y="9909000"/>
            <a:ext cx="170172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80316-FC53-4AF7-8DDD-BF4BE729653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3T07:02:32Z</dcterms:created>
  <dc:creator>柴田宏</dc:creator>
  <dc:description/>
  <dc:language>en-US</dc:language>
  <cp:lastModifiedBy>宏 柴田</cp:lastModifiedBy>
  <dcterms:modified xsi:type="dcterms:W3CDTF">2021-02-05T06:37:06Z</dcterms:modified>
  <cp:revision>3</cp:revision>
  <dc:subject/>
  <dc:title>PowerPoint プレゼンテーション</dc:title>
</cp:coreProperties>
</file>