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4661-93F0-4833-A4C2-CD4B510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88A21-BBE1-4708-8012-EF5C7A4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8057-8644-4CF5-8638-8D569AD9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AC28F-2A54-4431-9BBB-2CBB3DD8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FFFBB-062A-4EEE-AE17-97B92AE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1D740-E002-42A1-BD41-FA43F83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A345-7175-4CD9-9908-EA4D09B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19367-A08C-4A88-81E8-228BB860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C30D-10EF-4AF3-9922-A46B9141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99446-BCA5-4882-AB0B-5C3550C3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AC09E-6320-4A8E-8147-25A675D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5D51-BC18-4780-B137-444DDD3C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7993C-2F2C-47B8-B04E-35783BE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56A21-0F03-4B62-A75B-52CF4BD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9C1FD-3559-458F-9AC1-BE1DF91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4BC11-48AC-4B35-A1A2-16516FAF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704A3-86C0-4E3B-BBC6-8F99EDB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A0672-1997-4AE3-B2E0-4BEF4D7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DF4A-BE2D-4D45-BE2F-672A044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DD7C8-5E46-42AE-B24E-FFF9AB44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29220-A82A-4068-8B78-DDA67AC8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68C98-3073-48BF-8FA2-AEE75667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971A3-5847-4558-9457-FE9E4E86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7F10-8446-4193-939C-8E7508F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387E-B724-499A-A1EB-F2019A11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CA27C-BC09-4ABD-8A02-39304372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F7EAB-59F9-48BE-B2E6-9A94A692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71398-CC2C-44DB-9D3E-54B6614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17005-B76E-4297-A386-0AD32FF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FAFE0-9F93-4E49-887A-07013CE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679-A09F-4AE5-80DA-C0136DD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B37C5-2D21-471B-91BB-EBA6B48D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60B17-B97B-4BB8-B1D4-C746EA90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B6A30-A9C4-4AB2-B534-B1A11C8A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98E80-07BC-4E4F-8428-2D4F60F1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2349C-124C-4C12-AF93-FD2BA75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ED705-C0A5-4449-94A9-8C58ED9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F473B-3FDA-4B30-97ED-D2931961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C822B-CF4A-4E79-976D-C11D47CC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58936-A43A-4F8F-AD7B-363E29D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40286-2033-43B9-9621-3A5374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A46-FC75-4EF7-9231-82ED83B7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3F97-B0D4-42FE-8529-700E8B33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EE46D-4AFA-47E8-BC1A-9B79BD2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CE765-80AA-463B-99EC-89B8A1B8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4886-3F2E-4410-BCB8-0CB5D6EC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12E4F-D6C8-4891-8D8B-F899EF00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9A9-C2DD-4BB2-8793-2B58CC5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E2A-607A-4990-BA79-FD78D70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92E-B2AA-4073-AE6C-6BFC2012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0A0-CEC2-4D3D-970C-8CE1827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D42-B761-4D0A-B8AD-122487F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BB1-EBF3-43B3-BE18-48CA26F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F0D-30D3-457D-955C-3D4C3D6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014-A1A9-4CB8-9B17-74528DA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105-71E6-4C03-8DDC-9B913DCE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88D-A4B8-4381-BE24-690245DC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FA0-7879-406A-B400-10CBE510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21C5-11F6-4505-9A19-771393E7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584-D682-4175-B77A-482853AE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9A5-A253-4D2B-8D95-65ED392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6F5B-B2A0-4920-B3F6-2BA4E2AC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305-4AF1-46A1-9220-4360935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14FB-6D05-4CE7-9D4C-387208C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A238-74B6-4ED0-95F8-1746170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398C-4885-4E52-B07E-50218687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C5F-2845-47EA-B086-8E14F48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956-DCA8-478E-A211-6153B51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2C9-E455-4DF7-B535-6DCE9255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C318-9557-4B6F-BEDF-D85ACE1A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BA7E-A4B7-4121-B82B-9358431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8A7F-2BAE-4463-9FF3-8BAD39E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793A-5812-4F31-9225-8895D4C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A03E-9344-403C-91E1-1264AC3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C6E6-2B15-4632-ACEE-1AAA67DC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9885-53B4-492C-BF08-EAD1191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D63C-4B6F-42E3-A7A1-D515386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9370-34C1-45E6-B86A-7D54434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0D8E-7698-43D4-B604-ADC6770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575D-0618-4F3D-8C3C-5EF0009C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3A9C-337B-4226-8C37-010C5392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6CE3-9243-438D-974B-1D98B1C1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16DE-9ABA-4236-A475-EBBF3F7D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5566-743D-4AC6-9612-24C326F3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1A10-8197-4FC7-97CF-A410D602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82AC-90CE-4555-A26A-BD5C5A99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CA35-0236-4A99-8B1D-158F966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F7C9-4BF8-4F7D-A92D-99CDD03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6CB1-27F5-4741-9A90-071967D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B543-8EB6-409B-84EB-A0D6C6C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4920-B27C-47AA-B4A2-96749295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7C855-A5EE-4CF0-B5F0-9C7B9437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BFC7C-3295-4351-9B16-A388ACF0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75D4-27F3-4302-A7F0-816D9822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0BB5-7649-4AB9-879F-B5BE93FB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E9E6-7B40-486D-8B36-EFA0197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E6A0-D6D5-47CB-B45A-9DA832C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4671-76C7-4702-BBB1-50E9268B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A3F3-B86C-4DA8-8032-28E6050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B7AD8-830B-42B0-88B4-5D46B2A1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EC19-F778-4EC1-9645-197E799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A34B-69A2-47F1-8CE5-E0092B6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009D4-6E28-4DD1-9083-58FC5B3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856F-19DD-4422-BFAA-5854CB6D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6092-B78C-4C3E-87CB-B7100857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6E01-B10D-4D37-8400-BA3C8E3F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F957C-F5DC-4BD9-AFEB-ED7E27D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5AB1-9A89-4291-B20A-CD2430F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33AE-E826-42F0-9AE4-0A01BFE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560C-AB5D-4E9E-A7FF-084619E1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FD55-F03A-417D-B7A9-D787B17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761F-3D04-43D3-9330-15EE0B0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25FDB-4B1E-44AE-BBE4-1F95085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BE63-750E-4E57-9636-E457F6A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845B-5FFD-497F-A566-20C47A0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164D6-BDD8-4B4D-9CFB-AFC4B995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3078-CD63-4DC2-BF45-AC8DE28B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CA9A-306F-49FD-938C-52F8EE00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9B47-E572-4497-A113-0930C9A6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82D2E-CCA9-4B5D-AA2C-26CB8D4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EBCB9-E89A-4416-8400-CB9B6D7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22CDE-7076-41AE-B559-D84C25F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5E0A-2454-443E-87BD-92189E6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019B-D410-4C66-825F-5B736F50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93006-4757-4494-BB1D-2BDB278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8E68-D7E8-4D45-ACF2-D0EF557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3C3B9-855F-46E3-AED1-ADFA7B3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CEF4-FDFA-43B2-80DE-8525D8A1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83E0-7A38-4C04-808A-E23A39C4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ACDC-DEF0-455F-B45E-8DB044E4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2E70-FC1C-4B73-BB93-F8565244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7522-9396-4DFB-97B1-5C1D547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560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3B9FB-063C-45C6-ABA7-E1CEDAE39C7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2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76459-EFCA-48A5-A554-D2EB7B13E78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84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F5032-4330-43DC-888C-B4544F9E85A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9975A-13A4-4165-A685-40890A76388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126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7254D-5C4F-4840-82B5-CC65A826D1D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188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54977-DA3F-44DB-9EE3-C27DED095A6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250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CEB2A-1221-4D1B-B36D-4DF2852A927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1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32841-BCC5-43A5-9A98-89630E9E35B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74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A6B4A-3F10-4720-B51D-8A94971C9E5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436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D3A91-8A1E-424C-9957-22F14671528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498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29" descr=""/>
          <p:cNvPicPr/>
          <p:nvPr/>
        </p:nvPicPr>
        <p:blipFill>
          <a:blip r:embed="rId3"/>
          <a:stretch/>
        </p:blipFill>
        <p:spPr>
          <a:xfrm>
            <a:off x="3076560" y="42084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8068E-B105-476D-9DDC-5ADA8CBF34C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7:02:32Z</dcterms:created>
  <dc:creator>柴田宏</dc:creator>
  <dc:description/>
  <dc:language>en-US</dc:language>
  <cp:lastModifiedBy>宏 柴田</cp:lastModifiedBy>
  <dcterms:modified xsi:type="dcterms:W3CDTF">2021-02-05T06:37:31Z</dcterms:modified>
  <cp:revision>3</cp:revision>
  <dc:subject/>
  <dc:title>PowerPoint プレゼンテーション</dc:title>
</cp:coreProperties>
</file>