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3103225" cy="9251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C265C-B01F-499F-A9EE-B3899D56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0145F-A6E6-448A-AEF4-D02FE44D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CE83C-6D2C-4AB2-9F97-237FC9D2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7FBE5-AEFB-4906-95D2-DC6590B6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A2E16-9E8B-499B-9887-EB95FB49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B38A4-1317-4A4B-BD24-30287814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2CA0E-5809-4CF1-A817-577992F1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91012-E64C-4241-A58B-F1442F5E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1AA01-F8D9-4F3F-9A48-A141DA2C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6E362-4D8A-4AB6-8E96-A3EE6809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1B188-13EC-44D1-920A-0577FE97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E4E55-7A55-48B5-AB50-81F6454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5C6FE-46AF-4420-A56A-D2FF5AA9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A4B64-DC66-483A-B839-2584053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E04F-963C-4039-A985-F1189A7A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9F803-40BD-461E-BC14-78BD2C74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CCE51-21AE-4059-A5D1-2B79E87B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C8A53-5B8E-45B7-81D0-CF7DF5A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5D35A-263A-4017-B684-C1F9B2C7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FF8DB-2370-4BCE-AD52-13D51D67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BA022-9D00-4080-B8A5-6561A497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CA271-AAAA-49BC-9950-5B9BEBFA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7F52B-DE67-4C4B-99B9-D9CB2D46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10D70-DF97-43C3-AE2F-22A46D08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F68E2-D46D-40EF-A9E0-55DF76AB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6A8BD-C8EF-4E11-A92E-BC10760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2C023-F264-43C9-9ACB-E05777A0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0FBCC-1A37-4291-BACA-E066137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7C2F3-C297-493C-B9FA-9EEA3102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0D496-D805-4525-845B-CEA43F8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B46-82DB-47EE-9E1D-EBF86E8E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21D88-7883-4FF6-BC11-0FE551FE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DCA0A-B90F-4A39-B3A7-B23A897F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2315E-FF0F-454E-9925-0D9AEB9A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420BD-1CE6-48A1-8FA6-0A15E1BC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316C8-AF16-46F6-8770-D55824A3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2C5E1-F96C-4030-8C07-5F1828DF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F2EF3-E2CC-42A1-B2DB-C31EB0BF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A238D-C8CD-4068-8C4F-243C09FB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7ED10-B830-4CC0-9163-9B97E734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F0A84-F9C7-4374-8757-52FEC10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D66-4ECF-4C6C-A792-661E271F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BE69C-9FCD-4D9D-B69A-3D8687C1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0D917-C125-4687-A99C-8E48C25C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62A4C-C891-4E9B-879D-71314CD5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82A6A-11C6-4128-AD95-B5DF6A47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8C8D1-1F15-43B1-A7EE-320D7E9B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C1F-C0CE-4F06-8BBF-2D8772A8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56E-991A-4C8E-984B-9D927C6D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6A2-3F50-4E61-8AEC-C4F09C7F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0DD-522C-4491-85AD-B2F5B502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DE6-609C-4EA5-A571-3974C16D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2DA-65EB-4227-8518-0AF2236C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489-4653-455C-8520-536B142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C58-4D4C-442D-A5B6-77700A34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F68-CF11-421F-BF41-191668DD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51F-AE88-4A40-9BED-4BA6F0B8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B36F-DFE9-4145-82C9-A2EF0BB6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C07A-9EFC-4E58-BF1D-5436716B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DD57-C1C9-4744-B489-3A0FC929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9AFD-2CE8-4084-88F2-636A4DDA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76AF-B27F-4984-A03F-D73E9824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69BE-7E67-49E5-9636-84238C29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3831-42FB-44AE-9E17-791468D3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EA11-81C5-4358-A34A-566F513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EB10-BCB7-4C71-8FA0-629397B7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0AEA-AC04-492B-AD8C-87DCC196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AC2B-B762-4843-BD45-0F4C35F3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888A-24BD-42C6-A938-26493F06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C6F3-ACA9-4AAB-8ABC-1A79B992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EFDD-7B68-4158-B307-6FE0FC62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E1A1-A049-422B-BF99-0F08569C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B556-860A-43B3-AF6F-6ADFFAA7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BE39-596E-495A-94BD-BB44BE3D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ABF5-9B8E-4ECC-983A-B795D467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7C5E-882A-4E27-8003-250E39A1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7D5B-3C06-425F-AD62-586351E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7D56-4CA5-4978-A9D6-1540D46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F7B4-E692-45D2-8A07-D4552D60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572A-B91E-4E59-B7C8-93863F5C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BCBD-D9E1-4E14-B4B4-1E76A58C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6F9E-D97A-4C50-A848-F73411D6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29A2-BE9A-40A0-B657-885B3C6F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EB665-F2C1-4BF6-BE12-8E1AE7BE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2A660-F5DA-43FE-B8F0-59F5D8D5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1315-1000-441A-919C-4E21494D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57774-281E-484F-B899-C6E542F2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FF77-0548-43CB-BE2E-B0513A89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241CB-D5F2-41CA-8E5C-1D7784D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3DA6-C34E-4F76-97A3-5CA580B7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35A4-67F5-4CB1-A675-BB80BBFF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69A2A-3488-4FB8-A163-35BD22CD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FE78-D6C0-451A-9566-4AF5B31E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70171-DE57-415C-9F1B-BE727365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295DB-B959-43B5-92ED-4E8B16D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F7FA1-7222-4D2D-84CA-FA7F4B63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2487D-6E4F-4904-A8B2-D8066A78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049A9-471A-401D-92A8-C287FE80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8F83-6705-4B02-9930-0C548AF4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2687-6C26-40E0-BEDB-943BE2E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41CB0-AA95-4530-A10C-14ABFF2D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397C-0FCE-4F41-AB32-EDA5C1BC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4C487-34F3-4C51-AAC6-B3E669C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55D7B-341B-4648-904E-296D965D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D138C-7096-45EB-B4F7-EB17EF99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CE1C-919A-4E9F-A7E2-377320D2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66A2-F667-46ED-A4A5-5782AD8F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3FF5-BA54-48D8-9D65-30369415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69B4-E38E-4A93-B334-F439178A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C906D-29FA-4D67-A957-C6182427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A6A77-B2EA-45A3-A68F-14DA24C5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8B93-49E7-4759-A74A-B5109ED4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635C-3705-4E2A-9F87-A0377F28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D3E37-2DDB-4E49-BCA0-FBAE12C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B7566-AC9F-4CD7-A3D2-A8F4AD02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5017E-8178-42B9-904D-B3AA6415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74EC8-CC33-41DC-80F3-56559C4D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A30DC-2C11-4B68-928D-8C7B4E9A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3B3A-E0FC-46C5-8DC3-8599DB0D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D7F24-B473-47DB-A4BA-AB20180E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9D45D-E15D-427A-861B-0258F83E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A3CC1-2BA8-4F95-AC27-055B504D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6330F-D15E-484C-91E7-DD1EC3A5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DE9F7-FBF3-4AD7-9E5F-75CB3B99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75FD0-55E6-4D3A-8D59-1FC8F08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DD364-91BD-4FEF-9D55-32958DC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AD2DE-1EF2-43C5-B0EB-8A2EE6BF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D13C2-0365-4F29-A21F-3CF2FD70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5BCD-1906-4C9F-8461-BF64D33C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6C7E8-E1D2-4C59-BF09-63E21242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C422E-3707-4B17-BB8F-91013014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B72F2-F489-412B-B332-B24B8826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1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549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8990E-8E20-4397-8682-D623729623F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610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F4334-6CD0-429A-9BDC-FDD96A0FC69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671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8CFD9-DBAE-4258-A04D-21CF8BF8866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59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65BE4-B905-4023-9D34-472B5A18B81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4152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15748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77488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122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CB98C-0358-4840-91A7-353D77D7E32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183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4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E4B3A-53FA-4D7D-A207-50FAAED0BAA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244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F3A7C-EA51-4193-90F7-E8ED3E36C01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305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6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22F3F-2962-437A-935B-3F627398DFF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366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7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9402D-8C81-4FB4-ADC1-593ABA61D73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427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CADE3-23D5-42FE-A1A4-92CB2A17AA6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488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" descr=""/>
          <p:cNvPicPr/>
          <p:nvPr/>
        </p:nvPicPr>
        <p:blipFill>
          <a:blip r:embed="rId3"/>
          <a:stretch/>
        </p:blipFill>
        <p:spPr>
          <a:xfrm>
            <a:off x="5735520" y="485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628FF-F2F8-44E2-89B1-0EBC3786E61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3:26:41Z</dcterms:created>
  <dc:creator>柴田宏</dc:creator>
  <dc:description/>
  <dc:language>en-US</dc:language>
  <cp:lastModifiedBy>宏 柴田</cp:lastModifiedBy>
  <dcterms:modified xsi:type="dcterms:W3CDTF">2021-02-05T06:37:14Z</dcterms:modified>
  <cp:revision>7</cp:revision>
  <dc:subject/>
  <dc:title>PowerPoint プレゼンテーション</dc:title>
</cp:coreProperties>
</file>