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3103225" cy="9251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D020A-39D6-41A6-9C39-C65BE272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E5F95-0327-4499-B9B4-A5B7ABCE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B8675-5B61-4433-8509-A6615FE9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9E4FA-4E0F-4E4C-BA13-2FAEDFA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BFF9-204F-4668-B8C9-DE508912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99F7F-17EF-4CE7-A727-8421682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8EFD0-1A3E-4570-B42C-B4B6DD5A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EE43-EE45-4863-A668-5B4DA86D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472A3-9B65-4940-9D99-2CF59D4E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890E0-54ED-4C5F-A64A-5D36AF46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3196F-3614-4A0E-A849-F7816707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80269-B8DD-45D0-BC8B-934F2ACD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69CBF-4300-483A-8C8A-1328626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073D0-1E87-45E5-90D1-E064F646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699AA-ED43-48F1-9EE1-B4752A48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DB157-6440-4DBC-A9E3-34F47BF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8CE52-92C4-4922-95FC-56FC088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06A43-53A8-4F39-9598-ADA02C6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EC728-2624-401A-B19C-178A236F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491CC-8910-4C8F-ACD6-FAC70F99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8ACBA-A791-4894-A897-7AB7BE87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0747-439C-4312-A0B1-0741AE6C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A9259-F641-4195-A9D2-ADFCCF66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E81D7-9A0F-4874-BF7F-97C5CDFB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1D178-07CF-4899-AB29-3D6D38F5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BF964-6EC6-4C4D-B7D1-B4F09907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38235-AFE8-4411-B8D6-58F57E1C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FF521-B936-436C-BAD1-7A6123EC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58B6A-C721-4838-866E-B7F2EE44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3811B-D40F-460B-8866-688B8BA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3C3-2A46-492B-839F-44A2B397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629CB-6AAB-42BB-B6F7-C7799442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65C2E-DF1D-4876-A91A-A08AD376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27F0E-FE68-4A44-B235-8B5188B6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45028-006A-40B7-B40E-1B240C1A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03200-FD09-4891-80E2-9F9CC3D2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6255A-A6EA-4EC3-A90D-9A9D20A4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9685A-DF66-4DFD-913C-D02BAE7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249F-1E56-46AC-8C36-5E1F0004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B905E-E0E6-4037-8F86-6DBA3928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0C3DD-D507-47BE-91BD-EEEAADD4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B90-694F-427C-848B-95120049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417CF-0BE2-4961-BF66-14819207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37919-CCF6-4E06-B752-ACCC1ECE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6D6FF-3A76-4ADC-A9FB-4C8612CB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C1CCA-C62F-4197-9935-CA1B28DD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6712D-85B2-4903-B661-3D41427E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B2D-4E59-4E60-858F-43814119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B2B-DA56-4552-A62D-8D2ED14E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BE3-B258-4841-A262-CBB707C1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16E-A67F-40B0-B10F-5EABDFC5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BA3-7660-4216-8AD6-D992E3E5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357-0C66-4C14-AF1E-10F3F76F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DE8-FED0-43EE-A64E-A730066B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2DE-245F-415E-809B-FB06704B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17D-07A9-4AB6-85D2-D3E78D45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D24-BD25-4802-9ECC-FDAF0100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EAB9-ABFE-490C-A3D7-8B39C072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3323-4D3A-4CE7-BEBC-EC956435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F123-6891-4D65-A659-5913462E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3ECD-2813-4445-8175-F2F04898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5261-18E3-4EBC-AF08-C3D7B541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5442-2740-4CAD-B96B-20A4C1DD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9E6C-6C3E-4FDA-A15E-444D3397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B92F-9E63-4E52-BF00-A50FD91A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FD0D-926F-4EA4-9CAA-547718A5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49E2-E9C4-403D-8A6B-443A8BB6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077E-6D71-4A17-80AB-1EE90933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0625-C902-48BB-B86A-6321F3A9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987F-579A-4A28-BC03-8AF1539E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BF03-6DB2-47E6-B0D8-79630E0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3536-AF6D-4700-9945-F7147160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725B-58E5-4E1B-A3BF-168BDA95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7894-3072-493B-B8F2-F2E4F8DD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8FFE-AD40-4C5E-8747-DDF165CC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1D7C-6177-4935-8338-78D2720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9F4F-830E-404E-93CB-B9F01583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4A1D-1637-4349-8948-461066B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B5B4-E8B4-46D9-A475-B884528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FB30A-A8BD-4E7F-8906-5824FCA4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D286-17D5-4600-BA9D-1B6EFF81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704A-34E2-488F-A048-75BC3DC8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A40B-246B-4141-99AB-7D0B013D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E49A-6160-47CB-8AB6-6176E7DB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E5B8-65DF-4A50-92FA-D610DE30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8619-626C-4CB3-8570-E14C82F6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6B6A9-11C4-43B8-A978-E0B2E737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708E-3626-4EED-BBF7-5163B4E9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4994-708C-485D-84D8-0C38C548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AF2C4-31D4-4072-B435-45EA6D78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BAA7D-7B74-4C07-ACE2-02F88875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3D89-066B-47F0-BED8-E687DC76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78D4-2495-4F0A-8326-605E7B47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DCBA-9BD4-4339-97B4-3B309C23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AB0F6-F300-4D20-B0BA-F7DE0ABF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3CDC-B9EF-477D-8702-70B372E3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0E6FD-0B4C-4312-BA47-20105A0C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62EB4-BC6C-41CE-B962-E656FCAA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0C72-CE27-4928-9473-078D0A69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5655B-50DB-4D98-BA57-01DA6CC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E0821-1C29-4F32-837D-DE3E9783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5E011-5050-4045-9D84-CE03F6E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BFAB7-CD42-40DF-81F0-8FFB536A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E64AA-2969-4414-B124-34E39FF3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CD1DD-310D-45C2-B6A3-A3A18FF1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521D4-CC93-4B47-870B-A37341BC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BF94-8003-472B-8932-99C6CF8B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F7C8C-5606-4F74-8FF4-D94F6351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A0ED0-2399-443D-B705-F83BBDE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4CF10-4BB9-473D-9C55-057C2C50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F757-A9F8-44FA-A5EA-48246829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835D2-F16E-4405-AAAF-AC5602AD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F397E-A90E-4DCC-93E5-65DA5991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98E4B-8C7B-4A73-A994-59B2A3A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C9012-03C6-449B-A342-B016A8BF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4DBFD-4464-4889-9EE2-1F7FC2F4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FBB0A-C6BC-4862-9AEB-8DFAC50B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EFA09-9323-40D9-9499-CA87733D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6556D-6A48-478F-91E8-6A96863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6204D-600B-49A1-9338-A7B5CAA5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26D4D-F112-4770-B268-EE83280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0107F-CA4D-41F4-B7A5-1E7C8E0F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796EF-8563-416F-B849-FC56C24D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9B387-E4E4-4258-8177-93B0546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92720-E956-47B5-AB3C-9C554BBB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12EBE-E6DF-437D-A996-59174A87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8C6B3-F01E-4D8C-B5BE-F9E06D99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8BE60-4AB8-494C-A000-2B61ABC5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4BA5-5526-49FF-A6C6-7829C55B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0EB2-65DD-4D2B-8E9A-74FFFB1C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022E7-8DE0-4773-BAEC-2C274F2B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06EF5-5E4B-47A4-A34C-F04F21F2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1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549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1D68C-E92B-45BF-A922-04C8F44E141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610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56B93-FF1D-465F-9070-85D693BD7A9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671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6CAA9-3A11-4CB0-9C74-186DB523300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59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1EC9E-8D0C-454A-B7B1-4B73162EA79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4152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15748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77488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122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9E162-98CB-4BF0-B79C-181CA2A4018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183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4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96F1D-9FAE-4ED0-8FE4-33CF2C23AC1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244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2C7A5-0754-4D9E-A992-5BF310D37E9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305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6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D3EC9-6BA7-4D49-82ED-6934A9EF0CA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366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7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10775-EBD9-4F4B-A2A4-CC0C05DD213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427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47139-A063-4C6B-9983-08CB0FAFDDE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488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279360"/>
            <a:ext cx="1417680" cy="287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B19A8-6172-4294-AFAF-2F0290DE272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3:26:41Z</dcterms:created>
  <dc:creator>柴田宏</dc:creator>
  <dc:description/>
  <dc:language>en-US</dc:language>
  <cp:lastModifiedBy>宏 柴田</cp:lastModifiedBy>
  <dcterms:modified xsi:type="dcterms:W3CDTF">2021-02-05T06:37:54Z</dcterms:modified>
  <cp:revision>8</cp:revision>
  <dc:subject/>
  <dc:title>PowerPoint プレゼンテーション</dc:title>
</cp:coreProperties>
</file>