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FDDFF-C4A1-497B-9920-915810DC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0A5B1-8804-4187-8D91-1D240192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4CC93-6D96-4CF5-9806-680DDC94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1F5C1-D8A5-42F9-9BA5-418C79DC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7F3EB-3F03-424B-AC71-0C061CF4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D06C1-9114-4B66-B39F-10C7D1EA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54F78-52AF-4EFC-94C6-F0231D03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9FB30-7F6C-4809-8380-076B69CA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69CB9-2175-4B99-A83E-31269B71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41698-C8A2-44C4-93C9-EA3ECCEF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42845-0897-440A-B0F0-737A7F6A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1818E-D647-4392-B240-CDA2E74C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EF1E2-9E6A-4DC6-A970-E7A04F01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6E2F8-6468-413C-B49F-1D2161BE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17159-9C3F-4E9D-B7E2-5812D8AE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9703A-8CEC-4C29-A690-0BC4F332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9892D-983F-44FE-A9DE-CE02EF89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0FE89-E4FB-499B-86A3-84D3B7E8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3442D-E240-4397-837D-F905080E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1D0C9-2F4F-4EB2-BD70-2DFE2ECA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C91DE-2391-453B-8678-AEFEDEE4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54736-B51A-42DC-A4D3-53240997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641DA-0D05-4099-8FF9-58210245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50E02-24C9-40CC-BE83-B31B7EB9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520F5-7B48-431A-A0B1-4A049660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D893C-590C-4D01-97C0-1D3DEC60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99432-181D-4CC9-A9F7-F59E5062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16917-D589-4DA7-9F94-FE56540A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E1A09-43EA-4F21-B505-E60BF734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07EF4-7D31-4904-A4F6-05619E5E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305-E089-4AC1-928F-A635DFC9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4570E-3F63-4C05-9BE3-ADBC97CF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94685-C121-4978-9384-9A97610E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BCA01-3864-4728-8BF4-ADD695C3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48933-4AB6-4F80-AA98-B4DD4326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B0C3C-1102-4864-B7A8-5E826E5C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F0D0C-E1FB-4286-9D3D-5393C447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4B527-B6F4-4CAA-88DD-61F45A7B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1FC15-762B-4987-872C-2D74325F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E89DA-8A94-444F-80C3-FC6B7CCE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9232A-8C0A-4757-84CA-56016F98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D6F-1BF7-4527-8C83-C228FC1E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77129-A3CC-4CBC-AFD0-1C9185F7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0B4C8-F182-43CA-BC81-164576CB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64D6E-A2F1-4DC1-BA75-A830318E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73EFB-2478-4DA4-BA56-CA0E4C6D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00AEC-3435-4AEB-B0DE-382A9AD2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F30-000D-4FD8-9066-8B10F5F7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56C-4438-47FC-A245-EB6EA00C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EA5-8FC3-4A13-BA35-26EBD462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425D-0A5E-4482-922B-FD29B490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60A-080F-4B62-B236-B6A25F7F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2E5-F198-40AE-BCAA-18A1FE5D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694E-3EE8-4DF9-98F7-B74EE795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7C8-1FAB-49C3-B15D-08FD08F2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0D7-BE80-456A-B2D2-A108A588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B07-7EBB-46C0-9CB6-276D30C5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1DF7-9869-48CA-93C1-724EB650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C21E-DB2A-40E9-8CF6-17EC2F67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0600-6D9F-4319-B35A-0044AE68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6F1A-0223-4DB6-8645-73FBA701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D730-0221-4FF6-AE78-C2A0B44D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5BC1-C631-4A05-A1B1-655D4423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C702-C6BB-4A15-AB91-67277D00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9CAC-B78E-4881-8FD4-53DA336D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FB50-C8A3-4BD6-BE7D-245CB092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7E3A-BB5C-458D-93B2-F50CB912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B04A-C169-4998-811C-1FD7F455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5D55-31D2-41AA-96D3-7522FF45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50153-AB03-489D-8DCA-5F6007C6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C2175-FF21-44AA-92B1-981278D6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961C5-5FAC-4B65-B556-839D381E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9063D-484B-4441-8361-BBB59AC0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3B366-6B45-4873-98AF-15DA297C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4309A-44AF-4DE7-94D6-01528FA7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783AF-3715-4597-B7FF-AEC12E37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710A1-46A6-4AA1-AF42-B39BD609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9A212-3FD7-4D2A-AF2D-022DE1B9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50D34-61F1-4F8A-BE1F-138785E6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EDAD6-0275-4E39-A67C-8DC454B5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F6466-AB10-454E-B05D-34DC1A73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E7288-8B58-4289-AAB8-4D2B85DA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068E2-2CE9-429E-916A-9BA31F2C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15CA2-3384-4B03-8393-9BD85AFA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C0B67-358D-444B-95AA-C20FC55B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82B20-7AB6-483E-A8D0-A3B06899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9F4E7-A84F-4CD5-9B40-2A928779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1E54E-99AC-400C-982A-D186FAAE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DC2BE-8A9B-4F8E-9381-FEB1D571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CCA05-900D-415B-B07E-B3DF4E2F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3961-98F1-4727-970A-9AEA46AC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77A18-F9F3-47FC-A35A-80C7DCC0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80A38-1A79-49EC-8C7B-48F28443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3E35B-D299-4851-8A34-2633FFAE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618DB-59F2-443A-940B-96F4823D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A3CF2-90AC-4706-8F94-42119F88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0C9CA-6A0D-452F-9308-0B5E6E9E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7E4D4-21A2-4C6E-BDE3-FFB53CC2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18FB1-2087-4670-BF60-320F57AF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7D045-C297-4DC4-9362-19DDD456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08620-E515-4BC5-A67F-1C5782D0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60310-F860-4788-B96E-0A283F25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3C221-B202-4CB7-8A59-6DE9AD61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71706-65B7-4810-952F-2625E0D2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44014-5BB6-4724-9EE0-D77B13F6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88C7D-93A0-421C-97DD-4F67ECDB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3BA85-A240-49D9-9473-A91E2466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BDCB5-B33A-48FC-A304-E3E4AB65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44B14-CE82-4234-885D-88FCB2B2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06C58-6E78-436D-846D-08ED2329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7ACD7-FDBF-4C22-B979-3FEAFA79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9C703-E86B-4FC6-93CA-7228E652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E81E9-EACD-4879-90D6-F572A791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65599-5CE2-4635-9EBB-AE16CAFE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1A96A-BB73-44AF-887C-87F59261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77EA1-53AC-443D-96E0-642DB27A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8FFBF-589B-41E3-B11B-9C26228B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C13F3-5803-481A-A11A-27DB4F11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02E34-75B8-4956-A5EB-462E9B4B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14A28-EE07-4DB1-9BBD-12C0B535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A2D2E-F218-4908-8F01-13ED171B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EAA80-61E0-4671-877E-5A484BBC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BF3E7-7BD2-4D49-8A58-97D97956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21E1E-3A6C-4B77-8492-8D9FD085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DAEBC-CAB2-4143-92E0-6717E309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B43DE-0102-45A0-991B-5219B83F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1A6DE-0C46-4474-912B-075EB69B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942F7-3E3F-457C-8001-FF31B8A4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BC7D0-29D8-408B-A605-AEBB11E1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ACD85-0350-468B-948F-8A472A40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47A98-BBA9-43C0-843B-B17A315D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C73EC-0280-419D-B7C6-53035A2D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3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4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" name="グラフィックス 29" descr=""/>
          <p:cNvPicPr/>
          <p:nvPr/>
        </p:nvPicPr>
        <p:blipFill>
          <a:blip r:embed="rId3"/>
          <a:stretch/>
        </p:blipFill>
        <p:spPr>
          <a:xfrm>
            <a:off x="4657680" y="1509840"/>
            <a:ext cx="141768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560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561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4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グラフィックス 29" descr=""/>
          <p:cNvPicPr/>
          <p:nvPr/>
        </p:nvPicPr>
        <p:blipFill>
          <a:blip r:embed="rId3"/>
          <a:stretch/>
        </p:blipFill>
        <p:spPr>
          <a:xfrm>
            <a:off x="4657680" y="150984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dt" idx="25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ftr" idx="26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Num" idx="27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467F1-695F-4062-86E3-0BE5D28C8CB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622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623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4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グラフィックス 29" descr=""/>
          <p:cNvPicPr/>
          <p:nvPr/>
        </p:nvPicPr>
        <p:blipFill>
          <a:blip r:embed="rId3"/>
          <a:stretch/>
        </p:blipFill>
        <p:spPr>
          <a:xfrm>
            <a:off x="4657680" y="150984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dt" idx="28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ftr" idx="29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30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97947-D519-4928-9F46-B01FD2C8B11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3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684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685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6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グラフィックス 29" descr=""/>
          <p:cNvPicPr/>
          <p:nvPr/>
        </p:nvPicPr>
        <p:blipFill>
          <a:blip r:embed="rId3"/>
          <a:stretch/>
        </p:blipFill>
        <p:spPr>
          <a:xfrm>
            <a:off x="4657680" y="150984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dt" idx="31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ftr" idx="32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Num" idx="33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0083B-CFAC-4388-831C-1037411A519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62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63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グラフィックス 29" descr=""/>
          <p:cNvPicPr/>
          <p:nvPr/>
        </p:nvPicPr>
        <p:blipFill>
          <a:blip r:embed="rId3"/>
          <a:stretch/>
        </p:blipFill>
        <p:spPr>
          <a:xfrm>
            <a:off x="4657680" y="150984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1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2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C0D8B-4D39-469E-874C-39F73829977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3524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87020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240516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2405160" indent="-266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2405160" indent="-266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126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127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グラフィックス 29" descr=""/>
          <p:cNvPicPr/>
          <p:nvPr/>
        </p:nvPicPr>
        <p:blipFill>
          <a:blip r:embed="rId3"/>
          <a:stretch/>
        </p:blipFill>
        <p:spPr>
          <a:xfrm>
            <a:off x="4657680" y="150984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CF5A78-BC4B-4FB1-9097-34E786A86F3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188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189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0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グラフィックス 29" descr=""/>
          <p:cNvPicPr/>
          <p:nvPr/>
        </p:nvPicPr>
        <p:blipFill>
          <a:blip r:embed="rId3"/>
          <a:stretch/>
        </p:blipFill>
        <p:spPr>
          <a:xfrm>
            <a:off x="4657680" y="150984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56788-D8B7-432C-914C-DF3189FF643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250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251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2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グラフィックス 29" descr=""/>
          <p:cNvPicPr/>
          <p:nvPr/>
        </p:nvPicPr>
        <p:blipFill>
          <a:blip r:embed="rId3"/>
          <a:stretch/>
        </p:blipFill>
        <p:spPr>
          <a:xfrm>
            <a:off x="4657680" y="150984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dt" idx="10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1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2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FB489-5FBA-4BCB-A4B5-C725188D8C9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312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313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グラフィックス 29" descr=""/>
          <p:cNvPicPr/>
          <p:nvPr/>
        </p:nvPicPr>
        <p:blipFill>
          <a:blip r:embed="rId3"/>
          <a:stretch/>
        </p:blipFill>
        <p:spPr>
          <a:xfrm>
            <a:off x="4657680" y="150984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dt" idx="13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ftr" idx="14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15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5CD10-EE2E-4C8D-A224-DD996987716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374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375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6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8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グラフィックス 29" descr=""/>
          <p:cNvPicPr/>
          <p:nvPr/>
        </p:nvPicPr>
        <p:blipFill>
          <a:blip r:embed="rId3"/>
          <a:stretch/>
        </p:blipFill>
        <p:spPr>
          <a:xfrm>
            <a:off x="4657680" y="150984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dt" idx="16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17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8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FB1CF-1814-4C31-A6AF-78A25CFF5A7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436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437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グラフィックス 29" descr=""/>
          <p:cNvPicPr/>
          <p:nvPr/>
        </p:nvPicPr>
        <p:blipFill>
          <a:blip r:embed="rId3"/>
          <a:stretch/>
        </p:blipFill>
        <p:spPr>
          <a:xfrm>
            <a:off x="4657680" y="150984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dt" idx="19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0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21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15055-709D-45B0-B6FB-63B51476CCB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95" descr=""/>
          <p:cNvPicPr/>
          <p:nvPr/>
        </p:nvPicPr>
        <p:blipFill>
          <a:blip r:embed="rId2"/>
          <a:stretch/>
        </p:blipFill>
        <p:spPr>
          <a:xfrm>
            <a:off x="8832960" y="9118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01"/>
          <p:cNvSpPr/>
          <p:nvPr/>
        </p:nvSpPr>
        <p:spPr>
          <a:xfrm>
            <a:off x="2998800" y="13577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グループ化 28"/>
          <p:cNvGrpSpPr/>
          <p:nvPr/>
        </p:nvGrpSpPr>
        <p:grpSpPr>
          <a:xfrm>
            <a:off x="1719360" y="2657520"/>
            <a:ext cx="7230960" cy="9928080"/>
            <a:chOff x="1719360" y="2657520"/>
            <a:chExt cx="7230960" cy="9928080"/>
          </a:xfrm>
        </p:grpSpPr>
        <p:grpSp>
          <p:nvGrpSpPr>
            <p:cNvPr id="498" name="グループ化 6"/>
            <p:cNvGrpSpPr/>
            <p:nvPr/>
          </p:nvGrpSpPr>
          <p:grpSpPr>
            <a:xfrm>
              <a:off x="1719360" y="2657520"/>
              <a:ext cx="7230960" cy="9928080"/>
              <a:chOff x="1719360" y="2657520"/>
              <a:chExt cx="7230960" cy="9928080"/>
            </a:xfrm>
          </p:grpSpPr>
          <p:sp>
            <p:nvSpPr>
              <p:cNvPr id="499" name="Line 22"/>
              <p:cNvSpPr/>
              <p:nvPr/>
            </p:nvSpPr>
            <p:spPr>
              <a:xfrm>
                <a:off x="872496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Line 23"/>
              <p:cNvSpPr/>
              <p:nvPr/>
            </p:nvSpPr>
            <p:spPr>
              <a:xfrm>
                <a:off x="86155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Line 24"/>
              <p:cNvSpPr/>
              <p:nvPr/>
            </p:nvSpPr>
            <p:spPr>
              <a:xfrm>
                <a:off x="5350320" y="26643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Line 25"/>
              <p:cNvSpPr/>
              <p:nvPr/>
            </p:nvSpPr>
            <p:spPr>
              <a:xfrm>
                <a:off x="2061720" y="2657520"/>
                <a:ext cx="0" cy="9924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Line 26"/>
              <p:cNvSpPr/>
              <p:nvPr/>
            </p:nvSpPr>
            <p:spPr>
              <a:xfrm>
                <a:off x="1953720" y="2660760"/>
                <a:ext cx="0" cy="992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Line 27"/>
              <p:cNvSpPr/>
              <p:nvPr/>
            </p:nvSpPr>
            <p:spPr>
              <a:xfrm flipH="1">
                <a:off x="1719360" y="2885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Line 28"/>
              <p:cNvSpPr/>
              <p:nvPr/>
            </p:nvSpPr>
            <p:spPr>
              <a:xfrm flipH="1">
                <a:off x="1719360" y="299376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Line 29"/>
              <p:cNvSpPr/>
              <p:nvPr/>
            </p:nvSpPr>
            <p:spPr>
              <a:xfrm flipH="1">
                <a:off x="1727280" y="751644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Line 30"/>
              <p:cNvSpPr/>
              <p:nvPr/>
            </p:nvSpPr>
            <p:spPr>
              <a:xfrm flipH="1">
                <a:off x="1719360" y="12250440"/>
                <a:ext cx="7230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Line 31"/>
              <p:cNvSpPr/>
              <p:nvPr/>
            </p:nvSpPr>
            <p:spPr>
              <a:xfrm flipH="1">
                <a:off x="1727280" y="12355200"/>
                <a:ext cx="722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32"/>
              <p:cNvSpPr/>
              <p:nvPr/>
            </p:nvSpPr>
            <p:spPr>
              <a:xfrm rot="5400000">
                <a:off x="601920" y="4235760"/>
                <a:ext cx="9474480" cy="677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0" name="Rectangle 57"/>
            <p:cNvSpPr/>
            <p:nvPr/>
          </p:nvSpPr>
          <p:spPr>
            <a:xfrm rot="5400000">
              <a:off x="820440" y="4451040"/>
              <a:ext cx="9036360" cy="6337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Rectangle 52"/>
            <p:cNvSpPr/>
            <p:nvPr/>
          </p:nvSpPr>
          <p:spPr>
            <a:xfrm rot="5400000">
              <a:off x="712440" y="4343040"/>
              <a:ext cx="9252360" cy="6553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2" name="AutoShape 96"/>
          <p:cNvSpPr/>
          <p:nvPr/>
        </p:nvSpPr>
        <p:spPr>
          <a:xfrm>
            <a:off x="736560" y="538956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AutoShape 97"/>
          <p:cNvSpPr/>
          <p:nvPr/>
        </p:nvSpPr>
        <p:spPr>
          <a:xfrm>
            <a:off x="712800" y="44258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AutoShape 98"/>
          <p:cNvSpPr/>
          <p:nvPr/>
        </p:nvSpPr>
        <p:spPr>
          <a:xfrm>
            <a:off x="5243400" y="1276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AutoShape 99"/>
          <p:cNvSpPr/>
          <p:nvPr/>
        </p:nvSpPr>
        <p:spPr>
          <a:xfrm>
            <a:off x="5232240" y="2271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AutoShape 100"/>
          <p:cNvSpPr/>
          <p:nvPr/>
        </p:nvSpPr>
        <p:spPr>
          <a:xfrm>
            <a:off x="8926560" y="4425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グラフィックス 29" descr=""/>
          <p:cNvPicPr/>
          <p:nvPr/>
        </p:nvPicPr>
        <p:blipFill>
          <a:blip r:embed="rId3"/>
          <a:stretch/>
        </p:blipFill>
        <p:spPr>
          <a:xfrm>
            <a:off x="4657680" y="150984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dt" idx="22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ftr" idx="23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24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D8BE6-221C-4579-8D55-03A3E6347A3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4T02:20:57Z</dcterms:created>
  <dc:creator>柴田宏</dc:creator>
  <dc:description/>
  <dc:language>en-US</dc:language>
  <cp:lastModifiedBy>宏 柴田</cp:lastModifiedBy>
  <dcterms:modified xsi:type="dcterms:W3CDTF">2021-02-05T06:38:02Z</dcterms:modified>
  <cp:revision>2</cp:revision>
  <dc:subject/>
  <dc:title>PowerPoint プレゼンテーション</dc:title>
</cp:coreProperties>
</file>