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FE80B-A847-4BED-ADB6-AC391800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60292-50A2-4F7C-91D6-252A2E69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410F9-49E6-4122-A9C9-16B01556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2FCC5-7F8E-4AF3-8CE6-94FC2A99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CD070-1A02-4C87-BE5A-170E7AD6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6C186-09A7-4205-BC02-6B233258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F349E-A542-4D19-9BBE-3185F7B4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35E3B-C5D7-4064-B17A-E70D076B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1345F-638F-463F-B142-70F6735F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0EFEF-8670-461E-AA44-B7275534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CAD72-DB79-445E-B46B-01D540C3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E3BB3-6B5E-4E31-B4DD-DD06B661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81543-DEE0-4C5E-B0F7-657CF6BD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340A4-8E05-469F-8A97-0BBDDE36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8DF15-DD55-49CB-B969-AABE626B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C17DD-D150-40B2-8961-4B496E38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D7544-C38D-4A5F-8009-5AB089E6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BF30D-1A2D-47BE-B4F3-66F4D49A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3A309-F260-4345-8DB2-A10CA80B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8CEB7-70BF-4AE6-AA9E-FAFBB5E0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DEEEF-5238-4681-B828-063B2D35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5DBA3-7857-4413-A9AE-B477F2B7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B73AD-EB5E-4819-8AFC-FDE1ADF0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A5666-E7E4-4212-AEC9-9AD9B6D4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8142F-02C8-48E9-9C31-670A40D6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64862-26CF-4AF3-BE19-F0790BCC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0AEE8-AE85-4282-B997-92ADCB36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96D38-89AF-4203-AECA-F451B738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9A029-E649-47D3-AB1C-84841400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DC29C-402F-4BBC-A573-6A6B2928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560-665E-49BA-BED8-3A7EBEDF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1CBE3-301C-434E-A5B5-0C46BAB0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6789B-1D54-437F-ACEB-A165C170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D02AD-19B8-4CA2-B53D-039B0F5E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65429-BB46-4714-98A8-41FC6A91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A19B2-BD20-4876-8069-C4FAF8F9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DCF61-2D5A-4B87-AFEC-471F326D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D3C7F-3FBA-4CFB-9D80-562B4048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BEC1C-BAA0-4670-B7AF-3192B168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F5665-1C99-4F1F-90C1-8F4CB02B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77A9B-BE1A-4424-BEFD-35C46F3F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439-1CB3-48EA-9FDC-F0FFBEA1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13490-4C12-4043-A520-06EB9292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DA26A-F61C-4B30-A3F4-BA55C44E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9A1F1-4C45-4761-A009-7F64F79C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DB1C6-1120-4C2D-8F04-EE1035F5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7032B-E431-4BE1-AB51-FEFE6F9A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C0E-6B4B-4DF6-97FE-C0BB0639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4DF-0935-4467-BD01-53891F3A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9DC-ACE9-4521-A4A0-98242424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7BD-4C4F-4185-BB11-C0508750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EE5-88CA-428D-B6BC-B89938ED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937-A289-4A3E-B0B8-77AB50BB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047-4C1F-40E6-8700-55F5076F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342-8EB4-49EF-B292-8CDA73C3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4EC-63C7-4649-8D70-DD17A602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32D-368C-440F-BF2E-D1337932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367D-6E0C-4ECF-8780-BBBB218D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5C36-99C7-432C-A5B0-59DE7547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7D94-E68E-463D-84E8-2A478831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8621-2768-49C4-AC4C-832C9C93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BE9B-CB4F-4403-9B99-44B455DF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B917-7DDA-4B26-A82C-90F1F11E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EB79-D580-4645-8590-56867E08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B59A-12DC-4BF4-8A71-9CAE800B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7BD0-4BC0-47B9-BB93-CA71BA06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7B63-03B1-4D79-BFA0-A2051CF8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6133-E0AA-4172-8324-E2AF774C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E8F7-FB2F-4821-9CD2-9E1BBCFC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95318-70BB-4E7A-9238-ED3D0694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FA34F-8AB3-4073-82B2-E0570BE3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4A53F-619B-41D8-8E3D-4A5CA654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DD5EB-2578-435C-8FBB-BE3E594F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76FEC-20A8-473D-B45D-3D614F27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76FF5-534A-4462-BE0B-64535B68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2FC4F-3F86-43FF-BC44-DF8B3801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84670-9799-4563-AE4C-FBAB52C5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A5B67-30BE-476E-8575-6A987050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1ABBD-DAA2-4283-A556-DF018F61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EADD5-8B6E-4E7A-B8AA-D757B0D8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040FA-261E-43C4-9624-8368FBAF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296DF-2C08-4F82-9CAA-33B24D1D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CE15C-D7C1-4BC6-9274-4417C458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9F10B-7421-4BD3-AA01-D153B3CD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B4406-9571-427F-9F64-95B590E7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873DE-BAC0-49E4-8DFE-D3A0C073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DF068-AC17-4860-B3D7-75732407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F286F-A5CF-4F4F-881C-F51BF96E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A0ABF-5FF1-4D9E-8387-D1A54903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524F9-9A91-4BD7-87D5-7F980FB5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8634A-C329-4D83-BB92-83E24E60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6CCE0-FA50-4FA7-A76C-072BE5D9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DEEC5-561A-4F03-8FE1-0CBD58F9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2F17C-6B95-470D-A571-87C5154A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22355-5EBD-4993-9DEA-E0DA3668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032FF-E00E-48EF-9F7A-2540C415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C8A46-D360-4A26-9924-BB055974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A9FFE-B83D-41EB-87F7-75688445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4E3DB-E9AC-491B-A300-33D82C0E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F6AB2-95C2-419B-B31A-10787F72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217F2-BEC5-4A1A-A3C3-705977AB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6B0EF-B875-4B8E-B434-59F857F4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0CDCF-DF33-4F09-8DD7-C3D595A4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B983A-E805-457B-B887-40FEB18A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E33D6-6F76-4E78-AED8-14D5A5FF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A1A7B-0BA9-4213-8500-5C1B992D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E7A98-A11A-445D-8FCE-09B60854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D5591-6A72-44C2-9B9B-856044F4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EE5E2-8CBF-467E-B39A-FC12D201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39B04-754C-4701-BBB0-B466A3DC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13D43-8022-4E4D-8BE6-6E0CED25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AA5BE-C61E-4463-9272-2C1D7B09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0F696-EDCB-4D6A-AEDE-E65F0ACC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29C66-F780-4437-B9F5-FA116014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1869E-7154-465C-AABC-B318D3ED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59848-8D0A-4861-BF30-45238939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E5F80-8B44-4B24-8EC6-AE6369D8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F6CC8-E07A-4824-9C5C-6C2BF4F2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16852-22ED-42CF-B57A-48242A40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9E221-7E7B-4C4E-82F6-DF8FFCE1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47EBB-BD74-4B07-94FE-14EAFA69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EEB02-6D0C-497E-B8B3-2B8D6B85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3D6E8-03CF-4780-B0F8-2A992AE8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7FC0D-C9E1-4B63-A13C-AB143260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136BD-9A36-43D3-B911-D4354830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5A3B6-54E9-446E-B07F-976F4B26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0ACD2-91A3-4E73-BA28-F74D93EF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42D3C-1E6E-40CA-8B14-028E2747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85DDD-F2FC-4FF5-B52A-524C2429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7E5D7-2C9C-472F-A640-15233B89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B55B4-288D-4A67-8C87-D694DE29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26B87-DEE5-455F-A4A3-B74F5AB2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3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4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" name="グラフィックス 30" descr=""/>
          <p:cNvPicPr/>
          <p:nvPr/>
        </p:nvPicPr>
        <p:blipFill>
          <a:blip r:embed="rId3"/>
          <a:stretch/>
        </p:blipFill>
        <p:spPr>
          <a:xfrm>
            <a:off x="4657680" y="1500120"/>
            <a:ext cx="14176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560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561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4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グラフィックス 30" descr=""/>
          <p:cNvPicPr/>
          <p:nvPr/>
        </p:nvPicPr>
        <p:blipFill>
          <a:blip r:embed="rId3"/>
          <a:stretch/>
        </p:blipFill>
        <p:spPr>
          <a:xfrm>
            <a:off x="4657680" y="150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dt" idx="25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6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27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1A11B-CE16-443C-ABD8-75F2C46B595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622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623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グラフィックス 30" descr=""/>
          <p:cNvPicPr/>
          <p:nvPr/>
        </p:nvPicPr>
        <p:blipFill>
          <a:blip r:embed="rId3"/>
          <a:stretch/>
        </p:blipFill>
        <p:spPr>
          <a:xfrm>
            <a:off x="4657680" y="150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dt" idx="28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29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30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F8BA9-5062-4505-AE8C-77FC352D0E7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684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685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6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グラフィックス 30" descr=""/>
          <p:cNvPicPr/>
          <p:nvPr/>
        </p:nvPicPr>
        <p:blipFill>
          <a:blip r:embed="rId3"/>
          <a:stretch/>
        </p:blipFill>
        <p:spPr>
          <a:xfrm>
            <a:off x="4657680" y="150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dt" idx="31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ftr" idx="32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33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0FF7C-D606-49BF-BFAB-C72D157BC5D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62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63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グラフィックス 30" descr=""/>
          <p:cNvPicPr/>
          <p:nvPr/>
        </p:nvPicPr>
        <p:blipFill>
          <a:blip r:embed="rId3"/>
          <a:stretch/>
        </p:blipFill>
        <p:spPr>
          <a:xfrm>
            <a:off x="4657680" y="150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2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A9643-B285-4DE4-881D-71123EA607E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3524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87020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240516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2405160" indent="-266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2405160" indent="-266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126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127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グラフィックス 30" descr=""/>
          <p:cNvPicPr/>
          <p:nvPr/>
        </p:nvPicPr>
        <p:blipFill>
          <a:blip r:embed="rId3"/>
          <a:stretch/>
        </p:blipFill>
        <p:spPr>
          <a:xfrm>
            <a:off x="4657680" y="150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12217-ADE6-4682-AAC3-B1000547503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188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189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0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グラフィックス 30" descr=""/>
          <p:cNvPicPr/>
          <p:nvPr/>
        </p:nvPicPr>
        <p:blipFill>
          <a:blip r:embed="rId3"/>
          <a:stretch/>
        </p:blipFill>
        <p:spPr>
          <a:xfrm>
            <a:off x="4657680" y="150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2C506-A2A2-464F-AE62-41E03C68445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250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251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2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グラフィックス 30" descr=""/>
          <p:cNvPicPr/>
          <p:nvPr/>
        </p:nvPicPr>
        <p:blipFill>
          <a:blip r:embed="rId3"/>
          <a:stretch/>
        </p:blipFill>
        <p:spPr>
          <a:xfrm>
            <a:off x="4657680" y="150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10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1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2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34D70-68B7-4BEC-B2AE-3E8E2C99FD3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312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313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グラフィックス 30" descr=""/>
          <p:cNvPicPr/>
          <p:nvPr/>
        </p:nvPicPr>
        <p:blipFill>
          <a:blip r:embed="rId3"/>
          <a:stretch/>
        </p:blipFill>
        <p:spPr>
          <a:xfrm>
            <a:off x="4657680" y="150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dt" idx="13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14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5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DE8EC-0A95-43D3-84EB-93C6F84FA6B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374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375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グラフィックス 30" descr=""/>
          <p:cNvPicPr/>
          <p:nvPr/>
        </p:nvPicPr>
        <p:blipFill>
          <a:blip r:embed="rId3"/>
          <a:stretch/>
        </p:blipFill>
        <p:spPr>
          <a:xfrm>
            <a:off x="4657680" y="150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dt" idx="16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17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14474-0A55-40F3-9A19-ACBE92C68B2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436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437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グラフィックス 30" descr=""/>
          <p:cNvPicPr/>
          <p:nvPr/>
        </p:nvPicPr>
        <p:blipFill>
          <a:blip r:embed="rId3"/>
          <a:stretch/>
        </p:blipFill>
        <p:spPr>
          <a:xfrm>
            <a:off x="4657680" y="150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dt" idx="19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0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1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F8410-596F-4130-B425-E7BFB612D00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498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499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0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2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グラフィックス 30" descr=""/>
          <p:cNvPicPr/>
          <p:nvPr/>
        </p:nvPicPr>
        <p:blipFill>
          <a:blip r:embed="rId3"/>
          <a:stretch/>
        </p:blipFill>
        <p:spPr>
          <a:xfrm>
            <a:off x="4657680" y="150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dt" idx="22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23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4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FF0E0-12FC-4203-8160-D57C676C66B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4T02:20:57Z</dcterms:created>
  <dc:creator>柴田宏</dc:creator>
  <dc:description/>
  <dc:language>en-US</dc:language>
  <cp:lastModifiedBy>宏 柴田</cp:lastModifiedBy>
  <dcterms:modified xsi:type="dcterms:W3CDTF">2021-02-05T06:38:16Z</dcterms:modified>
  <cp:revision>3</cp:revision>
  <dc:subject/>
  <dc:title>PowerPoint プレゼンテーション</dc:title>
</cp:coreProperties>
</file>