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18540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FC4D-0DDC-484B-B918-AC8A80F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C5B0-42B5-49D0-AE4D-3EB48037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205CF-AB2A-4AA6-8799-EC7EB127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DBF82-667E-4922-85A1-9600AF5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79B0-A78C-4645-92B2-7F497BE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156E-7CF0-4874-99E1-383DED1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90EB-9ED0-42BB-828E-2F15E68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9E4C-4AA3-4E5F-84AB-CE9FBEC6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07684-08E7-44AF-8BC3-096461AD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2CC1B-985D-4C10-9094-CE51DF64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28CA8-72C2-4111-964E-CA91592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C712-28A2-48A7-965B-0171FA2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2958C-5792-408E-ACA5-61429FF0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57124-51B9-48DC-BC65-205EB2F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95E2D-2D5D-4048-937B-B29A33D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4AFA0-B64A-4B11-8C61-5776D322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25581-88BE-469C-8A3D-10F21B4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2471D-9EBE-4827-877E-B55AB4F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185B7-423F-4380-A6A4-5250345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7112C-DF89-4212-903A-42422759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CCC3-E45F-4D59-958A-72C9CDA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229F7-F775-472E-A852-59723BE2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AF463-D0CC-4DE5-8537-A4E5E3FA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FA65D-902F-4547-A29E-EA134500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6BEA9-83D9-43A4-988E-B746DB3E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4B6B1-82D5-4DF3-B7E2-E5A8792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0E81-8071-484B-BFD1-3B71E6E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B45DC-92D7-42D4-87C8-6CB5C9E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0D5B8-BD82-43E1-9FCD-A285E63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9C51E-B27C-4A46-BCB4-F565D2D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854-A03B-4384-894D-2AAC0BF3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DB10D-AE63-4CD7-BFF7-71A36FC1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2B91E-6424-4D7B-8385-A1FD4B01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933D9-CE50-4866-B30F-CD1EA7D2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6420-BCC2-438B-A773-1CB53C1D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0C67-044A-4FBE-8232-E286B5E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FC9C3-B6DB-43D4-9176-050568C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5CF8-56D6-4C04-97CD-CF84524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DBE08-E9E8-454A-B044-5B01394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ECE20-A60C-41B9-A051-0B4185B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88520-9BF0-4A8D-914D-88110B7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268-4A2A-4204-8E96-E8DB926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52818-5C5D-49DF-AA69-5B0D16E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17287-3139-440F-B147-127BB26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14829-5CCC-45CB-B7AD-98AFD4B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3050A-DC42-4FF9-87B7-16D2E2B0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C7B6A-162C-4434-AE8F-8893DB0C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078-DFCB-422B-B078-5C79C49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AAC-9C29-4A46-9819-7051586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F83-829E-4834-81BF-6B4E6B05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61A-13D0-4EF9-A422-D2EC7B6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4C4-06A0-40EE-9AA2-7CE801F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521-B1F0-4309-BB8C-59ACDDE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E3F-4A98-46A6-A0F7-03C1458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5E8-4CDD-4C56-8131-819B3BA5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651-1E8D-4CA2-8F02-3E4137E3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A6E-D630-4072-84B1-E2A3C5D8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95E5-60D0-468D-A813-EE25AA98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EDB-4202-4F76-AF3B-03FC0E1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3E85-2346-4C87-8AF8-312CF18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6A4E-F85B-4E63-8131-7BF84E1D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31A2-B048-4958-AEDC-D3A0489A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36D2-9DEB-4D65-A585-6675D72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CF9-F5B9-4408-8F5F-D53C9CBA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4273-6B86-458F-9182-10E75A0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CBE8-305B-4E4A-8CFE-BB7C9F8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851F-F55C-4A96-A357-9A213AC7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C7CA-1553-4B45-9B51-45037C31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DC8B-7B9F-4CE6-AB4D-18A95E89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6953-2D92-4584-9896-A59F7CE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B40F-D65D-459F-A0BE-4EF0027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7666-7000-4F98-999A-4BE33ABB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7DC1-0AA7-4EE1-9531-E678B49F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7DEE-0AA6-4545-8B77-5C0F0CA8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8C56-B912-4BF1-B162-43440770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69D6-69DB-4102-ADC1-B63814D7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72E4-BEEE-4B9D-9B64-82A62E01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AD0B1-1E95-419C-A7C3-0B00C50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099D-8743-410F-A9E7-5192FB1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A782-5CB3-4C8B-A02A-58589F15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2FC3-C021-48A4-A9D0-C989F916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D6DA-81E4-4D6E-B2D7-E050229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6DAC-21CB-4B14-ADEA-538F7A58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F44F-70AE-4352-9520-1AC36986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A1DF-7B27-486C-B6DB-37593FA1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D2FF-936D-47F3-A4B6-ACDB777D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7A2B-045E-4F92-ABC4-A3D1AA3E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62A6-31AE-452A-89FF-4EDD13FC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80AB-A525-4FA3-ACCC-2C59808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B9C2-F2CA-4D64-8919-AA5EFFA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2B38-3D49-4183-B96B-99F4CED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756F-ECBB-4D61-895E-2F469A05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5691-50E9-4461-A8E9-6752CC2E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63D3-866A-497D-BAE6-597EB2A7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A049-F00F-490D-AA17-127651D8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BEDB-D71C-4FCC-A2BB-C8AF8F8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540F-FD55-4B1D-9E8E-A7B9A1A4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9F81-EF5A-4894-833F-25459D3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21CF-B49B-443E-9A1D-688D570F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0011-E20A-46FA-9FD6-E4EA265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A5D5-107C-4F4D-BDFF-3E4101B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B258-8C5D-466E-BF3A-BCD0A00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7E4D-9BD9-4449-99ED-C5B20045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010E-7838-4928-B821-CDAAF24E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BA003-BBF0-4726-9564-825FA64F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5AEF-8649-4FFC-9F5D-31415050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4B30-BE01-409E-AA56-079BC242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1092-C8DB-4427-AEBA-35D0357B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A82C-647D-48DC-8C12-9BD803C6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6C67-72E3-4771-91F7-290AD670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57E2-3760-4B84-AD02-1B4F627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D3B5E-DFDB-4020-8BDD-8F414B2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BA05-7BB3-460C-9F0F-8EAC4CA0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113FC-534F-42E8-B81E-367CFB2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BBC0-BFE0-4E3E-B30D-0D862FAA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7967-9452-4866-9406-842F6C64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A2AA-4351-45D3-AB63-3C5841A3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0A813-73DA-479A-93BD-52F15F53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3219E-357C-40A3-B385-BD012C78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3A03-F7C7-4FB3-9240-66EBDAC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56B5-41F2-4D59-8D04-5BDD86F4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2E23-217C-4AE8-A0CF-46133602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F6F0-0448-4C9B-BCD5-295CECE9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47B7-BCA0-4129-8B36-2721812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9F77-9F21-492B-87CA-82EAC98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771F-43B1-4862-9BA8-765E2C6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3A21D-DE83-48B1-9E3A-C021038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889F2-1C06-455A-9EDB-ED982DBB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0D4D1-30CD-4A44-8761-9AE8AEA4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C2643-E099-4FC8-B049-716FA95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0C5F5-5C09-45FC-BB02-7A8D614D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C13E8-8F73-46C3-9ADF-2D9854C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3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560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6E70B-ECA9-4625-8DE3-5B332C6281C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622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73F74-41A5-4E36-84F6-6EB77C96397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684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91294-A455-4A43-B3E7-7E3A640A560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62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853CC-BD37-40D3-A750-165DFD6F1F5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8280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636560" indent="-3268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9248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94804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126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F9D2D-8AD6-49CC-B25A-C25F69EAC76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188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71490-0FEC-4419-A432-66A6BC28597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250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436DE-6BAA-4C17-8A6E-D61FC70E130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312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F9FF7-9D01-4B8C-920E-BDF11D7A94D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374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B417F-3D0C-4677-B9D0-0D57E0E6E3D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436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A9B2C-B9BA-42D6-BDF5-AF9A7A3F99E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498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30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4ECF3-685A-4434-A31D-F1F92C3F3A2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05:13:12Z</dcterms:created>
  <dc:creator>柴田宏</dc:creator>
  <dc:description/>
  <dc:language>en-US</dc:language>
  <cp:lastModifiedBy>宏 柴田</cp:lastModifiedBy>
  <dcterms:modified xsi:type="dcterms:W3CDTF">2021-02-05T06:39:04Z</dcterms:modified>
  <cp:revision>3</cp:revision>
  <dc:subject/>
  <dc:title>PowerPoint プレゼンテーション</dc:title>
</cp:coreProperties>
</file>