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8540413" cy="131032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E0732-CCA0-4732-99F8-963764A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94A85-25F0-4873-BC01-6EE4889E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F2597-EF43-4AD6-B453-59660D6D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630C4-2917-4A1F-BD8D-E988210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F14A-472C-4703-BFF8-D9059AE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A2119-FC22-478B-9589-31D0E5FD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9735-FE18-4556-AED5-014AE7A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0415-7B8C-4070-AC9A-8647185A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297A2-1799-4B82-AD48-4F892AE1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184C4-C161-4261-B7DF-34B0634C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3C44A-9C32-4EC3-8DD7-B92F77B9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BE4E6-398D-43A9-BD6C-26D70E49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7B5FF-6C12-424A-B05B-5FD5BB44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6BB57-08E4-4179-A7A8-1DC5630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977C3-4939-4D26-972B-39805C1A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7C4A8-11B6-4373-BAB5-5650465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AFD08-9F4E-41C4-9030-2B7689D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0C2B8-CF2A-4779-B0DC-03CDB216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D05BF-3C67-4021-A478-94C4017B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5933-113D-4D0A-A030-EB97974E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C71CC-97E4-496C-BFC5-DC472FAE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C7027-6DB0-4CC5-967B-E6B122E6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064E3-9666-42CF-A1F6-245F5E1E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3F791-17D9-4643-90E3-79F4CEF1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116EF-9A31-4FCD-B688-568A3D8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A8916-E1BE-472F-BE99-112AA7BE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DAAE7-8E97-41BF-AC77-7B2C42E1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CF502-43FF-44EA-86E4-33C6990A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C8E5D-33FF-4854-8651-CE5DFDBC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80BD3-428A-489C-84F5-BA82F67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7C5-B3D3-4221-BA37-1882DB8A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A20C3-7921-4B9F-8A4C-371FE66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C6F76-AE9A-473A-BCCE-48BD51FE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265C0-FBEF-4AFD-B11E-EC1D8797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5B4B5-1ECF-4107-AF82-F76C2C18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6C31C-848C-4B9D-AB00-0042294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EF933-A4E3-4D0C-90F4-F0BF03A3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F98A2-942C-42EF-8E6F-E4B15B84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F3837-91EA-4B91-8E9B-5363E08B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954C0-93FD-4068-81A0-4F489B3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7B1EA-15D4-4C61-8390-1A89F8D1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F26-83A4-4BF1-98C6-BDCAE1F9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BE71-12F2-45F0-B2AC-BE0C21F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5A8D8-F12A-4BA4-985E-B00D1C2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CEB81-B94E-4C6A-9A1A-8F0758AB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977B4-1F96-419E-AADE-3F1D39F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E5A5-2504-4131-9616-EFEE34D7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B71-8E21-4E42-9ACB-BA0DE7CD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3BF-68E4-412E-99F4-0AFD0700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AD4-7F80-4110-AD29-5057F2D0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393-2787-4DCC-A30F-E8D01BA9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EF0-DA13-4F37-B4B2-1879E3F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B6F-0C87-44A9-855A-3DF640C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A69-7DD0-4355-8EA1-73BCBF0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56F-5F30-4B66-BE70-577F4AC7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0C5-11FE-4247-9453-D284F337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6FC-193F-4C1D-9F6C-9F6E2835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A91F-B876-446F-91D0-A5E8ACF9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3E5F-4114-4C0E-96C0-F5994643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2587-1609-4B13-9491-6CE2CF54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03C2-6EBE-45D9-9BAF-1EFA0F81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348-125C-473B-B652-BA87920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D8BA-FA4A-4F2E-86BA-C928D438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5BC6-07D9-4ACA-8712-410CF7C5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5F8B-014B-4D19-9D28-FBFF4BB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E80-97C5-4C74-A6DE-FFF83B6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DAA1-3799-48CD-8CD0-8B483F17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BDF4-633A-4795-BBBC-F9085A8B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B77C-9D79-45FE-A557-1A7D3C22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2628-F219-4721-A346-FF305CAD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5756-EC13-425D-B584-1D142F02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CA5C-D731-4615-B44C-FB9156A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704C-E9CD-4ADF-A051-1E8B4C8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3831-B79E-4789-88F8-3D05D377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27F8-9E14-4B8B-BAFF-2826382F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B47C-5CAD-44FC-BF35-B501E8F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973A-F924-4BC0-934A-7DE6526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C24E-7A95-4A30-804A-3CB1D6D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C5EB-30C2-48D6-A177-A3A80CC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0CA0-A837-4424-A7ED-7D042553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E657-E47E-4C33-8409-2A108D74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2673-2943-48F4-9699-54190369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5BD9-96A1-4215-9983-6B377AC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E64A-562F-4F41-9ADC-2E53C9ED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C385-6CC0-4D59-94A9-F89F62F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72E4-C7BE-49A4-90A2-AD6CD03F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CC61-FAD8-4804-8776-0BFCB7D9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DF32-7770-42C0-B876-18310BEE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EEA1-E2B5-4B2E-86B8-0E4EF5DE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71A6-C063-4BFD-B948-099955A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7A6F-E02B-4AD2-836A-DFE44208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5A45-6E9A-49FE-A50A-C14EAA54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7021-031A-433C-95A1-A1FD4BAA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77ADF-60D5-40BB-8E61-A3255FA0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5EEF-E235-433B-8CE4-161556C1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E815-305C-4EEF-A098-50F1A186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272A-03D9-4C9E-8A44-E46DF5F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2013-9130-4EF1-A496-1B6813DE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D86B-B613-44E9-8D8A-B6DC4C5B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0D2D-4A20-4B21-8C39-8C668ED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809F-27F7-4341-BD29-A966683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5EB2-28DE-47BF-926B-911632F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C961-6846-4459-970F-7BD30DC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42145-7632-46E7-8BB9-68C9E6A5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E8D2F-AFD6-4D64-BF3B-EB7A395A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640F-F277-4525-BE70-E1EF782B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4F09-EE5A-413B-B57B-DBC25DF1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B6746-8F39-453F-B2FD-2981EFA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F5D8-1258-4A96-A0CA-7100CA74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EA59F-E442-4427-9698-A2B70E31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73D95-4BAE-4D2B-B0BC-C162D80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04372-B5C7-4FF1-BDBA-07BEC32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B475-9592-45D4-91CE-B3A09EE6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73FC4-ED39-4B8E-8A5C-56F054B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D0D1-2AB3-4BB4-8949-13BCBBD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6C91-32CA-429B-90BF-D7BA2FA4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D8D8-ABBD-4257-A55A-30A77DBF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FFB2-DCFF-4502-BE8A-93572D45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828A-A013-4BBD-AF92-5707201F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6580-85FA-46A5-9F19-711AB0BB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1E7FA-6ECF-4D25-8D8E-91114DCC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6785-73FA-4647-8EC8-E03E317D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974F3-A79F-468F-9FC7-4AD3D48F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FD04-904D-4DC3-8070-FDB6110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9F00F-8838-4104-94AB-76A6FD05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C8CA-4D47-419E-BA6A-AABCF4E3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577F6-FC16-46B4-B170-3E2568FA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791F-8419-4CE7-9CCE-444F39CB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A64E-5F6E-4E2B-A67B-6DFE8E9D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B47A5-4BEB-41DB-90EA-65AE343C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3A710-7458-4B91-A962-6D4F1920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70B2-F8A9-4BB8-8592-6FAA467D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1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549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1D013-B104-48C2-9D71-BCB0C45C0A9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610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316F3-2050-4AE0-96A2-602FD90DFFC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671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7D77-C32D-41B4-A104-D74AE64A8B2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59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1A901-6CF5-4E2A-B1CF-BAD3558B176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6680" indent="-436680">
              <a:lnSpc>
                <a:spcPct val="90000"/>
              </a:lnSpc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1" marL="130968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21826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305604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39304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122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E0168-FA74-4ED4-89AF-4BB855648DA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183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44252-5262-4991-969E-E39B354BA7F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244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0874D-12F2-49C4-A062-76C0B6AD870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305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BF7EC-87D7-4FDF-9D91-A4E66F4B6F3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366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A113C-2083-42EB-A64A-7F1338FAB93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427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E2CCC-AD59-4EC1-B0F0-5106F02A6E8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488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534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7F628-61C1-4930-A8F2-6A30534861F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05:00:07Z</dcterms:created>
  <dc:creator>柴田宏</dc:creator>
  <dc:description/>
  <dc:language>en-US</dc:language>
  <cp:lastModifiedBy>宏 柴田</cp:lastModifiedBy>
  <dcterms:modified xsi:type="dcterms:W3CDTF">2021-02-05T06:38:39Z</dcterms:modified>
  <cp:revision>3</cp:revision>
  <dc:subject/>
  <dc:title>PowerPoint プレゼンテーション</dc:title>
</cp:coreProperties>
</file>