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8540413" cy="131032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525B8-B72D-477D-A3B4-B1359A6F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AE461-60FE-42C1-B5E1-8CD3725F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C16E2-DC27-4025-BCFA-8A6E7C3F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C7B9A-57C1-48E7-BBE9-AB3315D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339DE-E640-4041-AB0B-41AAB8F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2480A-15A5-468E-8D70-C7C4BB40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D037-49C6-47DB-ABE3-CFCB128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6A568-BCA8-410C-8A7B-6F139738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8DBB2-8792-4739-B02E-56AF638B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D1C42-EF1B-459C-9574-4D765901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275B6-44D2-4E83-A4DF-C6572D89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6A887-5DF6-42DC-80F0-E3F233FD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434EA-0FC9-48D3-BF17-F0F71559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A435A-80D0-4098-851C-9522B7AD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8FEAC-B18E-416C-98DD-D5C07899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3C1C5-F363-4F01-8910-24A64CF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AA3BD-EFA7-4D62-868E-0A61F21C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1AAE2-712D-4F27-8C6E-D22355F4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1BA92-4011-4172-9AE9-6C7DAB71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AC45A-61B7-4604-B008-71B158A1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8016B-A1A8-4C44-8D02-9676FB0E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E020C-0314-4F3A-B8C3-EABA43AB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EAA8-481C-44B6-B565-3310CE4B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33D58-B4AA-453F-A9E4-85A81CF8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4E7EE-2CC3-4010-B2CB-649C2A76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B31D2-409D-411D-B525-1DF40480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482F9-4288-4ED2-A946-6D5AC37D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AC559-D365-4CEB-A52E-87E9A57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97C6A-6168-42E3-BBE5-095291F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B7D98-8649-4A81-820A-D6CD5ADF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617-4B0C-4DA8-A131-D59249A1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EF7B6-4E72-40D6-BAF7-CA293C39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E5ACB-9C55-4A76-ABBD-EBE2F1BE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7774D-1534-4E22-9293-22CA6599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27772-4D65-41D2-89E6-FD345A09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D57EC-E594-411C-9E69-235AC816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9FC66-E89A-4466-97ED-E44782FA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CFC19-3495-425C-995C-67BF4913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AE9B4-36F8-490A-8595-2DDB0170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5DE8E-7DF5-4F2E-B80B-BCF961DE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C8229-290A-4F9C-BCC6-F21A888A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0A7-6349-4EB1-8441-917EBD1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31774-AFBD-47AC-8C3F-AD2C776A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5CF9F-14F9-4870-8185-E3F55D1C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19D99-1F41-47CE-A821-AE1AD201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4E297-E0CE-4CC3-96FB-ADA4D7B7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ADB52-FF69-45AA-B1D0-D89AE116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D5F-D7A6-4E0A-9852-C38E6836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7B6-275B-4FCF-9B91-96E6F8F1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959-7792-4808-88EC-B02256B9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666-F9DE-4B8C-94BE-2762769E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32C-0051-42CB-B2E5-FA27FB74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5D1-7237-48B3-8813-602CEF5A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46F-CA5B-492C-9BEE-8D4DD264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5A8-E806-46E4-870A-F629DEDC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F28-E093-4A42-95A8-30EBE457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7CF-D542-4179-A936-673A149A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AE31-A3EC-4E19-92E0-F47B6788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C000-1C31-4299-8DD2-097C0176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362A-5CA5-440E-B66F-83FCC5DB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8D80-132B-423F-A880-72C8B01A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F60-6A8F-435C-B13A-1B89BAF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4DAC-E079-4FC3-AFED-320C5AD4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4A54-DD92-4C1B-978E-279AC61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0EFF-4EFB-4E68-BF55-EDCEDB8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F43F-BEF1-43CC-8EC4-4FA9894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15D4-C9FD-45F5-B247-36651A80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7A04-F933-4AFF-ADCE-9A62F619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3A3-699B-431A-B9E8-23688764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4BA9-2A97-42DB-888C-EB477E08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5C2C-5366-428C-BE6B-86AC3DBA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8748-B79D-4754-BDFE-56F85C66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FD31-BF38-43E2-8A1C-777BDECB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2F5F-3052-44A4-8E98-EE89A86D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88CF-C6AC-48C2-B4EB-0602FECF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3BFA-7D32-42BD-95E1-65F0670C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7703-80C4-4F91-AFA6-DB45E2F8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DEB8E-9B69-4D79-A391-FA4B0E2D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8D12-6ACE-4203-967C-7FBE8DB2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B5F4-C7FB-4879-B0E0-6E7E485E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64CE-76CD-412D-A8D3-FF72DA03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5325-E06A-4A1C-9EB7-25B1E2A3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50022-D5AC-4031-8B6D-EF1B8FC3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FCF8-A6E2-41AB-B812-FC80C376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CA57-E4DA-4BBA-BC9F-A21CBDE3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4397-7430-434B-98C8-60842581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4F361-8530-46D1-A212-996637A8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D9B24-7069-4561-A789-D666D6A5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D185-D841-434A-A408-AC02AFEA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45F7-9055-476E-8AFB-6A6D0E5B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95F29-2DF5-4508-9152-9E36B582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F80B-C81E-40C2-B416-9CA962F9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8471-F9D6-4542-A056-3A42EF55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2621-C0FE-4758-935C-0E44854F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25D0-71BD-4ABB-99E6-B3B0A1D0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C5C70-BC0B-4A18-B13D-A4579392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EB6B-E06B-453A-8834-C5D84CD5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099AF-5D4A-4D14-95CB-1FE419FA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CC620-5073-45A2-85AD-2391E87E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CFADE-FD26-4B9A-AC1E-3E79FF5E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B4CB0-71C3-4ADA-A55D-C444A27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FAF89-A65E-4BCA-A39D-B89DB81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297A-20C2-4F52-97B9-CAC7B848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B7F32-BE8C-43FD-9BEE-5878FC8B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D94B-0AE1-4E4B-B968-DDDE6060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7D37-CB6D-4B1C-BFF5-96EBB8F0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1CF7-F969-455C-927E-C080578D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5F0B-0166-42F3-9232-5BB5AD0D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F2CC3-2B8E-4C3F-8D6D-CD6AD956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EAA66-87DC-4FE6-A0EE-82A8C3C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F0B65-16F7-4CAC-A6F6-2F508CC4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45342-D00D-44FF-A080-154685F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08EC6-9E47-4463-8130-03CE7D17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8ED91-A847-46B8-90A4-DD26D3A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5B97B-38D8-46F2-A590-7438CAA9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593A-B1B2-4622-AD00-9EE06F8B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C45F3-76E8-4BDF-B00E-4852B9C9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6842-922F-469F-AEA3-695F0732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B6727-5215-4C47-B910-2B72F8B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C08C2-6FA5-41DA-9F00-BC301440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F1DFD-D1FE-4C2E-9891-2335AFFB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CE5A8-B464-4E65-A86D-FB1A6A9F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591A0-83DC-4913-B409-C2C5F352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28657-BEA4-4203-906C-C74696C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AB8EB-23FF-4A5F-A7E2-7CB93314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81BE9-2FD5-40EB-AB4A-FFA4BF3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A1172-48A4-4D07-B3B3-CE4F7B61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70630-0ADA-400E-B7B6-290D0C28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7086E-B81C-429E-A5F8-282C0D44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902F-5FDF-4D64-A355-471983E5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3F0A8-98E2-4DCC-98F5-931A506C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B3E33-AB37-4488-B226-4DBC248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1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549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E4CD8-305D-49BA-945A-43C425700D1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610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58F7D-7F99-48A2-BF98-C564F927BB9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671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81216-1A8B-4FFD-8E3D-5B2725226EF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59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6DF57-8A0E-4590-8DB0-30707C74100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6680" indent="-436680">
              <a:lnSpc>
                <a:spcPct val="90000"/>
              </a:lnSpc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1" marL="1309680" indent="-4366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2182680" indent="-43632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3056040" indent="-4366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3930480" indent="-43632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3930480" indent="-436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3930480" indent="-436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122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B9B9E-13AE-40E2-8C8C-6DE7DEBC90F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183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4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88BE0-AAAE-4218-9CEA-57E2B9B8CC7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244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8AF3C-713A-49E4-A007-E066286FC11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305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6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A2C25-40F8-4763-BA7C-1C8030BE160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366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7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1CEE2-44CF-44BA-8470-C40943A6C21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427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9AB43-6DA3-474E-B9D9-C965A817687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グループ化 29"/>
          <p:cNvGrpSpPr/>
          <p:nvPr/>
        </p:nvGrpSpPr>
        <p:grpSpPr>
          <a:xfrm>
            <a:off x="2376360" y="1608120"/>
            <a:ext cx="13779720" cy="9915480"/>
            <a:chOff x="2376360" y="1608120"/>
            <a:chExt cx="13779720" cy="9915480"/>
          </a:xfrm>
        </p:grpSpPr>
        <p:sp>
          <p:nvSpPr>
            <p:cNvPr id="488" name="Line 22"/>
            <p:cNvSpPr/>
            <p:nvPr/>
          </p:nvSpPr>
          <p:spPr>
            <a:xfrm>
              <a:off x="2391480" y="182808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2376360" y="193752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2391480" y="6548400"/>
              <a:ext cx="1376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2391480" y="1118268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2391480" y="11290320"/>
              <a:ext cx="13749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2601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270900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9263880" y="1646640"/>
              <a:ext cx="0" cy="987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1581912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31"/>
            <p:cNvSpPr/>
            <p:nvPr/>
          </p:nvSpPr>
          <p:spPr>
            <a:xfrm>
              <a:off x="15923880" y="1608120"/>
              <a:ext cx="0" cy="991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32"/>
            <p:cNvSpPr/>
            <p:nvPr/>
          </p:nvSpPr>
          <p:spPr>
            <a:xfrm>
              <a:off x="2597040" y="1828080"/>
              <a:ext cx="13326840" cy="946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Picture 95" descr=""/>
          <p:cNvPicPr/>
          <p:nvPr/>
        </p:nvPicPr>
        <p:blipFill>
          <a:blip r:embed="rId2"/>
          <a:stretch/>
        </p:blipFill>
        <p:spPr>
          <a:xfrm>
            <a:off x="16022520" y="75074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1"/>
          <p:cNvSpPr/>
          <p:nvPr/>
        </p:nvSpPr>
        <p:spPr>
          <a:xfrm>
            <a:off x="6919920" y="12042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57"/>
          <p:cNvSpPr/>
          <p:nvPr/>
        </p:nvSpPr>
        <p:spPr>
          <a:xfrm>
            <a:off x="2822400" y="2031840"/>
            <a:ext cx="12895560" cy="9036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709720" y="1925640"/>
            <a:ext cx="13113000" cy="925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376280" y="453240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357200" y="357012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9139320" y="11623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9129600" y="1289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6129080" y="3570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7" descr=""/>
          <p:cNvPicPr/>
          <p:nvPr/>
        </p:nvPicPr>
        <p:blipFill>
          <a:blip r:embed="rId3"/>
          <a:stretch/>
        </p:blipFill>
        <p:spPr>
          <a:xfrm>
            <a:off x="8561520" y="4777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F58FA-A369-4B5A-908B-8318E9FFD4F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4T05:00:07Z</dcterms:created>
  <dc:creator>柴田宏</dc:creator>
  <dc:description/>
  <dc:language>en-US</dc:language>
  <cp:lastModifiedBy>宏 柴田</cp:lastModifiedBy>
  <dcterms:modified xsi:type="dcterms:W3CDTF">2021-02-05T06:38:55Z</dcterms:modified>
  <cp:revision>2</cp:revision>
  <dc:subject/>
  <dc:title>PowerPoint プレゼンテーション</dc:title>
</cp:coreProperties>
</file>