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3103225" cy="18540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434EE-0C24-49AD-9A2F-1004F099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01642-C1EF-43C8-83D5-4E3839A7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AC836-2390-4EC5-A0BC-26EB1A49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AD4FB-6541-49B0-9724-6D1487B3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2340D-4FFD-41BE-B57C-D8CAA3EF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03F1E-051E-43AE-B18C-51360A35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ED0E4-1463-4F1A-A5D2-01479362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B6259-AD21-4DCE-AA66-38485571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B1B01-5537-4CFB-9536-3B4CC0BB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58367-03C7-4E5F-ADBE-D88A4102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B890B-6960-4137-904F-0FA634CB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90483-43CD-444C-94C3-895F4794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1FF5D-BB29-4429-ABF0-62F1D312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8AC0C-41CF-43E7-A2A9-7EB912E5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CA158-0321-4D0D-91F8-24C3B01D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F38CE-C1A9-438E-B780-AEDB14E7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546AD-22B6-4D7F-A438-1FC2331F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DC172-E3C1-4554-A94B-6534DC42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F2BE8-F912-4B65-A668-44E345E0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9287F-6DA2-4878-BC76-1230162B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E8657-87DC-4B47-9278-45E1C7F0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B7481-C297-4715-91B9-7722A348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3E4FE-0E6F-4788-AC0C-67F58F1D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304B7-550A-40BA-A33E-16C65958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3395B-B4B3-483E-A00B-6082FA32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82E84-0B08-4396-AA61-0997C221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D4773-3D5B-4C29-82A8-BD2170D2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E9449-B2C1-493A-983C-5F130303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409DB-CA19-449F-8134-6C39C028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496F9-3CD3-49DB-88F3-E68A4111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485-AB56-45FC-BC4D-7BDAEA6B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6807E-43CC-48AA-ADEB-AA33340B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B310F-B1D6-4614-8B24-25D33BA6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737B4-6B0B-4D2D-B252-B505BC0F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205D0-0653-4077-85CB-2326369A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83304-76A2-43CF-8352-B8DDE8F4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AF9AD-E3E6-4715-B2C4-D5144F74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0798D-1F8C-4C85-A58B-E3B7E22A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8B601-B65F-4298-95CE-F8812BBA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AE5C5-5294-4A72-BD3A-EFBE9EAA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55F51-7278-46F7-BAFC-ABE39AEC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FDA-4088-4B6D-99DC-101B1BB3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63DC6-B309-4D9A-8358-C36BECCC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2E4CD-AFD7-44E1-9206-9F5B7610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E1A03-A4D1-497A-87AA-109DF377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626CC-27BB-487E-9E7A-94651519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A25D6-EE5B-45C0-95DD-AF52FB85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9B8-4928-480C-992D-ED0542A6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8A6-052D-458C-BB80-651E3A04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74E-1AE8-4811-B117-0ED55723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210-2AE5-43F1-8DFB-901E189B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7FD-A340-4A4F-A567-D1D8523A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8DD-0C35-4D36-AF79-131E9DEB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3B6-7FE1-43BF-8A93-D49B1362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BAA-F02E-4375-AB68-C1D0B761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7DB-77CA-42A0-A289-2EAE93F9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940-DD52-4ECC-AF9D-6E1513B1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6C06-95CD-4039-AF97-0A141395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313E-2740-4CA4-B28C-9C001926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1941-B04A-403A-9405-53A38B0D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FC7A-A0E7-4306-9A8C-C1098386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288F-3D26-43F9-ACD8-9D91FDF9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AF95-DBCD-408C-B257-CF53C682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CA66-612B-4ED6-9BCA-0AED8201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066B-0B7B-459B-B660-1BA1553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2F34-34CA-4184-9C88-D913DDD7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974C-A75C-46CB-92D8-F6910AF0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6ED6-D5B5-4BE5-ABAD-2C7973E9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CF69-ACC7-4239-87C5-0868B2EF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EE16-3642-4F0F-B4F5-5D1B36B8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0F25E-3196-4117-9BCD-E9A0E84A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ADB4-C2CB-42EC-93D4-3C2151FD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F21E4-F3BB-4E3D-9E6D-782AE8EF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AFA3B-D5CD-415E-96EF-47F82CA2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3B3B-A6E0-4BA8-8DCB-7D17C881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CFCE7-F12E-4C3C-BF18-FCF2187C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78D0-92FB-429B-8EC2-EBECAB23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4C1D-912D-4548-85D3-CDDD8442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1ADC2-72FD-4965-9240-8790D608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82B7B-D366-4F06-A46F-2CB03488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15E7-6D5E-418E-92FF-20F80822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57BF5-7CA9-4C69-B3E7-7395A083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BF397-B83D-423F-80B3-F9C66F4C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334C0-521C-401C-AC18-E03C88D7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D89BB-156C-4F06-9A1E-14C326D2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5F69D-97E7-46E4-BFE6-7D0CB4FE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7F632-DA35-43FD-A7F6-6B9715F3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81B72-9952-433B-8D4F-5223BE67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5965A-2FAD-4A6C-B06C-6F93DC2D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27ED3-FEC5-44A3-8021-46AC8F95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CF9F2-7491-4284-833C-853719A6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DA25B-825D-495D-87AB-FFB0FCC9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BC954-8CB2-4400-AE56-3C164170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6A7D4-6910-49AE-9FDE-64BA5635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F45C6-F011-4278-80BB-E32D2F00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33E4D-303A-4D0A-BC12-677D7E42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2A158-88E0-40A1-9A29-A1FE1AD1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A82B5-98B4-46CE-A41D-A6AD09AC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E28FC-52A3-46BF-9C68-BDA3A7FE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A8EDC-0EC0-4168-8772-B467B130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0CE1B-C632-4940-ADFF-7DD02E56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1F1CF-05D7-438C-8FB1-7F063209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B57C1-C11F-410E-8024-843019DB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FA141-A165-4753-B610-D050EBF5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AD68B-E21F-4F27-857C-F8E3A769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3D055-41BB-4233-A3E6-B960D4EE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CF3C1-F07D-4537-880E-58C6A3D1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F30BD-39A8-4E9A-9C35-DE1350C9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444DE-26FB-4A34-B13E-7F7A47D2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48E1C-AA6B-423D-A7EF-07653BDC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CDC22-DA2B-4D60-BEA9-FDED60FC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7A64B-5A2B-4004-B726-0536F9F8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59231-F924-47FE-B15E-0E7F2A18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CAFF1-34BE-41D8-9AD8-E99079AF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759EA-2E56-418C-9106-A6A45FFD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32396-516A-4DA6-9612-1E9D6398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977C3-FF91-4E7E-BF13-C21D661B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406E0-B97D-49A9-9D76-430C5831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FAF75-7B96-4493-B241-B4DB6C14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50481-E177-460F-847A-034A6558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A2435-F111-4EDA-AE3A-9360B439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FBA93-4633-44EC-AF2C-66FBE6BB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E4C8A-8A76-4D90-B70C-C844BB05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DABFC-2AFA-4C5A-BCA9-0C64E5FF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0DDD5-A1AC-4749-8885-B19D2CBD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2CB1A-0C87-46E2-8E47-47A06418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8DDF0-ACF3-4B98-8156-80E27D06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91545-B018-4FB7-BAEA-9B0DB265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7FB45-905B-4C08-8810-D3ED5442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EC4AE-1CAE-4FDD-84B7-6F284977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7E4E3-3486-434E-BAD5-BAB0CF1D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B3058-9D8A-4787-8E1B-A6AC9DFF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3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4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" name="グラフィックス 29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560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561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4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グラフィックス 29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dt" idx="25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6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27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2735B-1647-4CF5-AE03-DEE8E9C7D68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622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623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グラフィックス 29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dt" idx="28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29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30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960DD-A1A2-49F4-B56A-2BCE454B0C7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684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685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6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グラフィックス 29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dt" idx="31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32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33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02AD0-BA18-4C49-9E70-08D601DD241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62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63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グラフィックス 29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2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DE36B-045A-4C45-AC8C-B2359D237FD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3268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82800" indent="-3272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636560" indent="-32688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92480" indent="-3272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948040" indent="-3272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948040" indent="-327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948040" indent="-327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126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127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グラフィックス 29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553A6-EE6F-4CB2-ACFD-15219175EF8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188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189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グラフィックス 29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D5148-B6BC-43DE-87E1-BB80FCA3AFB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250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251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2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グラフィックス 29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2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1C536-2DDD-41D6-9579-4EF1787BA0F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312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313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グラフィックス 29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dt" idx="13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14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5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200C4-F968-435B-AA6C-2F3A6F1AF4F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374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375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グラフィックス 29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3C6D2-9B53-4ED9-AF4F-34DF81DC98C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436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437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グラフィックス 29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9CDF7-9E34-46CE-835B-FA002AF75E6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5" descr=""/>
          <p:cNvPicPr/>
          <p:nvPr/>
        </p:nvPicPr>
        <p:blipFill>
          <a:blip r:embed="rId2"/>
          <a:stretch/>
        </p:blipFill>
        <p:spPr>
          <a:xfrm>
            <a:off x="11582280" y="114728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1"/>
          <p:cNvSpPr/>
          <p:nvPr/>
        </p:nvSpPr>
        <p:spPr>
          <a:xfrm>
            <a:off x="4422600" y="169689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グループ化 8"/>
          <p:cNvGrpSpPr/>
          <p:nvPr/>
        </p:nvGrpSpPr>
        <p:grpSpPr>
          <a:xfrm>
            <a:off x="1792440" y="2381400"/>
            <a:ext cx="9913680" cy="13778280"/>
            <a:chOff x="1792440" y="2381400"/>
            <a:chExt cx="9913680" cy="13778280"/>
          </a:xfrm>
        </p:grpSpPr>
        <p:grpSp>
          <p:nvGrpSpPr>
            <p:cNvPr id="498" name="グループ化 9"/>
            <p:cNvGrpSpPr/>
            <p:nvPr/>
          </p:nvGrpSpPr>
          <p:grpSpPr>
            <a:xfrm>
              <a:off x="1792440" y="2381400"/>
              <a:ext cx="9913680" cy="13778280"/>
              <a:chOff x="1792440" y="2381400"/>
              <a:chExt cx="9913680" cy="13778280"/>
            </a:xfrm>
          </p:grpSpPr>
          <p:sp>
            <p:nvSpPr>
              <p:cNvPr id="499" name="Line 22"/>
              <p:cNvSpPr/>
              <p:nvPr/>
            </p:nvSpPr>
            <p:spPr>
              <a:xfrm>
                <a:off x="114861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Line 23"/>
              <p:cNvSpPr/>
              <p:nvPr/>
            </p:nvSpPr>
            <p:spPr>
              <a:xfrm>
                <a:off x="11376720" y="238140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Line 24"/>
              <p:cNvSpPr/>
              <p:nvPr/>
            </p:nvSpPr>
            <p:spPr>
              <a:xfrm>
                <a:off x="6766560" y="2396880"/>
                <a:ext cx="0" cy="13762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Line 25"/>
              <p:cNvSpPr/>
              <p:nvPr/>
            </p:nvSpPr>
            <p:spPr>
              <a:xfrm>
                <a:off x="2133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Line 26"/>
              <p:cNvSpPr/>
              <p:nvPr/>
            </p:nvSpPr>
            <p:spPr>
              <a:xfrm>
                <a:off x="2025360" y="2396880"/>
                <a:ext cx="0" cy="1374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Line 27"/>
              <p:cNvSpPr/>
              <p:nvPr/>
            </p:nvSpPr>
            <p:spPr>
              <a:xfrm flipH="1">
                <a:off x="1792440" y="2606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Line 28"/>
              <p:cNvSpPr/>
              <p:nvPr/>
            </p:nvSpPr>
            <p:spPr>
              <a:xfrm flipH="1">
                <a:off x="1792440" y="271404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Line 29"/>
              <p:cNvSpPr/>
              <p:nvPr/>
            </p:nvSpPr>
            <p:spPr>
              <a:xfrm flipH="1">
                <a:off x="1792440" y="9268200"/>
                <a:ext cx="9875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Line 30"/>
              <p:cNvSpPr/>
              <p:nvPr/>
            </p:nvSpPr>
            <p:spPr>
              <a:xfrm flipH="1">
                <a:off x="1792440" y="1582236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Line 31"/>
              <p:cNvSpPr/>
              <p:nvPr/>
            </p:nvSpPr>
            <p:spPr>
              <a:xfrm flipH="1">
                <a:off x="1792440" y="15927120"/>
                <a:ext cx="991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32"/>
              <p:cNvSpPr/>
              <p:nvPr/>
            </p:nvSpPr>
            <p:spPr>
              <a:xfrm rot="5400000">
                <a:off x="93240" y="4534200"/>
                <a:ext cx="13325040" cy="9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0" name="Rectangle 57"/>
            <p:cNvSpPr/>
            <p:nvPr/>
          </p:nvSpPr>
          <p:spPr>
            <a:xfrm rot="5400000">
              <a:off x="315720" y="4756680"/>
              <a:ext cx="12895920" cy="903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Rectangle 52"/>
            <p:cNvSpPr/>
            <p:nvPr/>
          </p:nvSpPr>
          <p:spPr>
            <a:xfrm rot="5400000">
              <a:off x="207000" y="4644720"/>
              <a:ext cx="13111920" cy="92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2" name="AutoShape 96"/>
          <p:cNvSpPr/>
          <p:nvPr/>
        </p:nvSpPr>
        <p:spPr>
          <a:xfrm>
            <a:off x="814320" y="55976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AutoShape 97"/>
          <p:cNvSpPr/>
          <p:nvPr/>
        </p:nvSpPr>
        <p:spPr>
          <a:xfrm>
            <a:off x="795240" y="46339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AutoShape 98"/>
          <p:cNvSpPr/>
          <p:nvPr/>
        </p:nvSpPr>
        <p:spPr>
          <a:xfrm>
            <a:off x="6613560" y="16324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AutoShape 99"/>
          <p:cNvSpPr/>
          <p:nvPr/>
        </p:nvSpPr>
        <p:spPr>
          <a:xfrm>
            <a:off x="6602400" y="1984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AutoShape 100"/>
          <p:cNvSpPr/>
          <p:nvPr/>
        </p:nvSpPr>
        <p:spPr>
          <a:xfrm>
            <a:off x="11687040" y="4633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グラフィックス 29" descr=""/>
          <p:cNvPicPr/>
          <p:nvPr/>
        </p:nvPicPr>
        <p:blipFill>
          <a:blip r:embed="rId3"/>
          <a:stretch/>
        </p:blipFill>
        <p:spPr>
          <a:xfrm>
            <a:off x="6018120" y="10666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22"/>
          </p:nvPr>
        </p:nvSpPr>
        <p:spPr>
          <a:xfrm>
            <a:off x="90000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3"/>
          </p:nvPr>
        </p:nvSpPr>
        <p:spPr>
          <a:xfrm>
            <a:off x="4340160" y="17184240"/>
            <a:ext cx="4422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4"/>
          </p:nvPr>
        </p:nvSpPr>
        <p:spPr>
          <a:xfrm>
            <a:off x="9253440" y="17184240"/>
            <a:ext cx="2949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063B0-06FC-45EA-82D2-7EEB8A62856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4T05:13:12Z</dcterms:created>
  <dc:creator>柴田宏</dc:creator>
  <dc:description/>
  <dc:language>en-US</dc:language>
  <cp:lastModifiedBy>宏 柴田</cp:lastModifiedBy>
  <dcterms:modified xsi:type="dcterms:W3CDTF">2021-02-05T06:38:48Z</dcterms:modified>
  <cp:revision>2</cp:revision>
  <dc:subject/>
  <dc:title>PowerPoint プレゼンテーション</dc:title>
</cp:coreProperties>
</file>